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2A2B-145A-453A-950C-07488B86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EC1-7ADF-4AB1-8049-94339B45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0E0-CF53-4BAA-9394-922D4277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CCA-3F40-4EC3-BC23-9B085685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407-12E8-4749-8DDF-5A72D6CA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931-2EDE-4E3D-8EF9-98362E7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B92-2DA5-43F6-90F1-9CD4419F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9A2-F235-41FE-AB4E-A9780853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6C1-AC97-46E2-A94D-771B3FCA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481-E9A1-4B27-9723-C1A2725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46D-87CE-4A23-A766-BC5F9B6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606-B5B2-4198-A535-306E2CEB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7313-D1B3-4409-951A-343A80CA3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w.programming.in.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24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thailandoi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200" y="1773360"/>
            <a:ext cx="90378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07:28Z</dcterms:created>
  <dc:creator>Administrator</dc:creator>
  <dc:description/>
  <dc:language>en-US</dc:language>
  <cp:lastModifiedBy>Administrator</cp:lastModifiedBy>
  <dcterms:modified xsi:type="dcterms:W3CDTF">2009-05-15T03:13:09Z</dcterms:modified>
  <cp:revision>1</cp:revision>
  <dc:subject/>
  <dc:title>www.programming.in.th</dc:title>
</cp:coreProperties>
</file>