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4B206-E736-409A-B28C-A525708917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2B7FB-764A-431C-A4B5-123DBA85A2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3480" y="39222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22FFF-79DA-4CB1-8D9B-5A379E0F58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5920" y="129528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4280" y="129528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5920" y="39222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4280" y="39222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333FA-5F28-4672-AE7E-676AB534D7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666520" y="502920"/>
            <a:ext cx="63248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FC1EA-90FE-4628-8F68-94A92A9033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3480" y="39222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3480" y="39222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5920" y="129528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4280" y="129528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5920" y="39222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4280" y="39222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8C0BF-AA87-41A3-9471-0991487C17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9E0F9-E85B-4280-9ACC-6DA8CBE07C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D79B4-A6DF-4B48-8DFA-49145E3D71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666520" y="502920"/>
            <a:ext cx="63248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EC75A-9AD6-48F6-A51A-0C74ECA9A7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651BC-5FCE-417E-B1E1-E9B3AA309D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3480" y="39222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03F44-508D-4434-A010-93B600D541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66520" y="463320"/>
            <a:ext cx="632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29528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E2844-E489-4BD1-9C3B-B0FA0B3203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405160" y="120600"/>
            <a:ext cx="6738840" cy="1055880"/>
          </a:xfrm>
          <a:prstGeom prst="rect">
            <a:avLst/>
          </a:prstGeom>
          <a:solidFill>
            <a:srgbClr val="e4c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80000"/>
            <a:ext cx="9144000" cy="405000"/>
          </a:xfrm>
          <a:prstGeom prst="rect">
            <a:avLst/>
          </a:prstGeom>
          <a:solidFill>
            <a:srgbClr val="6a9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5920"/>
          </a:xfrm>
          <a:prstGeom prst="rect">
            <a:avLst/>
          </a:prstGeom>
          <a:solidFill>
            <a:srgbClr val="3c230a"/>
          </a:solidFill>
          <a:ln w="9360">
            <a:solidFill>
              <a:srgbClr val="3c23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c230a"/>
              </a:solidFill>
              <a:latin typeface="Arial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0"/>
          <a:ext cx="1258920" cy="116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25892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"/>
          <p:cNvGraphicFramePr/>
          <p:nvPr/>
        </p:nvGraphicFramePr>
        <p:xfrm>
          <a:off x="1187280" y="0"/>
          <a:ext cx="1224000" cy="1173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87280" y="0"/>
                    <a:ext cx="122400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a9eb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4c5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c23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c23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c23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c23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c23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7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1"/>
          </p:nvPr>
        </p:nvSpPr>
        <p:spPr>
          <a:xfrm>
            <a:off x="5867280" y="648612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e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e7"/>
                </a:solidFill>
                <a:latin typeface="Times New Roman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09480" y="6489360"/>
            <a:ext cx="9907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C866-7C17-4DD1-9DF4-AF44C70F1E95}" type="slidenum">
              <a:rPr b="1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230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c230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e7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486080"/>
            <a:ext cx="7380360" cy="430200"/>
          </a:xfrm>
          <a:prstGeom prst="rect">
            <a:avLst/>
          </a:prstGeom>
          <a:solidFill>
            <a:srgbClr val="3c23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08720" y="1495440"/>
            <a:ext cx="1835280" cy="420840"/>
          </a:xfrm>
          <a:prstGeom prst="rect">
            <a:avLst/>
          </a:prstGeom>
          <a:solidFill>
            <a:srgbClr val="e4c5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c578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230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c230a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3c230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c230a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c230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c230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230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c230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c230a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230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c230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c23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230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c230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c23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230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c230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28522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e7"/>
                </a:solidFill>
                <a:latin typeface="Arial"/>
              </a:rPr>
              <a:t>C# IDE</a:t>
            </a:r>
            <a:endParaRPr b="1" lang="en-US" sz="4800" spc="-1" strike="noStrike">
              <a:solidFill>
                <a:srgbClr val="ffffe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068560" y="1447920"/>
            <a:ext cx="521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4c5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230a"/>
                </a:solidFill>
                <a:latin typeface="Arial"/>
              </a:rPr>
              <a:t>SharpDevelop</a:t>
            </a:r>
            <a:endParaRPr b="1" lang="en-US" sz="32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pic>
        <p:nvPicPr>
          <p:cNvPr id="91" name="" descr="Welcome to SharpDevelop, the open source IDE for .NET, supporting C#, VB.NET and Boo on .NET Framework 1.1, 2.0 and Mono"/>
          <p:cNvPicPr/>
          <p:nvPr/>
        </p:nvPicPr>
        <p:blipFill>
          <a:blip r:embed="rId1"/>
          <a:stretch/>
        </p:blipFill>
        <p:spPr>
          <a:xfrm>
            <a:off x="611280" y="990720"/>
            <a:ext cx="77058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230a"/>
                </a:solidFill>
                <a:latin typeface="Arial"/>
              </a:rPr>
              <a:t>C# Studio</a:t>
            </a:r>
            <a:endParaRPr b="1" lang="en-US" sz="32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0" t="0" r="0" b="24769"/>
          <a:stretch/>
        </p:blipFill>
        <p:spPr>
          <a:xfrm>
            <a:off x="468360" y="1197000"/>
            <a:ext cx="8280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230a"/>
                </a:solidFill>
                <a:latin typeface="Arial"/>
              </a:rPr>
              <a:t>MonoDevelop</a:t>
            </a:r>
            <a:endParaRPr b="1" lang="en-US" sz="32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pic>
        <p:nvPicPr>
          <p:cNvPr id="97" name="" descr="ss-main-window.png"/>
          <p:cNvPicPr/>
          <p:nvPr/>
        </p:nvPicPr>
        <p:blipFill>
          <a:blip r:embed="rId1"/>
          <a:stretch/>
        </p:blipFill>
        <p:spPr>
          <a:xfrm>
            <a:off x="539640" y="1127160"/>
            <a:ext cx="770436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230a"/>
                </a:solidFill>
                <a:latin typeface="Arial"/>
              </a:rPr>
              <a:t>XACC.IDE</a:t>
            </a:r>
            <a:endParaRPr b="1" lang="en-US" sz="32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717876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666520" y="502920"/>
            <a:ext cx="63248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230a"/>
                </a:solidFill>
                <a:latin typeface="Arial"/>
              </a:rPr>
              <a:t>WEB SITES</a:t>
            </a:r>
            <a:endParaRPr b="1" lang="en-US" sz="3200" spc="-1" strike="noStrike">
              <a:solidFill>
                <a:srgbClr val="3c230a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a9eb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http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:/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www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csharpfriends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com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a9eb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http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:/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csharp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-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source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net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a9eb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http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:/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thai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-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cs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spaces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live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com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a9eb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http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:/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msdn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microsoft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com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en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-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us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vcsharp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default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aspx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a9eb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http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:/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www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twoguru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com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playground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cs_tutorial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/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index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3c230a"/>
                </a:solidFill>
                <a:latin typeface="Verdana"/>
              </a:rPr>
              <a:t>htm</a:t>
            </a:r>
            <a:r>
              <a:rPr b="1" lang="th-TH" sz="2800" spc="-1" strike="noStrike">
                <a:solidFill>
                  <a:srgbClr val="3c230a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e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2:13:45Z</dcterms:created>
  <dc:creator>Com_ipst</dc:creator>
  <dc:description/>
  <dc:language>en-US</dc:language>
  <cp:lastModifiedBy>Com_ipst</cp:lastModifiedBy>
  <dcterms:modified xsi:type="dcterms:W3CDTF">2009-05-15T02:22:29Z</dcterms:modified>
  <cp:revision>3</cp:revision>
  <dc:subject/>
  <dc:title>C# IDE</dc:title>
</cp:coreProperties>
</file>