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EF6-4621-4F10-97CB-2F5218CD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6C9-4250-49B9-9F42-D1CF5C46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A56-FA4D-4ADE-AFA0-C62171BB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830-6FED-413A-AF29-78D4C6E8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A83-91A8-4147-B913-A31DA190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038-2780-469A-91DE-D421A2F4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EFE-D37A-411D-A889-782352F7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4F0-B889-406C-8AC1-F3D99B1D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BC6-73D3-4F12-A8F2-E0F143EA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CB5-26E1-40A4-B26F-6D98070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EE7-315B-416B-A261-CA0BD1CD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8D2-5672-4783-A4EB-5D23A4A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A947-B676-4E00-BA91-ACA0FCB37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programming.in.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thailandoi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200" y="1773360"/>
            <a:ext cx="90378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07:28Z</dcterms:created>
  <dc:creator>Administrator</dc:creator>
  <dc:description/>
  <dc:language>en-US</dc:language>
  <cp:lastModifiedBy>Administrator</cp:lastModifiedBy>
  <dcterms:modified xsi:type="dcterms:W3CDTF">2009-05-15T03:13:09Z</dcterms:modified>
  <cp:revision>1</cp:revision>
  <dc:subject/>
  <dc:title>www.programming.in.th</dc:title>
</cp:coreProperties>
</file>