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520" y="-182520"/>
            <a:ext cx="8393400" cy="15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d961"/>
              </a:solidFill>
              <a:latin typeface="EucrosiaUPC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520" y="1066680"/>
            <a:ext cx="8388360" cy="23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80520" y="3605400"/>
            <a:ext cx="8388360" cy="23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520" y="-182520"/>
            <a:ext cx="8393400" cy="15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d961"/>
              </a:solidFill>
              <a:latin typeface="EucrosiaUP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1066680"/>
            <a:ext cx="4093200" cy="23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8920" y="1066680"/>
            <a:ext cx="4093200" cy="23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605400"/>
            <a:ext cx="4093200" cy="23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8920" y="3605400"/>
            <a:ext cx="4093200" cy="23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-182520"/>
            <a:ext cx="8393400" cy="15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d961"/>
              </a:solidFill>
              <a:latin typeface="EucrosiaUP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520" y="1066680"/>
            <a:ext cx="2700720" cy="23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16600" y="1066680"/>
            <a:ext cx="2700720" cy="23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52680" y="1066680"/>
            <a:ext cx="2700720" cy="23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380520" y="3605400"/>
            <a:ext cx="2700720" cy="23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16600" y="3605400"/>
            <a:ext cx="2700720" cy="23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52680" y="3605400"/>
            <a:ext cx="2700720" cy="23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80520" y="-182520"/>
            <a:ext cx="8393400" cy="15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d961"/>
              </a:solidFill>
              <a:latin typeface="EucrosiaUPC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380520" y="1066680"/>
            <a:ext cx="8388360" cy="48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66"/>
              </a:solidFill>
              <a:latin typeface="EucrosiaUP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520" y="-182520"/>
            <a:ext cx="8393400" cy="15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d961"/>
              </a:solidFill>
              <a:latin typeface="EucrosiaUP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380520" y="1066680"/>
            <a:ext cx="8388360" cy="48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-182520"/>
            <a:ext cx="8393400" cy="15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d961"/>
              </a:solidFill>
              <a:latin typeface="EucrosiaUPC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80520" y="1066680"/>
            <a:ext cx="4093200" cy="48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8920" y="1066680"/>
            <a:ext cx="4093200" cy="48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-182520"/>
            <a:ext cx="8393400" cy="15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d961"/>
              </a:solidFill>
              <a:latin typeface="EucrosiaUP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380520" y="-182520"/>
            <a:ext cx="8393400" cy="730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66"/>
              </a:solidFill>
              <a:latin typeface="EucrosiaUP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-182520"/>
            <a:ext cx="8393400" cy="15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d961"/>
              </a:solidFill>
              <a:latin typeface="EucrosiaUP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520" y="1066680"/>
            <a:ext cx="4093200" cy="23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920" y="1066680"/>
            <a:ext cx="4093200" cy="48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380520" y="3605400"/>
            <a:ext cx="4093200" cy="23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520" y="-182520"/>
            <a:ext cx="8393400" cy="15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d961"/>
              </a:solidFill>
              <a:latin typeface="EucrosiaUP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380520" y="1066680"/>
            <a:ext cx="8388360" cy="48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66"/>
              </a:solidFill>
              <a:latin typeface="EucrosiaUPC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520" y="-182520"/>
            <a:ext cx="8393400" cy="15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d961"/>
              </a:solidFill>
              <a:latin typeface="EucrosiaUP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066680"/>
            <a:ext cx="4093200" cy="48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8920" y="1066680"/>
            <a:ext cx="4093200" cy="23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8920" y="3605400"/>
            <a:ext cx="4093200" cy="23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520" y="-182520"/>
            <a:ext cx="8393400" cy="15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d961"/>
              </a:solidFill>
              <a:latin typeface="EucrosiaUP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066680"/>
            <a:ext cx="4093200" cy="23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8920" y="1066680"/>
            <a:ext cx="4093200" cy="23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380520" y="3605400"/>
            <a:ext cx="8388360" cy="23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520" y="-182520"/>
            <a:ext cx="8393400" cy="15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d961"/>
              </a:solidFill>
              <a:latin typeface="EucrosiaUP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066680"/>
            <a:ext cx="8388360" cy="23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80520" y="3605400"/>
            <a:ext cx="8388360" cy="23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-182520"/>
            <a:ext cx="8393400" cy="15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d961"/>
              </a:solidFill>
              <a:latin typeface="EucrosiaUP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80520" y="1066680"/>
            <a:ext cx="4093200" cy="23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8920" y="1066680"/>
            <a:ext cx="4093200" cy="23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80520" y="3605400"/>
            <a:ext cx="4093200" cy="23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8920" y="3605400"/>
            <a:ext cx="4093200" cy="23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520" y="-182520"/>
            <a:ext cx="8393400" cy="15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d961"/>
              </a:solidFill>
              <a:latin typeface="EucrosiaUPC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520" y="1066680"/>
            <a:ext cx="2700720" cy="23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16600" y="1066680"/>
            <a:ext cx="2700720" cy="23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52680" y="1066680"/>
            <a:ext cx="2700720" cy="23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380520" y="3605400"/>
            <a:ext cx="2700720" cy="23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16600" y="3605400"/>
            <a:ext cx="2700720" cy="23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52680" y="3605400"/>
            <a:ext cx="2700720" cy="23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80520" y="-182520"/>
            <a:ext cx="8393400" cy="15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d961"/>
              </a:solidFill>
              <a:latin typeface="EucrosiaUPC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380520" y="1066680"/>
            <a:ext cx="8388360" cy="48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520" y="-182520"/>
            <a:ext cx="8393400" cy="15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d961"/>
              </a:solidFill>
              <a:latin typeface="EucrosiaUPC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80520" y="1066680"/>
            <a:ext cx="4093200" cy="48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8920" y="1066680"/>
            <a:ext cx="4093200" cy="48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-182520"/>
            <a:ext cx="8393400" cy="15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d961"/>
              </a:solidFill>
              <a:latin typeface="EucrosiaUPC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380520" y="-182520"/>
            <a:ext cx="8393400" cy="730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66"/>
              </a:solidFill>
              <a:latin typeface="EucrosiaUPC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-182520"/>
            <a:ext cx="8393400" cy="15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d961"/>
              </a:solidFill>
              <a:latin typeface="EucrosiaUP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1066680"/>
            <a:ext cx="4093200" cy="23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8920" y="1066680"/>
            <a:ext cx="4093200" cy="48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380520" y="3605400"/>
            <a:ext cx="4093200" cy="23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520" y="-182520"/>
            <a:ext cx="8393400" cy="15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d961"/>
              </a:solidFill>
              <a:latin typeface="EucrosiaUPC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520" y="1066680"/>
            <a:ext cx="4093200" cy="48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8920" y="1066680"/>
            <a:ext cx="4093200" cy="23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8920" y="3605400"/>
            <a:ext cx="4093200" cy="23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520" y="-182520"/>
            <a:ext cx="8393400" cy="15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d961"/>
              </a:solidFill>
              <a:latin typeface="EucrosiaUPC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520" y="1066680"/>
            <a:ext cx="4093200" cy="23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8920" y="1066680"/>
            <a:ext cx="4093200" cy="23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80520" y="3605400"/>
            <a:ext cx="8388360" cy="23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3060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-182520"/>
            <a:ext cx="8393400" cy="15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d961"/>
                </a:solidFill>
                <a:latin typeface="EucrosiaUPC"/>
              </a:rPr>
              <a:t>Click to edit the title text format</a:t>
            </a:r>
            <a:endParaRPr b="1" lang="en-US" sz="5400" spc="-1" strike="noStrike">
              <a:solidFill>
                <a:srgbClr val="ffd961"/>
              </a:solidFill>
              <a:latin typeface="EucrosiaUP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520" y="1066680"/>
            <a:ext cx="8388360" cy="48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499"/>
              </a:spcBef>
              <a:buClr>
                <a:srgbClr val="ffd961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EucrosiaUPC"/>
              </a:rPr>
              <a:t>Click to edit the outline text format</a:t>
            </a: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  <a:p>
            <a:pPr lvl="1" marL="1028880" indent="-455760">
              <a:lnSpc>
                <a:spcPct val="90000"/>
              </a:lnSpc>
              <a:spcBef>
                <a:spcPts val="499"/>
              </a:spcBef>
              <a:buClr>
                <a:srgbClr val="ffd961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EucrosiaUPC"/>
              </a:rPr>
              <a:t>Second Outline Level</a:t>
            </a: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  <a:p>
            <a:pPr lvl="2" marL="1428840" indent="-398520">
              <a:lnSpc>
                <a:spcPct val="90000"/>
              </a:lnSpc>
              <a:spcBef>
                <a:spcPts val="499"/>
              </a:spcBef>
              <a:buClr>
                <a:srgbClr val="ffd961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EucrosiaUPC"/>
              </a:rPr>
              <a:t>Third Outline Level</a:t>
            </a: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  <a:p>
            <a:pPr lvl="3" marL="1828800" indent="-398520">
              <a:lnSpc>
                <a:spcPct val="90000"/>
              </a:lnSpc>
              <a:spcBef>
                <a:spcPts val="499"/>
              </a:spcBef>
              <a:buClr>
                <a:srgbClr val="ffd961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EucrosiaUPC"/>
              </a:rPr>
              <a:t>Fourth Outline Level</a:t>
            </a: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  <a:p>
            <a:pPr lvl="4" marL="2227320" indent="-397080">
              <a:lnSpc>
                <a:spcPct val="90000"/>
              </a:lnSpc>
              <a:spcBef>
                <a:spcPts val="499"/>
              </a:spcBef>
              <a:buClr>
                <a:srgbClr val="ffd961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EucrosiaUPC"/>
              </a:rPr>
              <a:t>Fifth Outline Level</a:t>
            </a: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  <a:p>
            <a:pPr lvl="5" marL="2227320" indent="-397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EucrosiaUPC"/>
              </a:rPr>
              <a:t>Sixth Outline Level</a:t>
            </a: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  <a:p>
            <a:pPr lvl="6" marL="2227320" indent="-397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EucrosiaUPC"/>
              </a:rPr>
              <a:t>Seventh Outline Level</a:t>
            </a: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3060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47640" y="1740240"/>
            <a:ext cx="777240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d961"/>
                </a:solidFill>
                <a:latin typeface="EucrosiaUPC"/>
              </a:rPr>
              <a:t>Click to edit the title text format</a:t>
            </a:r>
            <a:endParaRPr b="1" lang="en-US" sz="6000" spc="-1" strike="noStrike">
              <a:solidFill>
                <a:srgbClr val="ffd961"/>
              </a:solidFill>
              <a:latin typeface="EucrosiaUPC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cc66"/>
                </a:solidFill>
                <a:latin typeface="EucrosiaUPC"/>
              </a:rPr>
              <a:t>Click to edit the outline text format</a:t>
            </a:r>
            <a:endParaRPr b="0" lang="en-US" sz="4400" spc="-1" strike="noStrike">
              <a:solidFill>
                <a:srgbClr val="66cc66"/>
              </a:solidFill>
              <a:latin typeface="EucrosiaUPC"/>
            </a:endParaRPr>
          </a:p>
          <a:p>
            <a:pPr lvl="1" marL="438840" indent="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EucrosiaUPC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EucrosiaUPC"/>
            </a:endParaRPr>
          </a:p>
          <a:p>
            <a:pPr lvl="2" marL="877680" indent="111240" algn="ctr">
              <a:lnSpc>
                <a:spcPct val="90000"/>
              </a:lnSpc>
              <a:spcBef>
                <a:spcPts val="400"/>
              </a:spcBef>
              <a:buClr>
                <a:srgbClr val="ffd961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EucrosiaUPC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EucrosiaUPC"/>
            </a:endParaRPr>
          </a:p>
          <a:p>
            <a:pPr lvl="3" marL="1281600" indent="91080" algn="ctr">
              <a:lnSpc>
                <a:spcPct val="90000"/>
              </a:lnSpc>
              <a:spcBef>
                <a:spcPts val="349"/>
              </a:spcBef>
              <a:buClr>
                <a:srgbClr val="ffd961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EucrosiaUPC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EucrosiaUPC"/>
            </a:endParaRPr>
          </a:p>
          <a:p>
            <a:pPr lvl="4" marL="1665720" indent="91080" algn="ctr">
              <a:lnSpc>
                <a:spcPct val="90000"/>
              </a:lnSpc>
              <a:spcBef>
                <a:spcPts val="349"/>
              </a:spcBef>
              <a:buClr>
                <a:srgbClr val="ffd961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EucrosiaUPC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EucrosiaUPC"/>
            </a:endParaRPr>
          </a:p>
          <a:p>
            <a:pPr lvl="5" marL="1665720" indent="91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EucrosiaUPC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EucrosiaUPC"/>
            </a:endParaRPr>
          </a:p>
          <a:p>
            <a:pPr lvl="6" marL="1665720" indent="91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EucrosiaUPC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EucrosiaUP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3060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47640" y="1451880"/>
            <a:ext cx="7772400" cy="231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5400" spc="-1" strike="noStrike">
                <a:solidFill>
                  <a:srgbClr val="ffd961"/>
                </a:solidFill>
                <a:latin typeface="EucrosiaUPC"/>
              </a:rPr>
              <a:t>อาเรย์หลายมิติ</a:t>
            </a:r>
            <a:br>
              <a:rPr sz="5400"/>
            </a:br>
            <a:r>
              <a:rPr b="1" lang="th-TH" sz="5400" spc="-1" strike="noStrike">
                <a:solidFill>
                  <a:srgbClr val="ffd961"/>
                </a:solidFill>
                <a:latin typeface="EucrosiaUPC"/>
              </a:rPr>
              <a:t>(Multi-Dimensional Arrays)</a:t>
            </a:r>
            <a:endParaRPr b="1" lang="en-US" sz="5400" spc="-1" strike="noStrike">
              <a:solidFill>
                <a:srgbClr val="ffd961"/>
              </a:solidFill>
              <a:latin typeface="EucrosiaUPC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647280" y="4871160"/>
            <a:ext cx="7861320" cy="6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400" spc="-1" strike="noStrike">
                <a:solidFill>
                  <a:srgbClr val="66cc66"/>
                </a:solidFill>
                <a:latin typeface="EucrosiaUPC"/>
              </a:rPr>
              <a:t>C# Programming</a:t>
            </a:r>
            <a:endParaRPr b="0" lang="en-US" sz="4400" spc="-1" strike="noStrike">
              <a:solidFill>
                <a:srgbClr val="66cc66"/>
              </a:solidFill>
              <a:latin typeface="EucrosiaUPC"/>
            </a:endParaRPr>
          </a:p>
        </p:txBody>
      </p:sp>
    </p:spTree>
  </p:cSld>
  <p:transition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3060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80520" y="187560"/>
            <a:ext cx="8393400" cy="8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d961"/>
                </a:solidFill>
                <a:latin typeface="EucrosiaUPC"/>
              </a:rPr>
              <a:t>แบบฝึกหัด</a:t>
            </a:r>
            <a:endParaRPr b="1" lang="en-US" sz="5400" spc="-1" strike="noStrike">
              <a:solidFill>
                <a:srgbClr val="ffd961"/>
              </a:solidFill>
              <a:latin typeface="EucrosiaUPC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80520" y="1066680"/>
            <a:ext cx="41180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451"/>
              </a:spcBef>
              <a:buClr>
                <a:srgbClr val="ffd961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EucrosiaUPC"/>
              </a:rPr>
              <a:t>พิจารณาอาเรย์</a:t>
            </a:r>
            <a:endParaRPr b="0" lang="en-US" sz="3600" spc="-1" strike="noStrike">
              <a:solidFill>
                <a:srgbClr val="ffffff"/>
              </a:solidFill>
              <a:latin typeface="EucrosiaUPC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190760" y="1066680"/>
            <a:ext cx="457812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451"/>
              </a:spcBef>
              <a:buClr>
                <a:srgbClr val="ffd961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EucrosiaUPC"/>
              </a:rPr>
              <a:t>จงหาค่าของนิพจน์ต่อไปนี้</a:t>
            </a:r>
            <a:endParaRPr b="0" lang="en-US" sz="3600" spc="-1" strike="noStrike">
              <a:solidFill>
                <a:srgbClr val="ffffff"/>
              </a:solidFill>
              <a:latin typeface="EucrosiaUPC"/>
            </a:endParaRPr>
          </a:p>
        </p:txBody>
      </p:sp>
      <p:sp>
        <p:nvSpPr>
          <p:cNvPr id="338" name=""/>
          <p:cNvSpPr/>
          <p:nvPr/>
        </p:nvSpPr>
        <p:spPr>
          <a:xfrm>
            <a:off x="1066680" y="1676520"/>
            <a:ext cx="3276720" cy="228600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100000">
                <a:srgbClr val="002f00"/>
              </a:gs>
            </a:gsLst>
            <a:lin ang="5400000"/>
          </a:gradFill>
          <a:ln w="28440">
            <a:solidFill>
              <a:srgbClr val="ffd961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int[,] B = {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{5,2,3,1,0}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{11,9,10,8,2}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{-1,20,4,33,12}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{10,11,8,9,7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}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39" name=""/>
          <p:cNvGraphicFramePr/>
          <p:nvPr/>
        </p:nvGraphicFramePr>
        <p:xfrm>
          <a:off x="4648320" y="1676520"/>
          <a:ext cx="4295520" cy="3186000"/>
        </p:xfrm>
        <a:graphic>
          <a:graphicData uri="http://schemas.openxmlformats.org/drawingml/2006/table">
            <a:tbl>
              <a:tblPr/>
              <a:tblGrid>
                <a:gridCol w="3606840"/>
                <a:gridCol w="68868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Courier New"/>
                          <a:ea typeface="EucrosiaUPC"/>
                        </a:rPr>
                        <a:t>B[2,2]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478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Courier New"/>
                          <a:ea typeface="EucrosiaUPC"/>
                        </a:rPr>
                        <a:t>B[3,0]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478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Courier New"/>
                          <a:ea typeface="EucrosiaUPC"/>
                        </a:rPr>
                        <a:t>B[1,3]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478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Courier New"/>
                          <a:ea typeface="EucrosiaUPC"/>
                        </a:rPr>
                        <a:t>B.Length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478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Courier New"/>
                          <a:ea typeface="EucrosiaUPC"/>
                        </a:rPr>
                        <a:t>B.GetLength(0)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478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Courier New"/>
                          <a:ea typeface="EucrosiaUPC"/>
                        </a:rPr>
                        <a:t>B.GetLength(1)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478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</a:tbl>
          </a:graphicData>
        </a:graphic>
      </p:graphicFrame>
    </p:spTree>
  </p:cSld>
  <p:transition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3060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80520" y="-182520"/>
            <a:ext cx="8393400" cy="15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d961"/>
                </a:solidFill>
                <a:latin typeface="EucrosiaUPC"/>
              </a:rPr>
              <a:t>การประยุกต์ใช้อาเรย์สองมิติ</a:t>
            </a:r>
            <a:r>
              <a:rPr b="1" lang="en-US" sz="5400" spc="-1" strike="noStrike">
                <a:solidFill>
                  <a:srgbClr val="ffd961"/>
                </a:solidFill>
                <a:latin typeface="EucrosiaUPC"/>
              </a:rPr>
              <a:t>: </a:t>
            </a:r>
            <a:r>
              <a:rPr b="1" i="1" lang="en-US" sz="5400" spc="-1" strike="noStrike">
                <a:solidFill>
                  <a:srgbClr val="66cc66"/>
                </a:solidFill>
                <a:latin typeface="EucrosiaUPC"/>
              </a:rPr>
              <a:t>เมตริกซ์</a:t>
            </a:r>
            <a:endParaRPr b="1" lang="en-US" sz="5400" spc="-1" strike="noStrike">
              <a:solidFill>
                <a:srgbClr val="ffd961"/>
              </a:solidFill>
              <a:latin typeface="EucrosiaUPC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388360" cy="22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451"/>
              </a:spcBef>
              <a:buClr>
                <a:srgbClr val="ffd961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EucrosiaUPC"/>
              </a:rPr>
              <a:t>กำหนดให้</a:t>
            </a:r>
            <a:r>
              <a:rPr b="0" i="1" lang="en-US" sz="3600" spc="-1" strike="noStrike">
                <a:solidFill>
                  <a:srgbClr val="ffffff"/>
                </a:solidFill>
                <a:latin typeface="EucrosiaUPC"/>
              </a:rPr>
              <a:t> </a:t>
            </a:r>
            <a:r>
              <a:rPr b="0" i="1" lang="en-US" sz="3600" spc="-1" strike="noStrike">
                <a:solidFill>
                  <a:srgbClr val="ffffff"/>
                </a:solidFill>
                <a:latin typeface="EucrosiaUPC"/>
              </a:rPr>
              <a:t>A</a:t>
            </a:r>
            <a:r>
              <a:rPr b="0" lang="en-US" sz="3600" spc="-1" strike="noStrike">
                <a:solidFill>
                  <a:srgbClr val="ffffff"/>
                </a:solidFill>
                <a:latin typeface="EucrosiaUPC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EucrosiaUPC"/>
              </a:rPr>
              <a:t>และ </a:t>
            </a:r>
            <a:r>
              <a:rPr b="0" i="1" lang="en-US" sz="3600" spc="-1" strike="noStrike">
                <a:solidFill>
                  <a:srgbClr val="ffffff"/>
                </a:solidFill>
                <a:latin typeface="EucrosiaUPC"/>
              </a:rPr>
              <a:t>B</a:t>
            </a:r>
            <a:r>
              <a:rPr b="0" lang="en-US" sz="3600" spc="-1" strike="noStrike">
                <a:solidFill>
                  <a:srgbClr val="ffffff"/>
                </a:solidFill>
                <a:latin typeface="EucrosiaUPC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EucrosiaUPC"/>
              </a:rPr>
              <a:t>เป็นเมตริกซ์ขนาด </a:t>
            </a:r>
            <a:r>
              <a:rPr b="0" lang="en-US" sz="3600" spc="-1" strike="noStrike">
                <a:solidFill>
                  <a:srgbClr val="ffffff"/>
                </a:solidFill>
                <a:latin typeface="EucrosiaUPC"/>
              </a:rPr>
              <a:t>3x3</a:t>
            </a:r>
            <a:endParaRPr b="0" lang="en-US" sz="3600" spc="-1" strike="noStrike">
              <a:solidFill>
                <a:srgbClr val="ffffff"/>
              </a:solidFill>
              <a:latin typeface="EucrosiaUPC"/>
            </a:endParaRPr>
          </a:p>
          <a:p>
            <a:pPr marL="571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EucrosiaUPC"/>
            </a:endParaRPr>
          </a:p>
          <a:p>
            <a:pPr marL="571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EucrosiaUPC"/>
            </a:endParaRPr>
          </a:p>
          <a:p>
            <a:pPr marL="571680" indent="-571680">
              <a:lnSpc>
                <a:spcPct val="90000"/>
              </a:lnSpc>
              <a:spcBef>
                <a:spcPts val="451"/>
              </a:spcBef>
              <a:buClr>
                <a:srgbClr val="ffd961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EucrosiaUPC"/>
              </a:rPr>
              <a:t>คำนวน </a:t>
            </a:r>
            <a:r>
              <a:rPr b="0" i="1" lang="en-US" sz="3600" spc="-1" strike="noStrike">
                <a:solidFill>
                  <a:srgbClr val="ffffff"/>
                </a:solidFill>
                <a:latin typeface="EucrosiaUPC"/>
              </a:rPr>
              <a:t>A</a:t>
            </a:r>
            <a:r>
              <a:rPr b="0" lang="en-US" sz="3600" spc="-1" strike="noStrike">
                <a:solidFill>
                  <a:srgbClr val="ffffff"/>
                </a:solidFill>
                <a:latin typeface="EucrosiaUPC"/>
              </a:rPr>
              <a:t>+</a:t>
            </a:r>
            <a:r>
              <a:rPr b="0" i="1" lang="en-US" sz="3600" spc="-1" strike="noStrike">
                <a:solidFill>
                  <a:srgbClr val="ffffff"/>
                </a:solidFill>
                <a:latin typeface="EucrosiaUPC"/>
              </a:rPr>
              <a:t>B</a:t>
            </a:r>
            <a:endParaRPr b="0" lang="en-US" sz="3600" spc="-1" strike="noStrike">
              <a:solidFill>
                <a:srgbClr val="ffffff"/>
              </a:solidFill>
              <a:latin typeface="EucrosiaUPC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2" name=""/>
              <p:cNvSpPr txBox="1"/>
              <p:nvPr/>
            </p:nvSpPr>
            <p:spPr>
              <a:xfrm>
                <a:off x="2060640" y="1447920"/>
                <a:ext cx="1492200" cy="105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</m:mr>
                          <m:mr>
                            <m:e>
                              <m:r>
                                <m:t xml:space="preserve">9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2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5</m:t>
                              </m:r>
                            </m:e>
                            <m:e>
                              <m:r>
                                <m:t xml:space="preserve">4</m:t>
                              </m:r>
                            </m:e>
                            <m:e>
                              <m:r>
                                <m:t xml:space="preserve">6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3" name=""/>
              <p:cNvSpPr txBox="1"/>
              <p:nvPr/>
            </p:nvSpPr>
            <p:spPr>
              <a:xfrm>
                <a:off x="4470480" y="1447920"/>
                <a:ext cx="1396800" cy="105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4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3</m:t>
                              </m:r>
                            </m:e>
                          </m:mr>
                          <m:mr>
                            <m:e>
                              <m:r>
                                <m:t xml:space="preserve">5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6</m:t>
                              </m:r>
                            </m:e>
                          </m:mr>
                          <m:mr>
                            <m:e>
                              <m:r>
                                <m:t xml:space="preserve">6</m:t>
                              </m:r>
                            </m:e>
                            <m:e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9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344" name=""/>
          <p:cNvGrpSpPr/>
          <p:nvPr/>
        </p:nvGrpSpPr>
        <p:grpSpPr>
          <a:xfrm>
            <a:off x="1295280" y="3048120"/>
            <a:ext cx="5867640" cy="3657600"/>
            <a:chOff x="1295280" y="3048120"/>
            <a:chExt cx="5867640" cy="3657600"/>
          </a:xfrm>
        </p:grpSpPr>
        <p:sp>
          <p:nvSpPr>
            <p:cNvPr id="345" name=""/>
            <p:cNvSpPr/>
            <p:nvPr/>
          </p:nvSpPr>
          <p:spPr>
            <a:xfrm>
              <a:off x="1295280" y="3048120"/>
              <a:ext cx="5867640" cy="3657600"/>
            </a:xfrm>
            <a:prstGeom prst="rect">
              <a:avLst/>
            </a:prstGeom>
            <a:gradFill rotWithShape="0">
              <a:gsLst>
                <a:gs pos="0">
                  <a:srgbClr val="005500"/>
                </a:gs>
                <a:gs pos="100000">
                  <a:srgbClr val="002700"/>
                </a:gs>
              </a:gsLst>
              <a:lin ang="5400000"/>
            </a:gradFill>
            <a:ln w="28440">
              <a:solidFill>
                <a:srgbClr val="ffd961"/>
              </a:solidFill>
              <a:miter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Courier New"/>
                </a:rPr>
                <a:t>using System;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Courier New"/>
                </a:rPr>
                <a:t>class Matrix {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Courier New"/>
                </a:rPr>
                <a:t>   </a:t>
              </a:r>
              <a:r>
                <a:rPr b="1" lang="en-US" sz="1400" spc="-1" strike="noStrike">
                  <a:solidFill>
                    <a:srgbClr val="ffffff"/>
                  </a:solidFill>
                  <a:latin typeface="Courier New"/>
                </a:rPr>
                <a:t>public static void Main() {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Courier New"/>
                </a:rPr>
                <a:t>      </a:t>
              </a:r>
              <a:r>
                <a:rPr b="1" lang="en-US" sz="1400" spc="-1" strike="noStrike">
                  <a:solidFill>
                    <a:srgbClr val="ffffff"/>
                  </a:solidFill>
                  <a:latin typeface="Courier New"/>
                </a:rPr>
                <a:t>int [,] A =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Courier New"/>
                </a:rPr>
                <a:t>      </a:t>
              </a:r>
              <a:r>
                <a:rPr b="1" lang="en-US" sz="1400" spc="-1" strike="noStrike">
                  <a:solidFill>
                    <a:srgbClr val="ffffff"/>
                  </a:solidFill>
                  <a:latin typeface="Courier New"/>
                </a:rPr>
                <a:t>int [,] B =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Courier New"/>
                </a:rPr>
                <a:t>      </a:t>
              </a:r>
              <a:r>
                <a:rPr b="1" lang="en-US" sz="1400" spc="-1" strike="noStrike">
                  <a:solidFill>
                    <a:srgbClr val="ffffff"/>
                  </a:solidFill>
                  <a:latin typeface="Courier New"/>
                </a:rPr>
                <a:t>int i,j;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Courier New"/>
                </a:rPr>
                <a:t>      </a:t>
              </a:r>
              <a:r>
                <a:rPr b="1" lang="en-US" sz="1400" spc="-1" strike="noStrike">
                  <a:solidFill>
                    <a:srgbClr val="ffffff"/>
                  </a:solidFill>
                  <a:latin typeface="Courier New"/>
                </a:rPr>
                <a:t>for (i = 0; i &lt; 3; i++) {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Courier New"/>
                </a:rPr>
                <a:t>         </a:t>
              </a:r>
              <a:r>
                <a:rPr b="1" lang="en-US" sz="1400" spc="-1" strike="noStrike">
                  <a:solidFill>
                    <a:srgbClr val="ffffff"/>
                  </a:solidFill>
                  <a:latin typeface="Courier New"/>
                </a:rPr>
                <a:t>for (j = 0; j &lt; 3; j++) {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Courier New"/>
                </a:rPr>
                <a:t>            </a:t>
              </a:r>
              <a:r>
                <a:rPr b="1" lang="en-US" sz="1400" spc="-1" strike="noStrike">
                  <a:solidFill>
                    <a:srgbClr val="ffffff"/>
                  </a:solidFill>
                  <a:latin typeface="Courier New"/>
                </a:rPr>
                <a:t>Console.Write("{0,4}", A[i,j]+B[i,j]);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Courier New"/>
                </a:rPr>
                <a:t>         </a:t>
              </a:r>
              <a:r>
                <a:rPr b="1" lang="en-US" sz="1400" spc="-1" strike="noStrike">
                  <a:solidFill>
                    <a:srgbClr val="ffffff"/>
                  </a:solidFill>
                  <a:latin typeface="Courier New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Courier New"/>
                </a:rPr>
                <a:t>         </a:t>
              </a:r>
              <a:r>
                <a:rPr b="1" lang="en-US" sz="1400" spc="-1" strike="noStrike">
                  <a:solidFill>
                    <a:srgbClr val="ffffff"/>
                  </a:solidFill>
                  <a:latin typeface="Courier New"/>
                </a:rPr>
                <a:t>Console.WriteLine();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Courier New"/>
                </a:rPr>
                <a:t>      </a:t>
              </a:r>
              <a:r>
                <a:rPr b="1" lang="en-US" sz="1400" spc="-1" strike="noStrike">
                  <a:solidFill>
                    <a:srgbClr val="ffffff"/>
                  </a:solidFill>
                  <a:latin typeface="Courier New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Courier New"/>
                </a:rPr>
                <a:t>   </a:t>
              </a:r>
              <a:r>
                <a:rPr b="1" lang="en-US" sz="1400" spc="-1" strike="noStrike">
                  <a:solidFill>
                    <a:srgbClr val="ffffff"/>
                  </a:solidFill>
                  <a:latin typeface="Courier New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Courier New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3276720" y="3733920"/>
              <a:ext cx="1447560" cy="304920"/>
            </a:xfrm>
            <a:prstGeom prst="roundRect">
              <a:avLst>
                <a:gd name="adj" fmla="val 16667"/>
              </a:avLst>
            </a:prstGeom>
            <a:solidFill>
              <a:srgbClr val="fa7438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3886200" y="3778200"/>
              <a:ext cx="228600" cy="228600"/>
            </a:xfrm>
            <a:prstGeom prst="ellipse">
              <a:avLst/>
            </a:prstGeom>
            <a:solidFill>
              <a:srgbClr val="66cc66">
                <a:alpha val="3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3276720" y="4114800"/>
              <a:ext cx="1447560" cy="304920"/>
            </a:xfrm>
            <a:prstGeom prst="roundRect">
              <a:avLst>
                <a:gd name="adj" fmla="val 16667"/>
              </a:avLst>
            </a:prstGeom>
            <a:solidFill>
              <a:srgbClr val="66cc6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886200" y="4159440"/>
              <a:ext cx="228600" cy="228600"/>
            </a:xfrm>
            <a:prstGeom prst="ellipse">
              <a:avLst/>
            </a:prstGeom>
            <a:solidFill>
              <a:srgbClr val="6699ff">
                <a:alpha val="3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3060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80520" y="-182520"/>
            <a:ext cx="8393400" cy="15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d961"/>
                </a:solidFill>
                <a:latin typeface="EucrosiaUPC"/>
              </a:rPr>
              <a:t>เมท็อดที่สำคัญสำหรับเมตริกซ์</a:t>
            </a:r>
            <a:endParaRPr b="1" lang="en-US" sz="5400" spc="-1" strike="noStrike">
              <a:solidFill>
                <a:srgbClr val="ffd961"/>
              </a:solidFill>
              <a:latin typeface="EucrosiaUPC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8388360" cy="12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499"/>
              </a:spcBef>
              <a:buClr>
                <a:srgbClr val="ffd961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66cc66"/>
                </a:solidFill>
                <a:latin typeface="Courier New"/>
              </a:rPr>
              <a:t>ReadMatrix</a:t>
            </a:r>
            <a:r>
              <a:rPr b="1" lang="en-US" sz="4000" spc="-1" strike="noStrike">
                <a:solidFill>
                  <a:srgbClr val="66cc66"/>
                </a:solidFill>
                <a:latin typeface="Courier New"/>
              </a:rPr>
              <a:t>()</a:t>
            </a: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  <a:p>
            <a:pPr marL="571680" indent="-571680">
              <a:lnSpc>
                <a:spcPct val="90000"/>
              </a:lnSpc>
              <a:spcBef>
                <a:spcPts val="499"/>
              </a:spcBef>
              <a:buClr>
                <a:srgbClr val="ffd961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66cc66"/>
                </a:solidFill>
                <a:latin typeface="Courier New"/>
              </a:rPr>
              <a:t>ShowMatrix</a:t>
            </a:r>
            <a:r>
              <a:rPr b="1" lang="en-US" sz="4000" spc="-1" strike="noStrike">
                <a:solidFill>
                  <a:srgbClr val="66cc66"/>
                </a:solidFill>
                <a:latin typeface="Courier New"/>
              </a:rPr>
              <a:t>()</a:t>
            </a: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</p:txBody>
      </p:sp>
    </p:spTree>
  </p:cSld>
  <p:transition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3060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80520" y="187560"/>
            <a:ext cx="8393400" cy="8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d961"/>
                </a:solidFill>
                <a:latin typeface="EucrosiaUPC"/>
              </a:rPr>
              <a:t>เมท็อด </a:t>
            </a:r>
            <a:r>
              <a:rPr b="0" i="1" lang="en-US" sz="5400" spc="-1" strike="noStrike">
                <a:solidFill>
                  <a:srgbClr val="66cc66"/>
                </a:solidFill>
                <a:latin typeface="Courier New"/>
              </a:rPr>
              <a:t>ReadMatrix</a:t>
            </a:r>
            <a:r>
              <a:rPr b="0" lang="en-US" sz="5400" spc="-1" strike="noStrike">
                <a:solidFill>
                  <a:srgbClr val="66cc66"/>
                </a:solidFill>
                <a:latin typeface="Courier New"/>
              </a:rPr>
              <a:t>()</a:t>
            </a:r>
            <a:endParaRPr b="1" lang="en-US" sz="5400" spc="-1" strike="noStrike">
              <a:solidFill>
                <a:srgbClr val="ffd961"/>
              </a:solidFill>
              <a:latin typeface="EucrosiaUPC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8388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400"/>
              </a:spcBef>
              <a:buClr>
                <a:srgbClr val="ffd961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EucrosiaUPC"/>
              </a:rPr>
              <a:t>รับค่าพารามิเตอร์สองค่าคือ</a:t>
            </a:r>
            <a:endParaRPr b="0" lang="en-US" sz="3200" spc="-1" strike="noStrike">
              <a:solidFill>
                <a:srgbClr val="ffffff"/>
              </a:solidFill>
              <a:latin typeface="EucrosiaUPC"/>
            </a:endParaRPr>
          </a:p>
          <a:p>
            <a:pPr lvl="1" marL="1028880" indent="-455760">
              <a:lnSpc>
                <a:spcPct val="90000"/>
              </a:lnSpc>
              <a:spcBef>
                <a:spcPts val="349"/>
              </a:spcBef>
              <a:buClr>
                <a:srgbClr val="ffd961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EucrosiaUPC"/>
              </a:rPr>
              <a:t>จำนวนแถว</a:t>
            </a:r>
            <a:r>
              <a:rPr b="0" lang="en-US" sz="2800" spc="-1" strike="noStrike">
                <a:solidFill>
                  <a:srgbClr val="ffffff"/>
                </a:solidFill>
                <a:latin typeface="EucrosiaUPC"/>
              </a:rPr>
              <a:t>, </a:t>
            </a:r>
            <a:r>
              <a:rPr b="1" i="1" lang="en-US" sz="2800" spc="-1" strike="noStrike">
                <a:solidFill>
                  <a:srgbClr val="66cc66"/>
                </a:solidFill>
                <a:latin typeface="Courier New"/>
              </a:rPr>
              <a:t>nr</a:t>
            </a:r>
            <a:endParaRPr b="0" lang="en-US" sz="2800" spc="-1" strike="noStrike">
              <a:solidFill>
                <a:srgbClr val="ffffff"/>
              </a:solidFill>
              <a:latin typeface="EucrosiaUPC"/>
            </a:endParaRPr>
          </a:p>
          <a:p>
            <a:pPr lvl="1" marL="1028880" indent="-455760">
              <a:lnSpc>
                <a:spcPct val="90000"/>
              </a:lnSpc>
              <a:spcBef>
                <a:spcPts val="349"/>
              </a:spcBef>
              <a:buClr>
                <a:srgbClr val="ffd961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EucrosiaUPC"/>
              </a:rPr>
              <a:t>จำนวนหลัก</a:t>
            </a:r>
            <a:r>
              <a:rPr b="0" lang="en-US" sz="2800" spc="-1" strike="noStrike">
                <a:solidFill>
                  <a:srgbClr val="ffffff"/>
                </a:solidFill>
                <a:latin typeface="EucrosiaUPC"/>
              </a:rPr>
              <a:t>, </a:t>
            </a:r>
            <a:r>
              <a:rPr b="1" i="1" lang="en-US" sz="2800" spc="-1" strike="noStrike">
                <a:solidFill>
                  <a:srgbClr val="66cc66"/>
                </a:solidFill>
                <a:latin typeface="Courier New"/>
              </a:rPr>
              <a:t>nc</a:t>
            </a:r>
            <a:endParaRPr b="0" lang="en-US" sz="2800" spc="-1" strike="noStrike">
              <a:solidFill>
                <a:srgbClr val="ffffff"/>
              </a:solidFill>
              <a:latin typeface="EucrosiaUPC"/>
            </a:endParaRPr>
          </a:p>
          <a:p>
            <a:pPr marL="571680" indent="-571680">
              <a:lnSpc>
                <a:spcPct val="90000"/>
              </a:lnSpc>
              <a:spcBef>
                <a:spcPts val="400"/>
              </a:spcBef>
              <a:buClr>
                <a:srgbClr val="ffd961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EucrosiaUPC"/>
              </a:rPr>
              <a:t>ทำหน้าที่อ่านค่าจำนวนเต็ม </a:t>
            </a:r>
            <a:r>
              <a:rPr b="1" i="1" lang="en-US" sz="2800" spc="-1" strike="noStrike">
                <a:solidFill>
                  <a:srgbClr val="66cc66"/>
                </a:solidFill>
                <a:latin typeface="Courier New"/>
              </a:rPr>
              <a:t>nr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1" i="1" lang="en-US" sz="2800" spc="-1" strike="noStrike">
                <a:solidFill>
                  <a:srgbClr val="66cc66"/>
                </a:solidFill>
                <a:latin typeface="Courier New"/>
              </a:rPr>
              <a:t>nc</a:t>
            </a:r>
            <a:r>
              <a:rPr b="0" lang="en-US" sz="3200" spc="-1" strike="noStrike">
                <a:solidFill>
                  <a:srgbClr val="ffffff"/>
                </a:solidFill>
                <a:latin typeface="EucrosiaUPC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EucrosiaUPC"/>
              </a:rPr>
              <a:t>ค่าจากผู้ใช้</a:t>
            </a:r>
            <a:endParaRPr b="0" lang="en-US" sz="3200" spc="-1" strike="noStrike">
              <a:solidFill>
                <a:srgbClr val="ffffff"/>
              </a:solidFill>
              <a:latin typeface="EucrosiaUPC"/>
            </a:endParaRPr>
          </a:p>
          <a:p>
            <a:pPr marL="571680" indent="-571680">
              <a:lnSpc>
                <a:spcPct val="90000"/>
              </a:lnSpc>
              <a:spcBef>
                <a:spcPts val="400"/>
              </a:spcBef>
              <a:buClr>
                <a:srgbClr val="ffd961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EucrosiaUPC"/>
              </a:rPr>
              <a:t>คืนค่าเป็นอาเรย์สองมิติซึ่งแทนเมตริกซ์</a:t>
            </a:r>
            <a:endParaRPr b="0" lang="en-US" sz="3200" spc="-1" strike="noStrike">
              <a:solidFill>
                <a:srgbClr val="ffffff"/>
              </a:solidFill>
              <a:latin typeface="EucrosiaUPC"/>
            </a:endParaRPr>
          </a:p>
        </p:txBody>
      </p:sp>
      <p:sp>
        <p:nvSpPr>
          <p:cNvPr id="354" name=""/>
          <p:cNvSpPr/>
          <p:nvPr/>
        </p:nvSpPr>
        <p:spPr>
          <a:xfrm>
            <a:off x="990720" y="3352680"/>
            <a:ext cx="7467480" cy="3048120"/>
          </a:xfrm>
          <a:prstGeom prst="rect">
            <a:avLst/>
          </a:prstGeom>
          <a:gradFill rotWithShape="0">
            <a:gsLst>
              <a:gs pos="0">
                <a:srgbClr val="005500"/>
              </a:gs>
              <a:gs pos="100000">
                <a:srgbClr val="002700"/>
              </a:gs>
            </a:gsLst>
            <a:lin ang="5400000"/>
          </a:gradFill>
          <a:ln w="28440">
            <a:solidFill>
              <a:srgbClr val="ffd961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tatic int[,] ReadMatrix(int nr, int nc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int[,] m = new int[nr,nc]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or (int i = 0; i &lt; nr; i++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or (int j = 0; j &lt; nc; j++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nsole.Write("Element [{0},{1}]: ", i+1, j+1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[i,j] = int.Parse(Console.ReadLine(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return m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29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3060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80520" y="187560"/>
            <a:ext cx="8393400" cy="8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d961"/>
                </a:solidFill>
                <a:latin typeface="EucrosiaUPC"/>
              </a:rPr>
              <a:t>เมท็อด </a:t>
            </a:r>
            <a:r>
              <a:rPr b="0" i="1" lang="en-US" sz="5400" spc="-1" strike="noStrike">
                <a:solidFill>
                  <a:srgbClr val="66cc66"/>
                </a:solidFill>
                <a:latin typeface="Courier New"/>
              </a:rPr>
              <a:t>ShowMatrix</a:t>
            </a:r>
            <a:r>
              <a:rPr b="0" lang="en-US" sz="5400" spc="-1" strike="noStrike">
                <a:solidFill>
                  <a:srgbClr val="66cc66"/>
                </a:solidFill>
                <a:latin typeface="Courier New"/>
              </a:rPr>
              <a:t>()</a:t>
            </a:r>
            <a:endParaRPr b="1" lang="en-US" sz="5400" spc="-1" strike="noStrike">
              <a:solidFill>
                <a:srgbClr val="ffd961"/>
              </a:solidFill>
              <a:latin typeface="EucrosiaUPC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8388360" cy="19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65920" indent="-565920">
              <a:lnSpc>
                <a:spcPct val="90000"/>
              </a:lnSpc>
              <a:spcBef>
                <a:spcPts val="400"/>
              </a:spcBef>
              <a:buClr>
                <a:srgbClr val="ffd961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EucrosiaUPC"/>
              </a:rPr>
              <a:t>รับค่าพารามิเตอร์เป็นอาเรย์สองมิติซึ่งแทนเมตริกซ์</a:t>
            </a:r>
            <a:endParaRPr b="0" lang="en-US" sz="3200" spc="-1" strike="noStrike">
              <a:solidFill>
                <a:srgbClr val="ffffff"/>
              </a:solidFill>
              <a:latin typeface="EucrosiaUPC"/>
            </a:endParaRPr>
          </a:p>
          <a:p>
            <a:pPr marL="565920" indent="-565920">
              <a:lnSpc>
                <a:spcPct val="90000"/>
              </a:lnSpc>
              <a:spcBef>
                <a:spcPts val="400"/>
              </a:spcBef>
              <a:buClr>
                <a:srgbClr val="ffd961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EucrosiaUPC"/>
              </a:rPr>
              <a:t>แสดงข้อมูลในเมตริกซ์ออกหน้าจอ</a:t>
            </a:r>
            <a:endParaRPr b="0" lang="en-US" sz="3200" spc="-1" strike="noStrike">
              <a:solidFill>
                <a:srgbClr val="ffffff"/>
              </a:solidFill>
              <a:latin typeface="EucrosiaUPC"/>
            </a:endParaRPr>
          </a:p>
          <a:p>
            <a:pPr marL="565920" indent="-565920">
              <a:lnSpc>
                <a:spcPct val="90000"/>
              </a:lnSpc>
              <a:spcBef>
                <a:spcPts val="400"/>
              </a:spcBef>
              <a:buClr>
                <a:srgbClr val="ffd961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EucrosiaUPC"/>
              </a:rPr>
              <a:t>ไม่มีการคืนค่าใดใด</a:t>
            </a:r>
            <a:endParaRPr b="0" lang="en-US" sz="3200" spc="-1" strike="noStrike">
              <a:solidFill>
                <a:srgbClr val="ffffff"/>
              </a:solidFill>
              <a:latin typeface="EucrosiaUPC"/>
            </a:endParaRPr>
          </a:p>
        </p:txBody>
      </p:sp>
      <p:sp>
        <p:nvSpPr>
          <p:cNvPr id="357" name=""/>
          <p:cNvSpPr/>
          <p:nvPr/>
        </p:nvSpPr>
        <p:spPr>
          <a:xfrm>
            <a:off x="914400" y="2743200"/>
            <a:ext cx="7467480" cy="2362320"/>
          </a:xfrm>
          <a:prstGeom prst="rect">
            <a:avLst/>
          </a:prstGeom>
          <a:gradFill rotWithShape="0">
            <a:gsLst>
              <a:gs pos="0">
                <a:srgbClr val="005500"/>
              </a:gs>
              <a:gs pos="100000">
                <a:srgbClr val="002700"/>
              </a:gs>
            </a:gsLst>
            <a:lin ang="5400000"/>
          </a:gradFill>
          <a:ln w="28440">
            <a:solidFill>
              <a:srgbClr val="ffd961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tatic void ShowMatrix(int[,] m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or (int i = 0; i &lt; m.GetLength(0); i++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or (int j = 0; j &lt; m.GetLength(1); j++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nsole.Write("{0,3}", m[i,j]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nsole.WriteLin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6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3060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520" y="187560"/>
            <a:ext cx="8393400" cy="8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d961"/>
                </a:solidFill>
                <a:latin typeface="EucrosiaUPC"/>
              </a:rPr>
              <a:t>โปรแกรมตัวอย่าง</a:t>
            </a:r>
            <a:endParaRPr b="1" lang="en-US" sz="5400" spc="-1" strike="noStrike">
              <a:solidFill>
                <a:srgbClr val="ffd961"/>
              </a:solidFill>
              <a:latin typeface="EucrosiaUPC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8388360" cy="17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400"/>
              </a:spcBef>
              <a:buClr>
                <a:srgbClr val="ffd961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EucrosiaUPC"/>
              </a:rPr>
              <a:t>ตัวอย่างข้างล่างแสดงการเรียกใช้เมท็อด </a:t>
            </a:r>
            <a:r>
              <a:rPr b="1" i="1" lang="en-US" sz="3200" spc="-1" strike="noStrike">
                <a:solidFill>
                  <a:srgbClr val="66cc66"/>
                </a:solidFill>
                <a:latin typeface="Courier New"/>
              </a:rPr>
              <a:t>ReadMatrix</a:t>
            </a:r>
            <a:r>
              <a:rPr b="0" lang="en-US" sz="4000" spc="-1" strike="noStrike">
                <a:solidFill>
                  <a:srgbClr val="ffffff"/>
                </a:solidFill>
                <a:latin typeface="EucrosiaUPC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EucrosiaUPC"/>
              </a:rPr>
              <a:t>และ </a:t>
            </a:r>
            <a:r>
              <a:rPr b="1" i="1" lang="en-US" sz="3200" spc="-1" strike="noStrike">
                <a:solidFill>
                  <a:srgbClr val="66cc66"/>
                </a:solidFill>
                <a:latin typeface="Courier New"/>
              </a:rPr>
              <a:t>ShowMatrix</a:t>
            </a:r>
            <a:endParaRPr b="0" lang="en-US" sz="3200" spc="-1" strike="noStrike">
              <a:solidFill>
                <a:srgbClr val="ffffff"/>
              </a:solidFill>
              <a:latin typeface="EucrosiaUPC"/>
            </a:endParaRPr>
          </a:p>
          <a:p>
            <a:pPr lvl="1" marL="1028880" indent="-455760">
              <a:lnSpc>
                <a:spcPct val="90000"/>
              </a:lnSpc>
              <a:spcBef>
                <a:spcPts val="451"/>
              </a:spcBef>
              <a:buClr>
                <a:srgbClr val="ffd961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EucrosiaUPC"/>
              </a:rPr>
              <a:t>แสดงเฉพาะส่วน </a:t>
            </a:r>
            <a:r>
              <a:rPr b="1" i="1" lang="en-US" sz="3200" spc="-1" strike="noStrike">
                <a:solidFill>
                  <a:srgbClr val="66cc66"/>
                </a:solidFill>
                <a:latin typeface="Courier New"/>
              </a:rPr>
              <a:t>Main</a:t>
            </a:r>
            <a:r>
              <a:rPr b="0" lang="en-US" sz="3600" spc="-1" strike="noStrike">
                <a:solidFill>
                  <a:srgbClr val="ffffff"/>
                </a:solidFill>
                <a:latin typeface="EucrosiaUPC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EucrosiaUPC"/>
              </a:rPr>
              <a:t>เท่านั้น</a:t>
            </a:r>
            <a:endParaRPr b="0" lang="en-US" sz="3600" spc="-1" strike="noStrike">
              <a:solidFill>
                <a:srgbClr val="ffffff"/>
              </a:solidFill>
              <a:latin typeface="EucrosiaUPC"/>
            </a:endParaRPr>
          </a:p>
        </p:txBody>
      </p:sp>
      <p:sp>
        <p:nvSpPr>
          <p:cNvPr id="360" name=""/>
          <p:cNvSpPr/>
          <p:nvPr/>
        </p:nvSpPr>
        <p:spPr>
          <a:xfrm>
            <a:off x="914400" y="3276720"/>
            <a:ext cx="7467480" cy="3124080"/>
          </a:xfrm>
          <a:prstGeom prst="rect">
            <a:avLst/>
          </a:prstGeom>
          <a:gradFill rotWithShape="0">
            <a:gsLst>
              <a:gs pos="0">
                <a:srgbClr val="005500"/>
              </a:gs>
              <a:gs pos="100000">
                <a:srgbClr val="002700"/>
              </a:gs>
            </a:gsLst>
            <a:lin ang="5400000"/>
          </a:gradFill>
          <a:ln w="28440">
            <a:solidFill>
              <a:srgbClr val="ffd961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tatic void Main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int[,] A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nsole.Write("Enter #rows: "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int nrows = int.Parse(Console.ReadLine(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nsole.Write("Enter #columns: "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int ncols = int.Parse(Console.ReadLine(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nsole.WriteLine("Enter Matrix A"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= ReadMatrix(nrows, ncols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nsole.WriteLine("Matrix A is"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howMatrix(A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43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3060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80520" y="187560"/>
            <a:ext cx="8393400" cy="8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d961"/>
                </a:solidFill>
                <a:latin typeface="EucrosiaUPC"/>
              </a:rPr>
              <a:t>การคำนวนเมตริกซ์</a:t>
            </a:r>
            <a:endParaRPr b="1" lang="en-US" sz="5400" spc="-1" strike="noStrike">
              <a:solidFill>
                <a:srgbClr val="ffd961"/>
              </a:solidFill>
              <a:latin typeface="EucrosiaUPC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8388360" cy="33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499"/>
              </a:spcBef>
              <a:buClr>
                <a:srgbClr val="ffd961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EucrosiaUPC"/>
              </a:rPr>
              <a:t>เราสามารถเขียนโปรแกรมเพื่อคำนวนเมตริกซ์ได้เช่น</a:t>
            </a: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  <a:p>
            <a:pPr lvl="1" marL="1028880" indent="-455760">
              <a:lnSpc>
                <a:spcPct val="90000"/>
              </a:lnSpc>
              <a:spcBef>
                <a:spcPts val="451"/>
              </a:spcBef>
              <a:buClr>
                <a:srgbClr val="ffd961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EucrosiaUPC"/>
              </a:rPr>
              <a:t>การบวกสองเมตริกซ์</a:t>
            </a:r>
            <a:endParaRPr b="0" lang="en-US" sz="3600" spc="-1" strike="noStrike">
              <a:solidFill>
                <a:srgbClr val="ffffff"/>
              </a:solidFill>
              <a:latin typeface="EucrosiaUPC"/>
            </a:endParaRPr>
          </a:p>
          <a:p>
            <a:pPr lvl="1" marL="1028880" indent="-455760">
              <a:lnSpc>
                <a:spcPct val="90000"/>
              </a:lnSpc>
              <a:spcBef>
                <a:spcPts val="451"/>
              </a:spcBef>
              <a:buClr>
                <a:srgbClr val="ffd961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EucrosiaUPC"/>
              </a:rPr>
              <a:t>การคูณสองเมตริกซ์</a:t>
            </a:r>
            <a:endParaRPr b="0" lang="en-US" sz="3600" spc="-1" strike="noStrike">
              <a:solidFill>
                <a:srgbClr val="ffffff"/>
              </a:solidFill>
              <a:latin typeface="EucrosiaUPC"/>
            </a:endParaRPr>
          </a:p>
          <a:p>
            <a:pPr lvl="1" marL="1028880" indent="-455760">
              <a:lnSpc>
                <a:spcPct val="90000"/>
              </a:lnSpc>
              <a:spcBef>
                <a:spcPts val="451"/>
              </a:spcBef>
              <a:buClr>
                <a:srgbClr val="ffd961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EucrosiaUPC"/>
              </a:rPr>
              <a:t>การคำนวนหาดีเทอร์มิแนนท์</a:t>
            </a:r>
            <a:endParaRPr b="0" lang="en-US" sz="3600" spc="-1" strike="noStrike">
              <a:solidFill>
                <a:srgbClr val="ffffff"/>
              </a:solidFill>
              <a:latin typeface="EucrosiaUPC"/>
            </a:endParaRPr>
          </a:p>
          <a:p>
            <a:pPr lvl="1" marL="1028880" indent="-455760">
              <a:lnSpc>
                <a:spcPct val="90000"/>
              </a:lnSpc>
              <a:spcBef>
                <a:spcPts val="451"/>
              </a:spcBef>
              <a:buClr>
                <a:srgbClr val="ffd961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EucrosiaUPC"/>
              </a:rPr>
              <a:t>การหาทรานสโพสของเมตริกซ์</a:t>
            </a:r>
            <a:endParaRPr b="0" lang="en-US" sz="3600" spc="-1" strike="noStrike">
              <a:solidFill>
                <a:srgbClr val="ffffff"/>
              </a:solidFill>
              <a:latin typeface="EucrosiaUPC"/>
            </a:endParaRPr>
          </a:p>
        </p:txBody>
      </p:sp>
    </p:spTree>
  </p:cSld>
  <p:transition>
    <p:strips dir="rd"/>
  </p:transition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3060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80520" y="187560"/>
            <a:ext cx="8393400" cy="8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d961"/>
                </a:solidFill>
                <a:latin typeface="EucrosiaUPC"/>
              </a:rPr>
              <a:t>การบวกเมตริกซ์</a:t>
            </a:r>
            <a:endParaRPr b="1" lang="en-US" sz="5400" spc="-1" strike="noStrike">
              <a:solidFill>
                <a:srgbClr val="ffd961"/>
              </a:solidFill>
              <a:latin typeface="EucrosiaUPC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8388360" cy="16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451"/>
              </a:spcBef>
              <a:buClr>
                <a:srgbClr val="ffd961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EucrosiaUPC"/>
              </a:rPr>
              <a:t>เมท็อด </a:t>
            </a:r>
            <a:r>
              <a:rPr b="1" i="1" lang="en-US" sz="3600" spc="-1" strike="noStrike">
                <a:solidFill>
                  <a:srgbClr val="66cc66"/>
                </a:solidFill>
                <a:latin typeface="Courier New"/>
              </a:rPr>
              <a:t>AddMatrix</a:t>
            </a:r>
            <a:r>
              <a:rPr b="0" lang="en-US" sz="3600" spc="-1" strike="noStrike">
                <a:solidFill>
                  <a:srgbClr val="ffffff"/>
                </a:solidFill>
                <a:latin typeface="EucrosiaUPC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EucrosiaUPC"/>
              </a:rPr>
              <a:t>ทำการบวกสองเมตริกซ์ และส่งผลลัพธ์เป็นเมตริกซ์ใหม่</a:t>
            </a:r>
            <a:endParaRPr b="0" lang="en-US" sz="3600" spc="-1" strike="noStrike">
              <a:solidFill>
                <a:srgbClr val="ffffff"/>
              </a:solidFill>
              <a:latin typeface="EucrosiaUPC"/>
            </a:endParaRPr>
          </a:p>
          <a:p>
            <a:pPr marL="571680" indent="-571680">
              <a:lnSpc>
                <a:spcPct val="90000"/>
              </a:lnSpc>
              <a:spcBef>
                <a:spcPts val="451"/>
              </a:spcBef>
              <a:buClr>
                <a:srgbClr val="ffd961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EucrosiaUPC"/>
              </a:rPr>
              <a:t>โดยสมมติว่าเมตริกซ์ทั้งสองมีขนาดเท่ากัน</a:t>
            </a:r>
            <a:endParaRPr b="0" lang="en-US" sz="3600" spc="-1" strike="noStrike">
              <a:solidFill>
                <a:srgbClr val="ffffff"/>
              </a:solidFill>
              <a:latin typeface="EucrosiaUPC"/>
            </a:endParaRPr>
          </a:p>
        </p:txBody>
      </p:sp>
      <p:sp>
        <p:nvSpPr>
          <p:cNvPr id="365" name=""/>
          <p:cNvSpPr/>
          <p:nvPr/>
        </p:nvSpPr>
        <p:spPr>
          <a:xfrm>
            <a:off x="914400" y="2743200"/>
            <a:ext cx="7467480" cy="3581280"/>
          </a:xfrm>
          <a:prstGeom prst="rect">
            <a:avLst/>
          </a:prstGeom>
          <a:gradFill rotWithShape="0">
            <a:gsLst>
              <a:gs pos="0">
                <a:srgbClr val="005500"/>
              </a:gs>
              <a:gs pos="100000">
                <a:srgbClr val="002700"/>
              </a:gs>
            </a:gsLst>
            <a:lin ang="5400000"/>
          </a:gradFill>
          <a:ln w="28440">
            <a:solidFill>
              <a:srgbClr val="ffd961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tatic int[,] AddMatrix(int[,] a, int[,] b) {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int nr = a.GetLength(0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int nc = a.GetLength(1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int[,] result = new int[nr,nc]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for (int i = 0; i &lt; nr; i++) {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for (int j = 0; j &lt; nc; j++) {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result[i,j] = a[i,j] + b[i,j]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return result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3060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80520" y="187560"/>
            <a:ext cx="8393400" cy="8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d961"/>
                </a:solidFill>
                <a:latin typeface="EucrosiaUPC"/>
              </a:rPr>
              <a:t>การคูณเมตริกซ์</a:t>
            </a:r>
            <a:endParaRPr b="1" lang="en-US" sz="5400" spc="-1" strike="noStrike">
              <a:solidFill>
                <a:srgbClr val="ffd961"/>
              </a:solidFill>
              <a:latin typeface="EucrosiaUPC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388360" cy="319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65920" indent="-565920">
              <a:lnSpc>
                <a:spcPct val="90000"/>
              </a:lnSpc>
              <a:spcBef>
                <a:spcPts val="400"/>
              </a:spcBef>
              <a:buClr>
                <a:srgbClr val="ffd961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h-TH" sz="32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th-TH" sz="3200" spc="-1" strike="noStrike">
                <a:solidFill>
                  <a:srgbClr val="ffffff"/>
                </a:solidFill>
                <a:latin typeface="EucrosiaUPC"/>
              </a:rPr>
              <a:t> </a:t>
            </a:r>
            <a:r>
              <a:rPr b="0" lang="th-TH" sz="3200" spc="-1" strike="noStrike">
                <a:solidFill>
                  <a:srgbClr val="ffffff"/>
                </a:solidFill>
                <a:latin typeface="EucrosiaUPC"/>
              </a:rPr>
              <a:t>เป็นเมตริกซ์ขนาด </a:t>
            </a:r>
            <a:r>
              <a:rPr b="0" i="1" lang="th-TH" sz="32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th-TH" sz="32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i="1" lang="th-TH" sz="32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th-TH" sz="3200" spc="-1" strike="noStrike">
                <a:solidFill>
                  <a:srgbClr val="ffffff"/>
                </a:solidFill>
                <a:latin typeface="EucrosiaUPC"/>
              </a:rPr>
              <a:t> </a:t>
            </a:r>
            <a:r>
              <a:rPr b="0" lang="th-TH" sz="3200" spc="-1" strike="noStrike">
                <a:solidFill>
                  <a:srgbClr val="ffffff"/>
                </a:solidFill>
                <a:latin typeface="EucrosiaUPC"/>
              </a:rPr>
              <a:t>และ </a:t>
            </a:r>
            <a:r>
              <a:rPr b="0" i="1" lang="th-TH" sz="32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lang="th-TH" sz="3200" spc="-1" strike="noStrike">
                <a:solidFill>
                  <a:srgbClr val="ffffff"/>
                </a:solidFill>
                <a:latin typeface="EucrosiaUPC"/>
              </a:rPr>
              <a:t> </a:t>
            </a:r>
            <a:r>
              <a:rPr b="0" lang="th-TH" sz="3200" spc="-1" strike="noStrike">
                <a:solidFill>
                  <a:srgbClr val="ffffff"/>
                </a:solidFill>
                <a:latin typeface="EucrosiaUPC"/>
              </a:rPr>
              <a:t>เป็นเมตริกซ์ขนาด </a:t>
            </a:r>
            <a:r>
              <a:rPr b="0" i="1" lang="th-TH" sz="32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th-TH" sz="32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i="1" lang="th-TH" sz="32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th-TH" sz="3200" spc="-1" strike="noStrike">
                <a:solidFill>
                  <a:srgbClr val="ffffff"/>
                </a:solidFill>
                <a:latin typeface="EucrosiaUPC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EucrosiaUPC"/>
            </a:endParaRPr>
          </a:p>
          <a:p>
            <a:pPr marL="5659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EucrosiaUPC"/>
            </a:endParaRPr>
          </a:p>
          <a:p>
            <a:pPr marL="565920" indent="-565920">
              <a:lnSpc>
                <a:spcPct val="90000"/>
              </a:lnSpc>
              <a:spcBef>
                <a:spcPts val="400"/>
              </a:spcBef>
              <a:buClr>
                <a:srgbClr val="ffd961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ff"/>
                </a:solidFill>
                <a:latin typeface="EucrosiaUPC"/>
              </a:rPr>
              <a:t>เมท็อด </a:t>
            </a:r>
            <a:r>
              <a:rPr b="1" i="1" lang="th-TH" sz="3200" spc="-1" strike="noStrike">
                <a:solidFill>
                  <a:srgbClr val="66cc66"/>
                </a:solidFill>
                <a:latin typeface="Courier New"/>
              </a:rPr>
              <a:t>MulMatrix</a:t>
            </a:r>
            <a:r>
              <a:rPr b="0" lang="th-TH" sz="3200" spc="-1" strike="noStrike">
                <a:solidFill>
                  <a:srgbClr val="ffffff"/>
                </a:solidFill>
                <a:latin typeface="EucrosiaUPC"/>
              </a:rPr>
              <a:t> </a:t>
            </a:r>
            <a:r>
              <a:rPr b="0" lang="th-TH" sz="3200" spc="-1" strike="noStrike">
                <a:solidFill>
                  <a:srgbClr val="ffffff"/>
                </a:solidFill>
                <a:latin typeface="EucrosiaUPC"/>
              </a:rPr>
              <a:t>ทำการคูณเมตริกซ์ และส่งผลลัพธ์ในเมตริกซ์ใหม่</a:t>
            </a:r>
            <a:endParaRPr b="0" lang="en-US" sz="3200" spc="-1" strike="noStrike">
              <a:solidFill>
                <a:srgbClr val="ffffff"/>
              </a:solidFill>
              <a:latin typeface="EucrosiaUPC"/>
            </a:endParaRPr>
          </a:p>
          <a:p>
            <a:pPr lvl="1" marL="1018440" indent="-451080">
              <a:lnSpc>
                <a:spcPct val="90000"/>
              </a:lnSpc>
              <a:spcBef>
                <a:spcPts val="349"/>
              </a:spcBef>
              <a:buClr>
                <a:srgbClr val="ffd961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EucrosiaUPC"/>
              </a:rPr>
              <a:t>สมมติว่า </a:t>
            </a:r>
            <a:r>
              <a:rPr b="0" lang="th-TH" sz="2800" spc="-1" strike="noStrike">
                <a:solidFill>
                  <a:srgbClr val="ffffff"/>
                </a:solidFill>
                <a:latin typeface="EucrosiaUPC"/>
              </a:rPr>
              <a:t>#cols </a:t>
            </a:r>
            <a:r>
              <a:rPr b="0" lang="th-TH" sz="2800" spc="-1" strike="noStrike">
                <a:solidFill>
                  <a:srgbClr val="ffffff"/>
                </a:solidFill>
                <a:latin typeface="EucrosiaUPC"/>
              </a:rPr>
              <a:t>ของเมตริกซ์แรกมีค่าเท่ากับ </a:t>
            </a:r>
            <a:r>
              <a:rPr b="0" lang="th-TH" sz="2800" spc="-1" strike="noStrike">
                <a:solidFill>
                  <a:srgbClr val="ffffff"/>
                </a:solidFill>
                <a:latin typeface="EucrosiaUPC"/>
              </a:rPr>
              <a:t>#rows </a:t>
            </a:r>
            <a:r>
              <a:rPr b="0" lang="th-TH" sz="2800" spc="-1" strike="noStrike">
                <a:solidFill>
                  <a:srgbClr val="ffffff"/>
                </a:solidFill>
                <a:latin typeface="EucrosiaUPC"/>
              </a:rPr>
              <a:t>ของเมตริกซ์ที่สอง</a:t>
            </a:r>
            <a:endParaRPr b="0" lang="en-US" sz="2800" spc="-1" strike="noStrike">
              <a:solidFill>
                <a:srgbClr val="ffffff"/>
              </a:solidFill>
              <a:latin typeface="EucrosiaUPC"/>
            </a:endParaRPr>
          </a:p>
        </p:txBody>
      </p:sp>
      <p:sp>
        <p:nvSpPr>
          <p:cNvPr id="368" name=""/>
          <p:cNvSpPr/>
          <p:nvPr/>
        </p:nvSpPr>
        <p:spPr>
          <a:xfrm>
            <a:off x="914400" y="3657600"/>
            <a:ext cx="7924680" cy="2971800"/>
          </a:xfrm>
          <a:prstGeom prst="rect">
            <a:avLst/>
          </a:prstGeom>
          <a:gradFill rotWithShape="0">
            <a:gsLst>
              <a:gs pos="0">
                <a:srgbClr val="005500"/>
              </a:gs>
              <a:gs pos="100000">
                <a:srgbClr val="002700"/>
              </a:gs>
            </a:gsLst>
            <a:lin ang="5400000"/>
          </a:gradFill>
          <a:ln w="28440">
            <a:solidFill>
              <a:srgbClr val="ffd961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ic int[,] MulMatrix(int[,] a, int[,] b)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nt[,] result = new int[a.GetLength(0), b.GetLength(1)]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or (int i = 0; i &lt; a.GetLength(0); i++)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or (int j = 0; j &lt; b.GetLength(1); j++)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nt sum = 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or (int k = 0; k &lt; a.GetLength(1); k++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m += a[i,k]*b[k,j]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sult[i,j] = sum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resul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1447920" y="1447920"/>
            <a:ext cx="6705360" cy="53316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9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(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A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)[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i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,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j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] =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[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i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,1]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[1,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j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] +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[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i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,2]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[2,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j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] + ... +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[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i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,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n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]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[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n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,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j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86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3060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80520" y="187560"/>
            <a:ext cx="8393400" cy="8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5400" spc="-1" strike="noStrike">
                <a:solidFill>
                  <a:srgbClr val="ffd961"/>
                </a:solidFill>
                <a:latin typeface="EucrosiaUPC"/>
              </a:rPr>
              <a:t>มิติของอาเรย์</a:t>
            </a:r>
            <a:endParaRPr b="1" lang="en-US" sz="5400" spc="-1" strike="noStrike">
              <a:solidFill>
                <a:srgbClr val="ffd961"/>
              </a:solidFill>
              <a:latin typeface="EucrosiaUPC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1066680"/>
            <a:ext cx="8388360" cy="24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499"/>
              </a:spcBef>
              <a:buClr>
                <a:srgbClr val="ffd961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ffffff"/>
                </a:solidFill>
                <a:latin typeface="EucrosiaUPC"/>
              </a:rPr>
              <a:t>อาเรย์หนึ่งมิติ</a:t>
            </a: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  <a:p>
            <a:pPr marL="57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  <a:p>
            <a:pPr marL="57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  <a:p>
            <a:pPr marL="571680" indent="-571680">
              <a:lnSpc>
                <a:spcPct val="90000"/>
              </a:lnSpc>
              <a:spcBef>
                <a:spcPts val="499"/>
              </a:spcBef>
              <a:buClr>
                <a:srgbClr val="ffd961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ffffff"/>
                </a:solidFill>
                <a:latin typeface="EucrosiaUPC"/>
              </a:rPr>
              <a:t>อาเรย์สองมิติ</a:t>
            </a: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</p:txBody>
      </p:sp>
      <p:sp>
        <p:nvSpPr>
          <p:cNvPr id="80" name=""/>
          <p:cNvSpPr/>
          <p:nvPr/>
        </p:nvSpPr>
        <p:spPr>
          <a:xfrm>
            <a:off x="1981080" y="1828800"/>
            <a:ext cx="304920" cy="3049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286000" y="1828800"/>
            <a:ext cx="304920" cy="3049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590920" y="1828800"/>
            <a:ext cx="304560" cy="3049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895480" y="1828800"/>
            <a:ext cx="304920" cy="3049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00400" y="1828800"/>
            <a:ext cx="304920" cy="3049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505320" y="1828800"/>
            <a:ext cx="304560" cy="3049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809880" y="1828800"/>
            <a:ext cx="304920" cy="3049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14800" y="1828800"/>
            <a:ext cx="304920" cy="3049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828800"/>
            <a:ext cx="304560" cy="3049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724280" y="1828800"/>
            <a:ext cx="304920" cy="3049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029200" y="1828800"/>
            <a:ext cx="304920" cy="3049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1828800"/>
            <a:ext cx="304560" cy="3049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362320" y="3657600"/>
            <a:ext cx="304560" cy="3049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666880" y="3657600"/>
            <a:ext cx="304920" cy="3049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971800" y="3657600"/>
            <a:ext cx="304920" cy="3049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276720" y="3657600"/>
            <a:ext cx="304560" cy="3049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81280" y="3657600"/>
            <a:ext cx="304920" cy="3049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886200" y="3657600"/>
            <a:ext cx="304920" cy="3049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191120" y="3657600"/>
            <a:ext cx="304560" cy="3049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495680" y="3657600"/>
            <a:ext cx="304920" cy="3049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800600" y="3657600"/>
            <a:ext cx="304920" cy="3049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362320" y="3962520"/>
            <a:ext cx="304560" cy="30456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666880" y="3962520"/>
            <a:ext cx="304920" cy="30456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971800" y="3962520"/>
            <a:ext cx="304920" cy="30456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76720" y="3962520"/>
            <a:ext cx="304560" cy="30456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581280" y="3962520"/>
            <a:ext cx="304920" cy="30456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886200" y="3962520"/>
            <a:ext cx="304920" cy="30456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191120" y="3962520"/>
            <a:ext cx="304560" cy="30456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495680" y="3962520"/>
            <a:ext cx="304920" cy="30456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800600" y="3962520"/>
            <a:ext cx="304920" cy="30456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362320" y="4267080"/>
            <a:ext cx="304560" cy="3049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666880" y="4267080"/>
            <a:ext cx="304920" cy="3049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971800" y="4267080"/>
            <a:ext cx="304920" cy="3049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76720" y="4267080"/>
            <a:ext cx="304560" cy="3049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581280" y="4267080"/>
            <a:ext cx="304920" cy="3049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886200" y="4267080"/>
            <a:ext cx="304920" cy="3049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4267080"/>
            <a:ext cx="304560" cy="3049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495680" y="4267080"/>
            <a:ext cx="304920" cy="3049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00600" y="4267080"/>
            <a:ext cx="304920" cy="3049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362320" y="4572000"/>
            <a:ext cx="304560" cy="3049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666880" y="4572000"/>
            <a:ext cx="304920" cy="3049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971800" y="4572000"/>
            <a:ext cx="304920" cy="3049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276720" y="4572000"/>
            <a:ext cx="304560" cy="3049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581280" y="4572000"/>
            <a:ext cx="304920" cy="3049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886200" y="4572000"/>
            <a:ext cx="304920" cy="3049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191120" y="4572000"/>
            <a:ext cx="304560" cy="3049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4572000"/>
            <a:ext cx="304920" cy="3049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800600" y="4572000"/>
            <a:ext cx="304920" cy="3049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981080" y="213372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ffffff"/>
                </a:solidFill>
                <a:latin typeface="Courier New"/>
                <a:ea typeface="Arial"/>
              </a:rPr>
              <a:t>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0" y="213372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ffffff"/>
                </a:solidFill>
                <a:latin typeface="Courier New"/>
                <a:ea typeface="Arial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590920" y="2133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ffffff"/>
                </a:solidFill>
                <a:latin typeface="Courier New"/>
                <a:ea typeface="Arial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895480" y="213372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ffffff"/>
                </a:solidFill>
                <a:latin typeface="Courier New"/>
                <a:ea typeface="Arial"/>
              </a:rPr>
              <a:t>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200400" y="213372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ffffff"/>
                </a:solidFill>
                <a:latin typeface="Courier New"/>
                <a:ea typeface="Arial"/>
              </a:rPr>
              <a:t>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505320" y="2133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ffffff"/>
                </a:solidFill>
                <a:latin typeface="Courier New"/>
                <a:ea typeface="Arial"/>
              </a:rPr>
              <a:t>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09880" y="213372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ffffff"/>
                </a:solidFill>
                <a:latin typeface="Courier New"/>
                <a:ea typeface="Arial"/>
              </a:rPr>
              <a:t>6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114800" y="213372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ffffff"/>
                </a:solidFill>
                <a:latin typeface="Courier New"/>
                <a:ea typeface="Arial"/>
              </a:rPr>
              <a:t>7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419720" y="2133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ffffff"/>
                </a:solidFill>
                <a:latin typeface="Courier New"/>
                <a:ea typeface="Arial"/>
              </a:rPr>
              <a:t>8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724280" y="213372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ffffff"/>
                </a:solidFill>
                <a:latin typeface="Courier New"/>
                <a:ea typeface="Arial"/>
              </a:rPr>
              <a:t>9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029200" y="213372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ffffff"/>
                </a:solidFill>
                <a:latin typeface="Courier New"/>
                <a:ea typeface="Arial"/>
              </a:rPr>
              <a:t>1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334120" y="2133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ffffff"/>
                </a:solidFill>
                <a:latin typeface="Courier New"/>
                <a:ea typeface="Arial"/>
              </a:rPr>
              <a:t>1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362320" y="48769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ffffff"/>
                </a:solidFill>
                <a:latin typeface="Courier New"/>
                <a:ea typeface="Arial"/>
              </a:rPr>
              <a:t>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666880" y="487692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ffffff"/>
                </a:solidFill>
                <a:latin typeface="Courier New"/>
                <a:ea typeface="Arial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971800" y="487692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ffffff"/>
                </a:solidFill>
                <a:latin typeface="Courier New"/>
                <a:ea typeface="Arial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276720" y="48769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ffffff"/>
                </a:solidFill>
                <a:latin typeface="Courier New"/>
                <a:ea typeface="Arial"/>
              </a:rPr>
              <a:t>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581280" y="487692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ffffff"/>
                </a:solidFill>
                <a:latin typeface="Courier New"/>
                <a:ea typeface="Arial"/>
              </a:rPr>
              <a:t>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886200" y="487692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ffffff"/>
                </a:solidFill>
                <a:latin typeface="Courier New"/>
                <a:ea typeface="Arial"/>
              </a:rPr>
              <a:t>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191120" y="48769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ffffff"/>
                </a:solidFill>
                <a:latin typeface="Courier New"/>
                <a:ea typeface="Arial"/>
              </a:rPr>
              <a:t>6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495680" y="487692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ffffff"/>
                </a:solidFill>
                <a:latin typeface="Courier New"/>
                <a:ea typeface="Arial"/>
              </a:rPr>
              <a:t>7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800600" y="487692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ffffff"/>
                </a:solidFill>
                <a:latin typeface="Courier New"/>
                <a:ea typeface="Arial"/>
              </a:rPr>
              <a:t>8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057400" y="457200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ffffff"/>
                </a:solidFill>
                <a:latin typeface="Courier New"/>
                <a:ea typeface="Arial"/>
              </a:rPr>
              <a:t>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057400" y="4267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ffffff"/>
                </a:solidFill>
                <a:latin typeface="Courier New"/>
                <a:ea typeface="Arial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057400" y="396252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ffffff"/>
                </a:solidFill>
                <a:latin typeface="Courier New"/>
                <a:ea typeface="Arial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057400" y="365760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ffffff"/>
                </a:solidFill>
                <a:latin typeface="Courier New"/>
                <a:ea typeface="Arial"/>
              </a:rPr>
              <a:t>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904000" y="167652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66cc66"/>
                </a:solidFill>
                <a:latin typeface="Courier New"/>
                <a:ea typeface="Arial"/>
              </a:rPr>
              <a:t>A[7]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829120" y="396252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66cc66"/>
                </a:solidFill>
                <a:latin typeface="Courier New"/>
                <a:ea typeface="Arial"/>
              </a:rPr>
              <a:t>A[1,4]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7010280" y="914400"/>
            <a:ext cx="1752840" cy="914400"/>
          </a:xfrm>
          <a:prstGeom prst="wedgeRoundRectCallout">
            <a:avLst>
              <a:gd name="adj1" fmla="val -47189"/>
              <a:gd name="adj2" fmla="val 66319"/>
              <a:gd name="adj3" fmla="val 16667"/>
            </a:avLst>
          </a:prstGeom>
          <a:solidFill>
            <a:srgbClr val="6699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ffffff"/>
                </a:solidFill>
                <a:latin typeface="Arial"/>
                <a:cs typeface="Arial"/>
              </a:rPr>
              <a:t>ระบุจำนวนเต็มหนึ่งค่าสำหรับเป็นดัชนี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934320" y="2971800"/>
            <a:ext cx="1752480" cy="914400"/>
          </a:xfrm>
          <a:prstGeom prst="wedgeRoundRectCallout">
            <a:avLst>
              <a:gd name="adj1" fmla="val -47189"/>
              <a:gd name="adj2" fmla="val 66319"/>
              <a:gd name="adj3" fmla="val 16667"/>
            </a:avLst>
          </a:prstGeom>
          <a:solidFill>
            <a:srgbClr val="6699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ffffff"/>
                </a:solidFill>
                <a:latin typeface="Arial"/>
                <a:cs typeface="Arial"/>
              </a:rPr>
              <a:t>ระบุจำนวนเต็มสองค่าสำหรับเป็นดัชนี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cc66"/>
                                      </p:to>
                                    </p:animClr>
                                    <p:set>
                                      <p:cBhvr>
                                        <p:cTn id="1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cc66"/>
                                      </p:to>
                                    </p:animClr>
                                    <p:set>
                                      <p:cBhvr>
                                        <p:cTn id="3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3060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520" y="187560"/>
            <a:ext cx="8393400" cy="8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5400" spc="-1" strike="noStrike">
                <a:solidFill>
                  <a:srgbClr val="ffd961"/>
                </a:solidFill>
                <a:latin typeface="EucrosiaUPC"/>
              </a:rPr>
              <a:t>การประกาศอาเรย์หลายมิติ</a:t>
            </a:r>
            <a:endParaRPr b="1" lang="en-US" sz="5400" spc="-1" strike="noStrike">
              <a:solidFill>
                <a:srgbClr val="ffd961"/>
              </a:solidFill>
              <a:latin typeface="EucrosiaUPC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8388360" cy="412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499"/>
              </a:spcBef>
              <a:buClr>
                <a:srgbClr val="ffd961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ffffff"/>
                </a:solidFill>
                <a:latin typeface="EucrosiaUPC"/>
              </a:rPr>
              <a:t>สองมิติ</a:t>
            </a: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  <a:p>
            <a:pPr marL="57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  <a:p>
            <a:pPr lvl="1" marL="1028880" indent="-455760">
              <a:lnSpc>
                <a:spcPct val="90000"/>
              </a:lnSpc>
              <a:spcBef>
                <a:spcPts val="451"/>
              </a:spcBef>
              <a:buClr>
                <a:srgbClr val="ffd961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ffffff"/>
                </a:solidFill>
                <a:latin typeface="EucrosiaUPC"/>
              </a:rPr>
              <a:t>ตัวอย่าง</a:t>
            </a:r>
            <a:endParaRPr b="0" lang="en-US" sz="3600" spc="-1" strike="noStrike">
              <a:solidFill>
                <a:srgbClr val="ffffff"/>
              </a:solidFill>
              <a:latin typeface="EucrosiaUPC"/>
            </a:endParaRPr>
          </a:p>
          <a:p>
            <a:pPr lvl="1" marL="1028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EucrosiaUPC"/>
            </a:endParaRPr>
          </a:p>
          <a:p>
            <a:pPr marL="571680" indent="-571680">
              <a:lnSpc>
                <a:spcPct val="90000"/>
              </a:lnSpc>
              <a:spcBef>
                <a:spcPts val="499"/>
              </a:spcBef>
              <a:buClr>
                <a:srgbClr val="ffd961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ffffff"/>
                </a:solidFill>
                <a:latin typeface="EucrosiaUPC"/>
              </a:rPr>
              <a:t>สามมิติ</a:t>
            </a: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  <a:p>
            <a:pPr marL="57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  <a:p>
            <a:pPr lvl="1" marL="1028880" indent="-455760">
              <a:lnSpc>
                <a:spcPct val="90000"/>
              </a:lnSpc>
              <a:spcBef>
                <a:spcPts val="451"/>
              </a:spcBef>
              <a:buClr>
                <a:srgbClr val="ffd961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ffffff"/>
                </a:solidFill>
                <a:latin typeface="EucrosiaUPC"/>
              </a:rPr>
              <a:t>ตัวอย่าง</a:t>
            </a:r>
            <a:endParaRPr b="0" lang="en-US" sz="3600" spc="-1" strike="noStrike">
              <a:solidFill>
                <a:srgbClr val="ffffff"/>
              </a:solidFill>
              <a:latin typeface="EucrosiaUPC"/>
            </a:endParaRPr>
          </a:p>
        </p:txBody>
      </p:sp>
      <p:sp>
        <p:nvSpPr>
          <p:cNvPr id="159" name=""/>
          <p:cNvSpPr/>
          <p:nvPr/>
        </p:nvSpPr>
        <p:spPr>
          <a:xfrm>
            <a:off x="1201320" y="1643040"/>
            <a:ext cx="3808080" cy="520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1c1c1"/>
              </a:gs>
            </a:gsLst>
            <a:lin ang="5400000"/>
          </a:gradFill>
          <a:ln w="28440">
            <a:solidFill>
              <a:srgbClr val="fa7438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h-TH" sz="2800" spc="-1" strike="noStrike">
                <a:solidFill>
                  <a:srgbClr val="00478e"/>
                </a:solidFill>
                <a:latin typeface="Courier New"/>
              </a:rPr>
              <a:t>&lt;type&gt;</a:t>
            </a:r>
            <a:r>
              <a:rPr b="1" lang="th-TH" sz="2800" spc="-1" strike="noStrike">
                <a:solidFill>
                  <a:srgbClr val="00478e"/>
                </a:solidFill>
                <a:latin typeface="Courier New"/>
              </a:rPr>
              <a:t>[,]</a:t>
            </a:r>
            <a:r>
              <a:rPr b="0" i="1" lang="th-TH" sz="2800" spc="-1" strike="noStrike">
                <a:solidFill>
                  <a:srgbClr val="00478e"/>
                </a:solidFill>
                <a:latin typeface="Courier New"/>
              </a:rPr>
              <a:t> &lt;name&gt;</a:t>
            </a:r>
            <a:r>
              <a:rPr b="1" lang="th-TH" sz="2800" spc="-1" strike="noStrike">
                <a:solidFill>
                  <a:srgbClr val="00478e"/>
                </a:solidFill>
                <a:latin typeface="Courier New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523880" y="2819520"/>
            <a:ext cx="4572000" cy="396720"/>
          </a:xfrm>
          <a:prstGeom prst="rect">
            <a:avLst/>
          </a:prstGeom>
          <a:gradFill rotWithShape="0">
            <a:gsLst>
              <a:gs pos="0">
                <a:srgbClr val="005500"/>
              </a:gs>
              <a:gs pos="100000">
                <a:srgbClr val="001e00"/>
              </a:gs>
            </a:gsLst>
            <a:lin ang="5400000"/>
          </a:gradFill>
          <a:ln w="38160">
            <a:solidFill>
              <a:srgbClr val="ffd961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fa7438"/>
                </a:solidFill>
                <a:latin typeface="Courier New"/>
                <a:ea typeface="Arial"/>
              </a:rPr>
              <a:t>int</a:t>
            </a:r>
            <a:r>
              <a:rPr b="1" lang="th-TH" sz="2000" spc="-1" strike="noStrike">
                <a:solidFill>
                  <a:srgbClr val="ffffff"/>
                </a:solidFill>
                <a:latin typeface="Courier New"/>
                <a:ea typeface="Arial"/>
              </a:rPr>
              <a:t>[,] Array2D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123920" y="4038480"/>
            <a:ext cx="4021560" cy="520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1c1c1"/>
              </a:gs>
            </a:gsLst>
            <a:lin ang="5400000"/>
          </a:gradFill>
          <a:ln w="28440">
            <a:solidFill>
              <a:srgbClr val="fa7438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h-TH" sz="2800" spc="-1" strike="noStrike">
                <a:solidFill>
                  <a:srgbClr val="00478e"/>
                </a:solidFill>
                <a:latin typeface="Courier New"/>
              </a:rPr>
              <a:t>&lt;type&gt;</a:t>
            </a:r>
            <a:r>
              <a:rPr b="1" lang="th-TH" sz="2800" spc="-1" strike="noStrike">
                <a:solidFill>
                  <a:srgbClr val="00478e"/>
                </a:solidFill>
                <a:latin typeface="Courier New"/>
              </a:rPr>
              <a:t>[,,]</a:t>
            </a:r>
            <a:r>
              <a:rPr b="0" i="1" lang="th-TH" sz="2800" spc="-1" strike="noStrike">
                <a:solidFill>
                  <a:srgbClr val="00478e"/>
                </a:solidFill>
                <a:latin typeface="Courier New"/>
              </a:rPr>
              <a:t> &lt;name&gt;</a:t>
            </a:r>
            <a:r>
              <a:rPr b="1" lang="th-TH" sz="2800" spc="-1" strike="noStrike">
                <a:solidFill>
                  <a:srgbClr val="00478e"/>
                </a:solidFill>
                <a:latin typeface="Courier New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523880" y="5334120"/>
            <a:ext cx="4572000" cy="396720"/>
          </a:xfrm>
          <a:prstGeom prst="rect">
            <a:avLst/>
          </a:prstGeom>
          <a:gradFill rotWithShape="0">
            <a:gsLst>
              <a:gs pos="0">
                <a:srgbClr val="005400"/>
              </a:gs>
              <a:gs pos="100000">
                <a:srgbClr val="001e00"/>
              </a:gs>
            </a:gsLst>
            <a:lin ang="5400000"/>
          </a:gradFill>
          <a:ln w="38160">
            <a:solidFill>
              <a:srgbClr val="ffd961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fa7438"/>
                </a:solidFill>
                <a:latin typeface="Courier New"/>
                <a:ea typeface="Arial"/>
              </a:rPr>
              <a:t>int</a:t>
            </a:r>
            <a:r>
              <a:rPr b="1" lang="th-TH" sz="2000" spc="-1" strike="noStrike">
                <a:solidFill>
                  <a:srgbClr val="ffffff"/>
                </a:solidFill>
                <a:latin typeface="Courier New"/>
                <a:ea typeface="Arial"/>
              </a:rPr>
              <a:t>[,,] Array3D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3060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520" y="187560"/>
            <a:ext cx="8393400" cy="8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d961"/>
                </a:solidFill>
                <a:latin typeface="EucrosiaUPC"/>
              </a:rPr>
              <a:t>การสร้างอาเรย์หลายมิติ</a:t>
            </a:r>
            <a:endParaRPr b="1" lang="en-US" sz="5400" spc="-1" strike="noStrike">
              <a:solidFill>
                <a:srgbClr val="ffd961"/>
              </a:solidFill>
              <a:latin typeface="EucrosiaUP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80520" y="1066680"/>
            <a:ext cx="8388360" cy="47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499"/>
              </a:spcBef>
              <a:buClr>
                <a:srgbClr val="ffd961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EucrosiaUPC"/>
              </a:rPr>
              <a:t>สองมิติ</a:t>
            </a: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  <a:p>
            <a:pPr marL="57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  <a:p>
            <a:pPr lvl="1" marL="1028880" indent="-455760">
              <a:lnSpc>
                <a:spcPct val="90000"/>
              </a:lnSpc>
              <a:spcBef>
                <a:spcPts val="451"/>
              </a:spcBef>
              <a:buClr>
                <a:srgbClr val="ffd961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EucrosiaUPC"/>
              </a:rPr>
              <a:t>ตัวอย่าง</a:t>
            </a:r>
            <a:endParaRPr b="0" lang="en-US" sz="3600" spc="-1" strike="noStrike">
              <a:solidFill>
                <a:srgbClr val="ffffff"/>
              </a:solidFill>
              <a:latin typeface="EucrosiaUPC"/>
            </a:endParaRPr>
          </a:p>
          <a:p>
            <a:pPr lvl="1" marL="1028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EucrosiaUPC"/>
            </a:endParaRPr>
          </a:p>
          <a:p>
            <a:pPr marL="57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  <a:p>
            <a:pPr marL="571680" indent="-571680">
              <a:lnSpc>
                <a:spcPct val="90000"/>
              </a:lnSpc>
              <a:spcBef>
                <a:spcPts val="499"/>
              </a:spcBef>
              <a:buClr>
                <a:srgbClr val="ffd961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EucrosiaUPC"/>
              </a:rPr>
              <a:t>สามมิติ</a:t>
            </a: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  <a:p>
            <a:pPr marL="57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  <a:p>
            <a:pPr lvl="1" marL="1028880" indent="-455760">
              <a:lnSpc>
                <a:spcPct val="90000"/>
              </a:lnSpc>
              <a:spcBef>
                <a:spcPts val="451"/>
              </a:spcBef>
              <a:buClr>
                <a:srgbClr val="ffd961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EucrosiaUPC"/>
              </a:rPr>
              <a:t>ตัวอย่าง</a:t>
            </a:r>
            <a:endParaRPr b="0" lang="en-US" sz="3600" spc="-1" strike="noStrike">
              <a:solidFill>
                <a:srgbClr val="ffffff"/>
              </a:solidFill>
              <a:latin typeface="EucrosiaUPC"/>
            </a:endParaRPr>
          </a:p>
        </p:txBody>
      </p:sp>
      <p:sp>
        <p:nvSpPr>
          <p:cNvPr id="165" name=""/>
          <p:cNvSpPr/>
          <p:nvPr/>
        </p:nvSpPr>
        <p:spPr>
          <a:xfrm>
            <a:off x="1610640" y="1646280"/>
            <a:ext cx="6581520" cy="459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1c1c1"/>
              </a:gs>
            </a:gsLst>
            <a:lin ang="5400000"/>
          </a:gradFill>
          <a:ln w="28440">
            <a:solidFill>
              <a:srgbClr val="fa7438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478e"/>
                </a:solidFill>
                <a:latin typeface="Courier New"/>
              </a:rPr>
              <a:t>&lt;name&gt; </a:t>
            </a:r>
            <a:r>
              <a:rPr b="1" lang="en-US" sz="2400" spc="-1" strike="noStrike">
                <a:solidFill>
                  <a:srgbClr val="00478e"/>
                </a:solidFill>
                <a:latin typeface="Courier New"/>
              </a:rPr>
              <a:t>= new</a:t>
            </a:r>
            <a:r>
              <a:rPr b="0" i="1" lang="en-US" sz="2400" spc="-1" strike="noStrike">
                <a:solidFill>
                  <a:srgbClr val="00478e"/>
                </a:solidFill>
                <a:latin typeface="Courier New"/>
              </a:rPr>
              <a:t> &lt;type&gt;</a:t>
            </a:r>
            <a:r>
              <a:rPr b="1" lang="en-US" sz="2400" spc="-1" strike="noStrike">
                <a:solidFill>
                  <a:srgbClr val="00478e"/>
                </a:solidFill>
                <a:latin typeface="Courier New"/>
              </a:rPr>
              <a:t>[</a:t>
            </a:r>
            <a:r>
              <a:rPr b="0" i="1" lang="en-US" sz="2400" spc="-1" strike="noStrike">
                <a:solidFill>
                  <a:srgbClr val="00478e"/>
                </a:solidFill>
                <a:latin typeface="Courier New"/>
              </a:rPr>
              <a:t>&lt;dim1&gt;</a:t>
            </a:r>
            <a:r>
              <a:rPr b="1" lang="en-US" sz="2400" spc="-1" strike="noStrike">
                <a:solidFill>
                  <a:srgbClr val="00478e"/>
                </a:solidFill>
                <a:latin typeface="Courier New"/>
              </a:rPr>
              <a:t>,</a:t>
            </a:r>
            <a:r>
              <a:rPr b="0" i="1" lang="en-US" sz="2400" spc="-1" strike="noStrike">
                <a:solidFill>
                  <a:srgbClr val="00478e"/>
                </a:solidFill>
                <a:latin typeface="Courier New"/>
              </a:rPr>
              <a:t>&lt;dim2&gt;</a:t>
            </a:r>
            <a:r>
              <a:rPr b="1" lang="en-US" sz="2400" spc="-1" strike="noStrike">
                <a:solidFill>
                  <a:srgbClr val="00478e"/>
                </a:solidFill>
                <a:latin typeface="Courier New"/>
              </a:rPr>
              <a:t>]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523880" y="2819520"/>
            <a:ext cx="4572000" cy="685800"/>
          </a:xfrm>
          <a:prstGeom prst="rect">
            <a:avLst/>
          </a:prstGeom>
          <a:gradFill rotWithShape="0">
            <a:gsLst>
              <a:gs pos="0">
                <a:srgbClr val="005500"/>
              </a:gs>
              <a:gs pos="100000">
                <a:srgbClr val="002700"/>
              </a:gs>
            </a:gsLst>
            <a:lin ang="5400000"/>
          </a:gradFill>
          <a:ln w="28440">
            <a:solidFill>
              <a:srgbClr val="ffd961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7438"/>
                </a:solidFill>
                <a:latin typeface="Courier New"/>
              </a:rPr>
              <a:t>int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] Array2D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rray2D = </a:t>
            </a:r>
            <a:r>
              <a:rPr b="1" lang="en-US" sz="2000" spc="-1" strike="noStrike">
                <a:solidFill>
                  <a:srgbClr val="6699ff"/>
                </a:solidFill>
                <a:latin typeface="Courier New"/>
              </a:rPr>
              <a:t>new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fa7438"/>
                </a:solidFill>
                <a:latin typeface="Courier New"/>
              </a:rPr>
              <a:t>int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3,5]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540080" y="4724280"/>
            <a:ext cx="6581160" cy="398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1c1c1"/>
              </a:gs>
            </a:gsLst>
            <a:lin ang="5400000"/>
          </a:gradFill>
          <a:ln w="28440">
            <a:solidFill>
              <a:srgbClr val="fa7438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478e"/>
                </a:solidFill>
                <a:latin typeface="Courier New"/>
              </a:rPr>
              <a:t>&lt;name&gt; </a:t>
            </a:r>
            <a:r>
              <a:rPr b="1" lang="en-US" sz="2000" spc="-1" strike="noStrike">
                <a:solidFill>
                  <a:srgbClr val="00478e"/>
                </a:solidFill>
                <a:latin typeface="Courier New"/>
              </a:rPr>
              <a:t>= new</a:t>
            </a:r>
            <a:r>
              <a:rPr b="0" i="1" lang="en-US" sz="2000" spc="-1" strike="noStrike">
                <a:solidFill>
                  <a:srgbClr val="00478e"/>
                </a:solidFill>
                <a:latin typeface="Courier New"/>
              </a:rPr>
              <a:t> &lt;type&gt;</a:t>
            </a:r>
            <a:r>
              <a:rPr b="1" lang="en-US" sz="2000" spc="-1" strike="noStrike">
                <a:solidFill>
                  <a:srgbClr val="00478e"/>
                </a:solidFill>
                <a:latin typeface="Courier New"/>
              </a:rPr>
              <a:t>[</a:t>
            </a:r>
            <a:r>
              <a:rPr b="0" i="1" lang="en-US" sz="2000" spc="-1" strike="noStrike">
                <a:solidFill>
                  <a:srgbClr val="00478e"/>
                </a:solidFill>
                <a:latin typeface="Courier New"/>
              </a:rPr>
              <a:t>&lt;dim1&gt;</a:t>
            </a:r>
            <a:r>
              <a:rPr b="1" lang="en-US" sz="2000" spc="-1" strike="noStrike">
                <a:solidFill>
                  <a:srgbClr val="00478e"/>
                </a:solidFill>
                <a:latin typeface="Courier New"/>
              </a:rPr>
              <a:t>,</a:t>
            </a:r>
            <a:r>
              <a:rPr b="0" i="1" lang="en-US" sz="2000" spc="-1" strike="noStrike">
                <a:solidFill>
                  <a:srgbClr val="00478e"/>
                </a:solidFill>
                <a:latin typeface="Courier New"/>
              </a:rPr>
              <a:t>&lt;dim2&gt;</a:t>
            </a:r>
            <a:r>
              <a:rPr b="1" lang="en-US" sz="2000" spc="-1" strike="noStrike">
                <a:solidFill>
                  <a:srgbClr val="00478e"/>
                </a:solidFill>
                <a:latin typeface="Courier New"/>
              </a:rPr>
              <a:t>,</a:t>
            </a:r>
            <a:r>
              <a:rPr b="0" i="1" lang="en-US" sz="2000" spc="-1" strike="noStrike">
                <a:solidFill>
                  <a:srgbClr val="00478e"/>
                </a:solidFill>
                <a:latin typeface="Courier New"/>
              </a:rPr>
              <a:t>&lt;dim3&gt;</a:t>
            </a:r>
            <a:r>
              <a:rPr b="1" lang="en-US" sz="2000" spc="-1" strike="noStrike">
                <a:solidFill>
                  <a:srgbClr val="00478e"/>
                </a:solidFill>
                <a:latin typeface="Courier New"/>
              </a:rPr>
              <a:t>]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523880" y="5775480"/>
            <a:ext cx="4572000" cy="701640"/>
          </a:xfrm>
          <a:prstGeom prst="rect">
            <a:avLst/>
          </a:prstGeom>
          <a:gradFill rotWithShape="0">
            <a:gsLst>
              <a:gs pos="0">
                <a:srgbClr val="005500"/>
              </a:gs>
              <a:gs pos="100000">
                <a:srgbClr val="002700"/>
              </a:gs>
            </a:gsLst>
            <a:lin ang="5400000"/>
          </a:gradFill>
          <a:ln w="28440">
            <a:solidFill>
              <a:srgbClr val="ffd961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7438"/>
                </a:solidFill>
                <a:latin typeface="Courier New"/>
              </a:rPr>
              <a:t>int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,] Array3D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rray3D = </a:t>
            </a:r>
            <a:r>
              <a:rPr b="1" lang="en-US" sz="2000" spc="-1" strike="noStrike">
                <a:solidFill>
                  <a:srgbClr val="6699ff"/>
                </a:solidFill>
                <a:latin typeface="Courier New"/>
              </a:rPr>
              <a:t>new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fa7438"/>
                </a:solidFill>
                <a:latin typeface="Courier New"/>
              </a:rPr>
              <a:t>int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3,5,2]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3060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80520" y="187560"/>
            <a:ext cx="8393400" cy="8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d961"/>
                </a:solidFill>
                <a:latin typeface="EucrosiaUPC"/>
              </a:rPr>
              <a:t>ตัวอย่าง</a:t>
            </a:r>
            <a:endParaRPr b="1" lang="en-US" sz="5400" spc="-1" strike="noStrike">
              <a:solidFill>
                <a:srgbClr val="ffd961"/>
              </a:solidFill>
              <a:latin typeface="EucrosiaUPC"/>
            </a:endParaRPr>
          </a:p>
        </p:txBody>
      </p:sp>
      <p:sp>
        <p:nvSpPr>
          <p:cNvPr id="170" name=""/>
          <p:cNvSpPr/>
          <p:nvPr/>
        </p:nvSpPr>
        <p:spPr>
          <a:xfrm>
            <a:off x="762120" y="1828800"/>
            <a:ext cx="3886200" cy="685800"/>
          </a:xfrm>
          <a:prstGeom prst="rect">
            <a:avLst/>
          </a:prstGeom>
          <a:gradFill rotWithShape="0">
            <a:gsLst>
              <a:gs pos="0">
                <a:srgbClr val="005500"/>
              </a:gs>
              <a:gs pos="100000">
                <a:srgbClr val="002700"/>
              </a:gs>
            </a:gsLst>
            <a:lin ang="5400000"/>
          </a:gradFill>
          <a:ln w="28440">
            <a:solidFill>
              <a:srgbClr val="ffd961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7438"/>
                </a:solidFill>
                <a:latin typeface="Courier New"/>
              </a:rPr>
              <a:t>int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] Array2D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rray2D = </a:t>
            </a:r>
            <a:r>
              <a:rPr b="1" lang="en-US" sz="2000" spc="-1" strike="noStrike">
                <a:solidFill>
                  <a:srgbClr val="6699ff"/>
                </a:solidFill>
                <a:latin typeface="Courier New"/>
              </a:rPr>
              <a:t>new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fa7438"/>
                </a:solidFill>
                <a:latin typeface="Courier New"/>
              </a:rPr>
              <a:t>int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3,5]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5029200" y="1676520"/>
            <a:ext cx="3200400" cy="914400"/>
            <a:chOff x="5029200" y="1676520"/>
            <a:chExt cx="3200400" cy="914400"/>
          </a:xfrm>
        </p:grpSpPr>
        <p:sp>
          <p:nvSpPr>
            <p:cNvPr id="172" name=""/>
            <p:cNvSpPr/>
            <p:nvPr/>
          </p:nvSpPr>
          <p:spPr>
            <a:xfrm>
              <a:off x="5943600" y="1676520"/>
              <a:ext cx="457200" cy="3045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400800" y="1676520"/>
              <a:ext cx="457200" cy="3045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858000" y="1676520"/>
              <a:ext cx="457200" cy="3045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7315200" y="1676520"/>
              <a:ext cx="457200" cy="3045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772400" y="1676520"/>
              <a:ext cx="457200" cy="3045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43600" y="1981080"/>
              <a:ext cx="457200" cy="30492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400800" y="1981080"/>
              <a:ext cx="457200" cy="30492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858000" y="1981080"/>
              <a:ext cx="457200" cy="30492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7315200" y="1981080"/>
              <a:ext cx="457200" cy="30492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7772400" y="1981080"/>
              <a:ext cx="457200" cy="30492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943600" y="2286000"/>
              <a:ext cx="457200" cy="30492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400800" y="2286000"/>
              <a:ext cx="457200" cy="30492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58000" y="2286000"/>
              <a:ext cx="457200" cy="30492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315200" y="2286000"/>
              <a:ext cx="457200" cy="30492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772400" y="2286000"/>
              <a:ext cx="457200" cy="30492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029200" y="1905120"/>
              <a:ext cx="609480" cy="457200"/>
            </a:xfrm>
            <a:prstGeom prst="rightArrow">
              <a:avLst>
                <a:gd name="adj1" fmla="val 50000"/>
                <a:gd name="adj2" fmla="val 33327"/>
              </a:avLst>
            </a:prstGeom>
            <a:solidFill>
              <a:srgbClr val="6699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762120" y="3809880"/>
            <a:ext cx="4038480" cy="685800"/>
          </a:xfrm>
          <a:prstGeom prst="rect">
            <a:avLst/>
          </a:prstGeom>
          <a:gradFill rotWithShape="0">
            <a:gsLst>
              <a:gs pos="0">
                <a:srgbClr val="005500"/>
              </a:gs>
              <a:gs pos="100000">
                <a:srgbClr val="002700"/>
              </a:gs>
            </a:gsLst>
            <a:lin ang="5400000"/>
          </a:gradFill>
          <a:ln w="28440">
            <a:solidFill>
              <a:srgbClr val="ffd961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7438"/>
                </a:solidFill>
                <a:latin typeface="Courier New"/>
              </a:rPr>
              <a:t>int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] Array3D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rray3D = </a:t>
            </a:r>
            <a:r>
              <a:rPr b="1" lang="en-US" sz="2000" spc="-1" strike="noStrike">
                <a:solidFill>
                  <a:srgbClr val="6699ff"/>
                </a:solidFill>
                <a:latin typeface="Courier New"/>
              </a:rPr>
              <a:t>new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fa7438"/>
                </a:solidFill>
                <a:latin typeface="Courier New"/>
              </a:rPr>
              <a:t>int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3,5]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5029200" y="3200400"/>
            <a:ext cx="3657600" cy="1371600"/>
            <a:chOff x="5029200" y="3200400"/>
            <a:chExt cx="3657600" cy="1371600"/>
          </a:xfrm>
        </p:grpSpPr>
        <p:grpSp>
          <p:nvGrpSpPr>
            <p:cNvPr id="190" name=""/>
            <p:cNvGrpSpPr/>
            <p:nvPr/>
          </p:nvGrpSpPr>
          <p:grpSpPr>
            <a:xfrm>
              <a:off x="6400800" y="3200400"/>
              <a:ext cx="2286000" cy="914400"/>
              <a:chOff x="6400800" y="3200400"/>
              <a:chExt cx="2286000" cy="914400"/>
            </a:xfrm>
          </p:grpSpPr>
          <p:sp>
            <p:nvSpPr>
              <p:cNvPr id="191" name=""/>
              <p:cNvSpPr/>
              <p:nvPr/>
            </p:nvSpPr>
            <p:spPr>
              <a:xfrm>
                <a:off x="6400800" y="3200400"/>
                <a:ext cx="457200" cy="30492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6858000" y="3200400"/>
                <a:ext cx="457200" cy="30492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7315200" y="3200400"/>
                <a:ext cx="457200" cy="30492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7772400" y="3200400"/>
                <a:ext cx="457200" cy="30492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8229600" y="3200400"/>
                <a:ext cx="457200" cy="30492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6400800" y="3505320"/>
                <a:ext cx="457200" cy="30456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6858000" y="3505320"/>
                <a:ext cx="457200" cy="30456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315200" y="3505320"/>
                <a:ext cx="457200" cy="30456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7772400" y="3505320"/>
                <a:ext cx="457200" cy="30456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8229600" y="3505320"/>
                <a:ext cx="457200" cy="30456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6400800" y="3809880"/>
                <a:ext cx="457200" cy="30492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858000" y="3809880"/>
                <a:ext cx="457200" cy="30492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7315200" y="3809880"/>
                <a:ext cx="457200" cy="30492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7772400" y="3809880"/>
                <a:ext cx="457200" cy="30492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8229600" y="3809880"/>
                <a:ext cx="457200" cy="30492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6" name=""/>
            <p:cNvGrpSpPr/>
            <p:nvPr/>
          </p:nvGrpSpPr>
          <p:grpSpPr>
            <a:xfrm>
              <a:off x="6248520" y="3352680"/>
              <a:ext cx="2286000" cy="914400"/>
              <a:chOff x="6248520" y="3352680"/>
              <a:chExt cx="2286000" cy="914400"/>
            </a:xfrm>
          </p:grpSpPr>
          <p:sp>
            <p:nvSpPr>
              <p:cNvPr id="207" name=""/>
              <p:cNvSpPr/>
              <p:nvPr/>
            </p:nvSpPr>
            <p:spPr>
              <a:xfrm>
                <a:off x="6248520" y="3352680"/>
                <a:ext cx="457200" cy="30492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6705720" y="3352680"/>
                <a:ext cx="457200" cy="30492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7162920" y="3352680"/>
                <a:ext cx="457200" cy="30492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7620120" y="3352680"/>
                <a:ext cx="457200" cy="30492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8077320" y="3352680"/>
                <a:ext cx="457200" cy="30492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6248520" y="3657600"/>
                <a:ext cx="457200" cy="30456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6705720" y="3657600"/>
                <a:ext cx="457200" cy="30456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7162920" y="3657600"/>
                <a:ext cx="457200" cy="30456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7620120" y="3657600"/>
                <a:ext cx="457200" cy="30456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8077320" y="3657600"/>
                <a:ext cx="457200" cy="30456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6248520" y="3962160"/>
                <a:ext cx="457200" cy="30492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6705720" y="3962160"/>
                <a:ext cx="457200" cy="30492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7162920" y="3962160"/>
                <a:ext cx="457200" cy="30492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7620120" y="3962160"/>
                <a:ext cx="457200" cy="30492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8077320" y="3962160"/>
                <a:ext cx="457200" cy="30492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22" name=""/>
            <p:cNvGrpSpPr/>
            <p:nvPr/>
          </p:nvGrpSpPr>
          <p:grpSpPr>
            <a:xfrm>
              <a:off x="6095880" y="3505320"/>
              <a:ext cx="2286000" cy="914400"/>
              <a:chOff x="6095880" y="3505320"/>
              <a:chExt cx="2286000" cy="914400"/>
            </a:xfrm>
          </p:grpSpPr>
          <p:sp>
            <p:nvSpPr>
              <p:cNvPr id="223" name=""/>
              <p:cNvSpPr/>
              <p:nvPr/>
            </p:nvSpPr>
            <p:spPr>
              <a:xfrm>
                <a:off x="6095880" y="3505320"/>
                <a:ext cx="457200" cy="30492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6553080" y="3505320"/>
                <a:ext cx="457200" cy="30492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7010280" y="3505320"/>
                <a:ext cx="457200" cy="30492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7467480" y="3505320"/>
                <a:ext cx="457200" cy="30492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7924680" y="3505320"/>
                <a:ext cx="457200" cy="30492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6095880" y="3810240"/>
                <a:ext cx="457200" cy="30456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6553080" y="3810240"/>
                <a:ext cx="457200" cy="30456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7010280" y="3810240"/>
                <a:ext cx="457200" cy="30456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7467480" y="3810240"/>
                <a:ext cx="457200" cy="30456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7924680" y="3810240"/>
                <a:ext cx="457200" cy="30456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6095880" y="4114800"/>
                <a:ext cx="457200" cy="30492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6553080" y="4114800"/>
                <a:ext cx="457200" cy="30492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7010280" y="4114800"/>
                <a:ext cx="457200" cy="30492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7467480" y="4114800"/>
                <a:ext cx="457200" cy="30492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7924680" y="4114800"/>
                <a:ext cx="457200" cy="30492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38" name=""/>
            <p:cNvGrpSpPr/>
            <p:nvPr/>
          </p:nvGrpSpPr>
          <p:grpSpPr>
            <a:xfrm>
              <a:off x="5943600" y="3657600"/>
              <a:ext cx="2286000" cy="914400"/>
              <a:chOff x="5943600" y="3657600"/>
              <a:chExt cx="2286000" cy="914400"/>
            </a:xfrm>
          </p:grpSpPr>
          <p:sp>
            <p:nvSpPr>
              <p:cNvPr id="239" name=""/>
              <p:cNvSpPr/>
              <p:nvPr/>
            </p:nvSpPr>
            <p:spPr>
              <a:xfrm>
                <a:off x="5943600" y="3657600"/>
                <a:ext cx="457200" cy="30492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6400800" y="3657600"/>
                <a:ext cx="457200" cy="30492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6858000" y="3657600"/>
                <a:ext cx="457200" cy="30492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7315200" y="3657600"/>
                <a:ext cx="457200" cy="30492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7772400" y="3657600"/>
                <a:ext cx="457200" cy="30492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5943600" y="3962520"/>
                <a:ext cx="457200" cy="30456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6400800" y="3962520"/>
                <a:ext cx="457200" cy="30456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6858000" y="3962520"/>
                <a:ext cx="457200" cy="30456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7315200" y="3962520"/>
                <a:ext cx="457200" cy="30456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7772400" y="3962520"/>
                <a:ext cx="457200" cy="30456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5943600" y="4267080"/>
                <a:ext cx="457200" cy="30492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6400800" y="4267080"/>
                <a:ext cx="457200" cy="30492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6858000" y="4267080"/>
                <a:ext cx="457200" cy="30492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7315200" y="4267080"/>
                <a:ext cx="457200" cy="30492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7772400" y="4267080"/>
                <a:ext cx="457200" cy="30492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54" name=""/>
            <p:cNvSpPr/>
            <p:nvPr/>
          </p:nvSpPr>
          <p:spPr>
            <a:xfrm>
              <a:off x="5029200" y="3886200"/>
              <a:ext cx="609480" cy="457200"/>
            </a:xfrm>
            <a:prstGeom prst="rightArrow">
              <a:avLst>
                <a:gd name="adj1" fmla="val 50000"/>
                <a:gd name="adj2" fmla="val 33327"/>
              </a:avLst>
            </a:prstGeom>
            <a:solidFill>
              <a:srgbClr val="6699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strips dir="rd"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3060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5" name=""/>
          <p:cNvGrpSpPr/>
          <p:nvPr/>
        </p:nvGrpSpPr>
        <p:grpSpPr>
          <a:xfrm>
            <a:off x="6705720" y="1752480"/>
            <a:ext cx="2133360" cy="609480"/>
            <a:chOff x="6705720" y="1752480"/>
            <a:chExt cx="2133360" cy="609480"/>
          </a:xfrm>
        </p:grpSpPr>
        <p:grpSp>
          <p:nvGrpSpPr>
            <p:cNvPr id="256" name=""/>
            <p:cNvGrpSpPr/>
            <p:nvPr/>
          </p:nvGrpSpPr>
          <p:grpSpPr>
            <a:xfrm>
              <a:off x="7467480" y="1752480"/>
              <a:ext cx="1371600" cy="609480"/>
              <a:chOff x="7467480" y="1752480"/>
              <a:chExt cx="1371600" cy="609480"/>
            </a:xfrm>
          </p:grpSpPr>
          <p:sp>
            <p:nvSpPr>
              <p:cNvPr id="257" name=""/>
              <p:cNvSpPr/>
              <p:nvPr/>
            </p:nvSpPr>
            <p:spPr>
              <a:xfrm>
                <a:off x="7924680" y="1752480"/>
                <a:ext cx="457200" cy="30456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8381880" y="1752480"/>
                <a:ext cx="457200" cy="30456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7467480" y="1752480"/>
                <a:ext cx="457200" cy="30456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7924680" y="2057040"/>
                <a:ext cx="457200" cy="30492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8381880" y="2057040"/>
                <a:ext cx="457200" cy="30492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7467480" y="2057040"/>
                <a:ext cx="457200" cy="30492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63" name=""/>
            <p:cNvSpPr/>
            <p:nvPr/>
          </p:nvSpPr>
          <p:spPr>
            <a:xfrm>
              <a:off x="6705720" y="1828800"/>
              <a:ext cx="609480" cy="457200"/>
            </a:xfrm>
            <a:prstGeom prst="rightArrow">
              <a:avLst>
                <a:gd name="adj1" fmla="val 50000"/>
                <a:gd name="adj2" fmla="val 33327"/>
              </a:avLst>
            </a:prstGeom>
            <a:solidFill>
              <a:srgbClr val="6699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80520" y="187560"/>
            <a:ext cx="8393400" cy="8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d961"/>
                </a:solidFill>
                <a:latin typeface="EucrosiaUPC"/>
              </a:rPr>
              <a:t>การกำหนดค่าเริ่มต้น</a:t>
            </a:r>
            <a:endParaRPr b="1" lang="en-US" sz="5400" spc="-1" strike="noStrike">
              <a:solidFill>
                <a:srgbClr val="ffd961"/>
              </a:solidFill>
              <a:latin typeface="EucrosiaUPC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380520" y="1066680"/>
            <a:ext cx="8388360" cy="432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65920" indent="-565920">
              <a:lnSpc>
                <a:spcPct val="90000"/>
              </a:lnSpc>
              <a:spcBef>
                <a:spcPts val="451"/>
              </a:spcBef>
              <a:buClr>
                <a:srgbClr val="ffd961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EucrosiaUPC"/>
              </a:rPr>
              <a:t>แบบที่หนึ่ง เช่น</a:t>
            </a:r>
            <a:endParaRPr b="0" lang="en-US" sz="3600" spc="-1" strike="noStrike">
              <a:solidFill>
                <a:srgbClr val="ffffff"/>
              </a:solidFill>
              <a:latin typeface="EucrosiaUPC"/>
            </a:endParaRPr>
          </a:p>
          <a:p>
            <a:pPr lvl="1" marL="10184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EucrosiaUPC"/>
            </a:endParaRPr>
          </a:p>
          <a:p>
            <a:pPr lvl="1" marL="10184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EucrosiaUPC"/>
            </a:endParaRPr>
          </a:p>
          <a:p>
            <a:pPr marL="565920" indent="-565920">
              <a:lnSpc>
                <a:spcPct val="90000"/>
              </a:lnSpc>
              <a:spcBef>
                <a:spcPts val="451"/>
              </a:spcBef>
              <a:buClr>
                <a:srgbClr val="ffd961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EucrosiaUPC"/>
              </a:rPr>
              <a:t>แบบที่สอง เช่น</a:t>
            </a:r>
            <a:endParaRPr b="0" lang="en-US" sz="3600" spc="-1" strike="noStrike">
              <a:solidFill>
                <a:srgbClr val="ffffff"/>
              </a:solidFill>
              <a:latin typeface="EucrosiaUPC"/>
            </a:endParaRPr>
          </a:p>
          <a:p>
            <a:pPr marL="5659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EucrosiaUPC"/>
            </a:endParaRPr>
          </a:p>
          <a:p>
            <a:pPr marL="5659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EucrosiaUPC"/>
            </a:endParaRPr>
          </a:p>
          <a:p>
            <a:pPr marL="5659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EucrosiaUPC"/>
            </a:endParaRPr>
          </a:p>
          <a:p>
            <a:pPr marL="565920" indent="-565920">
              <a:lnSpc>
                <a:spcPct val="90000"/>
              </a:lnSpc>
              <a:spcBef>
                <a:spcPts val="451"/>
              </a:spcBef>
              <a:buClr>
                <a:srgbClr val="ffd961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EucrosiaUPC"/>
              </a:rPr>
              <a:t>แบบที่สามอย่างย่อ เช่น</a:t>
            </a:r>
            <a:endParaRPr b="0" lang="en-US" sz="3600" spc="-1" strike="noStrike">
              <a:solidFill>
                <a:srgbClr val="ffffff"/>
              </a:solidFill>
              <a:latin typeface="EucrosiaUPC"/>
            </a:endParaRPr>
          </a:p>
        </p:txBody>
      </p:sp>
      <p:sp>
        <p:nvSpPr>
          <p:cNvPr id="266" name=""/>
          <p:cNvSpPr/>
          <p:nvPr/>
        </p:nvSpPr>
        <p:spPr>
          <a:xfrm>
            <a:off x="1066680" y="1752480"/>
            <a:ext cx="5486400" cy="533520"/>
          </a:xfrm>
          <a:prstGeom prst="rect">
            <a:avLst/>
          </a:prstGeom>
          <a:gradFill rotWithShape="0">
            <a:gsLst>
              <a:gs pos="0">
                <a:srgbClr val="005500"/>
              </a:gs>
              <a:gs pos="100000">
                <a:srgbClr val="002700"/>
              </a:gs>
            </a:gsLst>
            <a:lin ang="5400000"/>
          </a:gradFill>
          <a:ln w="28440">
            <a:solidFill>
              <a:srgbClr val="ffd961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a7438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,] Array2D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Array2D = </a:t>
            </a:r>
            <a:r>
              <a:rPr b="1" lang="en-US" sz="1600" spc="-1" strike="noStrike">
                <a:solidFill>
                  <a:srgbClr val="6699ff"/>
                </a:solidFill>
                <a:latin typeface="Courier New"/>
              </a:rPr>
              <a:t>new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fa7438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2,3] {{5,4,3},{2,1,0}}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43000" y="3276720"/>
            <a:ext cx="4267080" cy="1295280"/>
          </a:xfrm>
          <a:prstGeom prst="rect">
            <a:avLst/>
          </a:prstGeom>
          <a:gradFill rotWithShape="0">
            <a:gsLst>
              <a:gs pos="0">
                <a:srgbClr val="005500"/>
              </a:gs>
              <a:gs pos="100000">
                <a:srgbClr val="002700"/>
              </a:gs>
            </a:gsLst>
            <a:lin ang="5400000"/>
          </a:gradFill>
          <a:ln w="28440">
            <a:solidFill>
              <a:srgbClr val="ffd961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a7438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,] Array2D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Array2D = </a:t>
            </a:r>
            <a:r>
              <a:rPr b="1" lang="en-US" sz="1600" spc="-1" strike="noStrike">
                <a:solidFill>
                  <a:srgbClr val="6699ff"/>
                </a:solidFill>
                <a:latin typeface="Courier New"/>
              </a:rPr>
              <a:t>new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fa7438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,]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{5,4,3}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{2,1,0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143000" y="5410080"/>
            <a:ext cx="4267080" cy="1295640"/>
          </a:xfrm>
          <a:prstGeom prst="rect">
            <a:avLst/>
          </a:prstGeom>
          <a:gradFill rotWithShape="0">
            <a:gsLst>
              <a:gs pos="0">
                <a:srgbClr val="005500"/>
              </a:gs>
              <a:gs pos="100000">
                <a:srgbClr val="002700"/>
              </a:gs>
            </a:gsLst>
            <a:lin ang="5400000"/>
          </a:gradFill>
          <a:ln w="28440">
            <a:solidFill>
              <a:srgbClr val="ffd961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a7438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,] Array2D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Array2D =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{5,4,3}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{2,1,0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9" name=""/>
          <p:cNvGrpSpPr/>
          <p:nvPr/>
        </p:nvGrpSpPr>
        <p:grpSpPr>
          <a:xfrm>
            <a:off x="7467480" y="1752480"/>
            <a:ext cx="1371600" cy="609840"/>
            <a:chOff x="7467480" y="1752480"/>
            <a:chExt cx="1371600" cy="609840"/>
          </a:xfrm>
        </p:grpSpPr>
        <p:sp>
          <p:nvSpPr>
            <p:cNvPr id="270" name=""/>
            <p:cNvSpPr/>
            <p:nvPr/>
          </p:nvSpPr>
          <p:spPr>
            <a:xfrm>
              <a:off x="7467480" y="1752480"/>
              <a:ext cx="457200" cy="30492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5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7924680" y="1752480"/>
              <a:ext cx="457200" cy="30492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4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8381880" y="1752480"/>
              <a:ext cx="457200" cy="30492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7467480" y="2057400"/>
              <a:ext cx="457200" cy="30492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924680" y="2057400"/>
              <a:ext cx="457200" cy="30492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8381880" y="2057400"/>
              <a:ext cx="457200" cy="30492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strips dir="rd"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3060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80520" y="187560"/>
            <a:ext cx="8393400" cy="8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d961"/>
                </a:solidFill>
                <a:latin typeface="EucrosiaUPC"/>
              </a:rPr>
              <a:t>การเข้าถึงข้อมูลในอาเรย์</a:t>
            </a:r>
            <a:endParaRPr b="1" lang="en-US" sz="5400" spc="-1" strike="noStrike">
              <a:solidFill>
                <a:srgbClr val="ffd961"/>
              </a:solidFill>
              <a:latin typeface="EucrosiaUPC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380520" y="1066680"/>
            <a:ext cx="838836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499"/>
              </a:spcBef>
              <a:buClr>
                <a:srgbClr val="ffd961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EucrosiaUPC"/>
              </a:rPr>
              <a:t>จำนวนตัวเลขที่ใช้เป็นดัชนีขึ้นอยู่กับจำนวนมิติของอาเรย์</a:t>
            </a: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3962520" y="2362320"/>
            <a:ext cx="1828800" cy="1523880"/>
            <a:chOff x="3962520" y="2362320"/>
            <a:chExt cx="1828800" cy="1523880"/>
          </a:xfrm>
        </p:grpSpPr>
        <p:sp>
          <p:nvSpPr>
            <p:cNvPr id="279" name=""/>
            <p:cNvSpPr/>
            <p:nvPr/>
          </p:nvSpPr>
          <p:spPr>
            <a:xfrm>
              <a:off x="4419720" y="2362320"/>
              <a:ext cx="457200" cy="3045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5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4876920" y="2362320"/>
              <a:ext cx="457200" cy="3045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24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334120" y="2362320"/>
              <a:ext cx="457200" cy="3045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419720" y="2666880"/>
              <a:ext cx="457200" cy="30492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7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876920" y="2666880"/>
              <a:ext cx="457200" cy="30492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1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334120" y="2666880"/>
              <a:ext cx="457200" cy="30492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3962520" y="2362320"/>
              <a:ext cx="4572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cc66"/>
                  </a:solidFill>
                  <a:latin typeface="Courier New"/>
                  <a:ea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3962520" y="2666880"/>
              <a:ext cx="4572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cc66"/>
                  </a:solidFill>
                  <a:latin typeface="Courier New"/>
                  <a:ea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419720" y="2971800"/>
              <a:ext cx="457200" cy="30492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4876920" y="2971800"/>
              <a:ext cx="457200" cy="30492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334120" y="2971800"/>
              <a:ext cx="457200" cy="30492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67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419720" y="3276720"/>
              <a:ext cx="457200" cy="3045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37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4876920" y="3276720"/>
              <a:ext cx="457200" cy="3045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5334120" y="3276720"/>
              <a:ext cx="457200" cy="3045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962520" y="2971800"/>
              <a:ext cx="4572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cc66"/>
                  </a:solidFill>
                  <a:latin typeface="Courier New"/>
                  <a:ea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962520" y="3276720"/>
              <a:ext cx="4572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cc66"/>
                  </a:solidFill>
                  <a:latin typeface="Courier New"/>
                  <a:ea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4419720" y="3581280"/>
              <a:ext cx="4572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99ff"/>
                  </a:solidFill>
                  <a:latin typeface="Courier New"/>
                  <a:ea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4876920" y="3581280"/>
              <a:ext cx="4572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99ff"/>
                  </a:solidFill>
                  <a:latin typeface="Courier New"/>
                  <a:ea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334120" y="3581280"/>
              <a:ext cx="4572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99ff"/>
                  </a:solidFill>
                  <a:latin typeface="Courier New"/>
                  <a:ea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98" name=""/>
          <p:cNvSpPr/>
          <p:nvPr/>
        </p:nvSpPr>
        <p:spPr>
          <a:xfrm>
            <a:off x="1219320" y="2286000"/>
            <a:ext cx="1981080" cy="152388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100000">
                <a:srgbClr val="002f00"/>
              </a:gs>
            </a:gsLst>
            <a:lin ang="5400000"/>
          </a:gradFill>
          <a:ln w="28440">
            <a:solidFill>
              <a:srgbClr val="ffd961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a7438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,] A =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{51,24,3}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{72,11,90}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{42,41,67}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{37,1,0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429000" y="2743200"/>
            <a:ext cx="457200" cy="5335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a7438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876920" y="2666880"/>
            <a:ext cx="457200" cy="304920"/>
          </a:xfrm>
          <a:prstGeom prst="rect">
            <a:avLst/>
          </a:prstGeom>
          <a:solidFill>
            <a:srgbClr val="fa7438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1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419720" y="2971800"/>
            <a:ext cx="457200" cy="304920"/>
          </a:xfrm>
          <a:prstGeom prst="rect">
            <a:avLst/>
          </a:prstGeom>
          <a:solidFill>
            <a:srgbClr val="6699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4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5334120" y="3276720"/>
            <a:ext cx="457200" cy="304560"/>
          </a:xfrm>
          <a:prstGeom prst="rect">
            <a:avLst/>
          </a:prstGeom>
          <a:solidFill>
            <a:srgbClr val="66cc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6172200" y="4114800"/>
            <a:ext cx="1219320" cy="380880"/>
          </a:xfrm>
          <a:prstGeom prst="wedgeRoundRectCallout">
            <a:avLst>
              <a:gd name="adj1" fmla="val -91407"/>
              <a:gd name="adj2" fmla="val -217499"/>
              <a:gd name="adj3" fmla="val 16667"/>
            </a:avLst>
          </a:prstGeom>
          <a:solidFill>
            <a:srgbClr val="66cc66">
              <a:alpha val="5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Arial"/>
              </a:rPr>
              <a:t>A[3,2]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6553080" y="2362320"/>
            <a:ext cx="1219320" cy="380880"/>
          </a:xfrm>
          <a:prstGeom prst="wedgeRoundRectCallout">
            <a:avLst>
              <a:gd name="adj1" fmla="val -158203"/>
              <a:gd name="adj2" fmla="val 65416"/>
              <a:gd name="adj3" fmla="val 16667"/>
            </a:avLst>
          </a:prstGeom>
          <a:solidFill>
            <a:srgbClr val="fa7438">
              <a:alpha val="5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Arial"/>
              </a:rPr>
              <a:t>A[1,1]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200400" y="4114800"/>
            <a:ext cx="1219320" cy="380880"/>
          </a:xfrm>
          <a:prstGeom prst="wedgeRoundRectCallout">
            <a:avLst>
              <a:gd name="adj1" fmla="val 57680"/>
              <a:gd name="adj2" fmla="val -284583"/>
              <a:gd name="adj3" fmla="val 16667"/>
            </a:avLst>
          </a:prstGeom>
          <a:solidFill>
            <a:srgbClr val="6699ff">
              <a:alpha val="5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Arial"/>
              </a:rPr>
              <a:t>A[2,0]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2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3060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80520" y="187560"/>
            <a:ext cx="8393400" cy="8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d961"/>
                </a:solidFill>
                <a:latin typeface="EucrosiaUPC"/>
              </a:rPr>
              <a:t>ขนาดของอาเรย์</a:t>
            </a:r>
            <a:endParaRPr b="1" lang="en-US" sz="5400" spc="-1" strike="noStrike">
              <a:solidFill>
                <a:srgbClr val="ffd961"/>
              </a:solidFill>
              <a:latin typeface="EucrosiaUPC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8388360" cy="235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499"/>
              </a:spcBef>
              <a:buClr>
                <a:srgbClr val="ffd961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EucrosiaUPC"/>
              </a:rPr>
              <a:t>ทบทวน</a:t>
            </a: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  <a:p>
            <a:pPr lvl="1" marL="1028880" indent="-455760">
              <a:lnSpc>
                <a:spcPct val="90000"/>
              </a:lnSpc>
              <a:spcBef>
                <a:spcPts val="451"/>
              </a:spcBef>
              <a:buClr>
                <a:srgbClr val="ffd961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66cc66"/>
                </a:solidFill>
                <a:latin typeface="EucrosiaUPC"/>
              </a:rPr>
              <a:t>Length</a:t>
            </a:r>
            <a:r>
              <a:rPr b="0" lang="en-US" sz="3600" spc="-1" strike="noStrike">
                <a:solidFill>
                  <a:srgbClr val="ffffff"/>
                </a:solidFill>
                <a:latin typeface="EucrosiaUPC"/>
              </a:rPr>
              <a:t> property</a:t>
            </a:r>
            <a:endParaRPr b="0" lang="en-US" sz="3600" spc="-1" strike="noStrike">
              <a:solidFill>
                <a:srgbClr val="ffffff"/>
              </a:solidFill>
              <a:latin typeface="EucrosiaUPC"/>
            </a:endParaRPr>
          </a:p>
          <a:p>
            <a:pPr lvl="1" marL="1028880" indent="-455760">
              <a:lnSpc>
                <a:spcPct val="90000"/>
              </a:lnSpc>
              <a:spcBef>
                <a:spcPts val="451"/>
              </a:spcBef>
              <a:buClr>
                <a:srgbClr val="ffd961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66cc66"/>
                </a:solidFill>
                <a:latin typeface="EucrosiaUPC"/>
              </a:rPr>
              <a:t>GetLength</a:t>
            </a:r>
            <a:r>
              <a:rPr b="0" lang="en-US" sz="3600" spc="-1" strike="noStrike">
                <a:solidFill>
                  <a:srgbClr val="ffffff"/>
                </a:solidFill>
                <a:latin typeface="EucrosiaUPC"/>
              </a:rPr>
              <a:t> method</a:t>
            </a:r>
            <a:endParaRPr b="0" lang="en-US" sz="3600" spc="-1" strike="noStrike">
              <a:solidFill>
                <a:srgbClr val="ffffff"/>
              </a:solidFill>
              <a:latin typeface="EucrosiaUPC"/>
            </a:endParaRPr>
          </a:p>
          <a:p>
            <a:pPr marL="571680" indent="-571680">
              <a:lnSpc>
                <a:spcPct val="90000"/>
              </a:lnSpc>
              <a:spcBef>
                <a:spcPts val="499"/>
              </a:spcBef>
              <a:buClr>
                <a:srgbClr val="ffd961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EucrosiaUPC"/>
              </a:rPr>
              <a:t>ตัวอย่าง</a:t>
            </a: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</p:txBody>
      </p:sp>
      <p:sp>
        <p:nvSpPr>
          <p:cNvPr id="308" name=""/>
          <p:cNvSpPr/>
          <p:nvPr/>
        </p:nvSpPr>
        <p:spPr>
          <a:xfrm>
            <a:off x="990720" y="3581280"/>
            <a:ext cx="5715000" cy="2133720"/>
          </a:xfrm>
          <a:prstGeom prst="rect">
            <a:avLst/>
          </a:prstGeom>
          <a:gradFill rotWithShape="0">
            <a:gsLst>
              <a:gs pos="0">
                <a:srgbClr val="005500"/>
              </a:gs>
              <a:gs pos="100000">
                <a:srgbClr val="002700"/>
              </a:gs>
            </a:gsLst>
            <a:lin ang="5400000"/>
          </a:gradFill>
          <a:ln w="28440">
            <a:solidFill>
              <a:srgbClr val="ffd961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int[,] Array2D =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{5,4,3}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{2,1,0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nsole.WriteLine(Array2D.GetLength(0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nsole.WriteLine(Array2D.GetLength(1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nsole.WriteLine(Array2D.Length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5638680" y="1828800"/>
            <a:ext cx="1676160" cy="990000"/>
            <a:chOff x="5638680" y="1828800"/>
            <a:chExt cx="1676160" cy="990000"/>
          </a:xfrm>
        </p:grpSpPr>
        <p:sp>
          <p:nvSpPr>
            <p:cNvPr id="310" name=""/>
            <p:cNvSpPr/>
            <p:nvPr/>
          </p:nvSpPr>
          <p:spPr>
            <a:xfrm>
              <a:off x="5638680" y="1828800"/>
              <a:ext cx="558720" cy="4953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5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6197400" y="1828800"/>
              <a:ext cx="558720" cy="4953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4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756120" y="1828800"/>
              <a:ext cx="558720" cy="4953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5638680" y="2324160"/>
              <a:ext cx="558720" cy="4946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197400" y="2324160"/>
              <a:ext cx="558720" cy="4946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756120" y="2324160"/>
              <a:ext cx="558720" cy="4946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6" name=""/>
          <p:cNvGrpSpPr/>
          <p:nvPr/>
        </p:nvGrpSpPr>
        <p:grpSpPr>
          <a:xfrm>
            <a:off x="7391520" y="1828800"/>
            <a:ext cx="1672560" cy="990360"/>
            <a:chOff x="7391520" y="1828800"/>
            <a:chExt cx="1672560" cy="990360"/>
          </a:xfrm>
        </p:grpSpPr>
        <p:grpSp>
          <p:nvGrpSpPr>
            <p:cNvPr id="317" name=""/>
            <p:cNvGrpSpPr/>
            <p:nvPr/>
          </p:nvGrpSpPr>
          <p:grpSpPr>
            <a:xfrm>
              <a:off x="7391520" y="1828800"/>
              <a:ext cx="152280" cy="990360"/>
              <a:chOff x="7391520" y="1828800"/>
              <a:chExt cx="152280" cy="990360"/>
            </a:xfrm>
          </p:grpSpPr>
          <p:sp>
            <p:nvSpPr>
              <p:cNvPr id="318" name=""/>
              <p:cNvSpPr/>
              <p:nvPr/>
            </p:nvSpPr>
            <p:spPr>
              <a:xfrm>
                <a:off x="7391520" y="1828800"/>
                <a:ext cx="152280" cy="0"/>
              </a:xfrm>
              <a:prstGeom prst="line">
                <a:avLst/>
              </a:prstGeom>
              <a:ln w="12600">
                <a:solidFill>
                  <a:srgbClr val="ffd96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7391520" y="2819160"/>
                <a:ext cx="152280" cy="0"/>
              </a:xfrm>
              <a:prstGeom prst="line">
                <a:avLst/>
              </a:prstGeom>
              <a:ln w="12600">
                <a:solidFill>
                  <a:srgbClr val="ffd96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7467480" y="1828800"/>
                <a:ext cx="0" cy="990360"/>
              </a:xfrm>
              <a:prstGeom prst="line">
                <a:avLst/>
              </a:prstGeom>
              <a:ln w="12600">
                <a:solidFill>
                  <a:srgbClr val="ffd961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7420320" y="2178000"/>
              <a:ext cx="1643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d961"/>
                  </a:solidFill>
                  <a:latin typeface="Courier New"/>
                  <a:ea typeface="Arial"/>
                </a:rPr>
                <a:t>GetLength(0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5638680" y="1339920"/>
            <a:ext cx="1676160" cy="412560"/>
            <a:chOff x="5638680" y="1339920"/>
            <a:chExt cx="1676160" cy="412560"/>
          </a:xfrm>
        </p:grpSpPr>
        <p:grpSp>
          <p:nvGrpSpPr>
            <p:cNvPr id="323" name=""/>
            <p:cNvGrpSpPr/>
            <p:nvPr/>
          </p:nvGrpSpPr>
          <p:grpSpPr>
            <a:xfrm>
              <a:off x="5638680" y="1600200"/>
              <a:ext cx="1676160" cy="152280"/>
              <a:chOff x="5638680" y="1600200"/>
              <a:chExt cx="1676160" cy="152280"/>
            </a:xfrm>
          </p:grpSpPr>
          <p:sp>
            <p:nvSpPr>
              <p:cNvPr id="324" name=""/>
              <p:cNvSpPr/>
              <p:nvPr/>
            </p:nvSpPr>
            <p:spPr>
              <a:xfrm>
                <a:off x="5638680" y="1600200"/>
                <a:ext cx="0" cy="152280"/>
              </a:xfrm>
              <a:prstGeom prst="line">
                <a:avLst/>
              </a:prstGeom>
              <a:ln w="12600">
                <a:solidFill>
                  <a:srgbClr val="fa743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7314840" y="1600200"/>
                <a:ext cx="0" cy="152280"/>
              </a:xfrm>
              <a:prstGeom prst="line">
                <a:avLst/>
              </a:prstGeom>
              <a:ln w="12600">
                <a:solidFill>
                  <a:srgbClr val="fa743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5638680" y="1676160"/>
                <a:ext cx="1676160" cy="0"/>
              </a:xfrm>
              <a:prstGeom prst="line">
                <a:avLst/>
              </a:prstGeom>
              <a:ln w="12600">
                <a:solidFill>
                  <a:srgbClr val="fa7438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27" name=""/>
            <p:cNvSpPr/>
            <p:nvPr/>
          </p:nvSpPr>
          <p:spPr>
            <a:xfrm>
              <a:off x="5642280" y="1339920"/>
              <a:ext cx="1643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7438"/>
                  </a:solidFill>
                  <a:latin typeface="Courier New"/>
                  <a:ea typeface="Arial"/>
                </a:rPr>
                <a:t>GetLength(1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8" name=""/>
          <p:cNvSpPr/>
          <p:nvPr/>
        </p:nvSpPr>
        <p:spPr>
          <a:xfrm>
            <a:off x="5486400" y="1676520"/>
            <a:ext cx="1981080" cy="1295280"/>
          </a:xfrm>
          <a:prstGeom prst="ellipse">
            <a:avLst/>
          </a:prstGeom>
          <a:solidFill>
            <a:srgbClr val="00ffff">
              <a:alpha val="4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6858000" y="3429000"/>
            <a:ext cx="1600200" cy="533520"/>
          </a:xfrm>
          <a:prstGeom prst="wedgeRoundRectCallout">
            <a:avLst>
              <a:gd name="adj1" fmla="val -46527"/>
              <a:gd name="adj2" fmla="val -151189"/>
              <a:gd name="adj3" fmla="val 16667"/>
            </a:avLst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99ff"/>
                </a:solidFill>
                <a:latin typeface="Courier New"/>
                <a:ea typeface="Arial"/>
              </a:rPr>
              <a:t>Lengt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9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9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4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2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3060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520" y="187560"/>
            <a:ext cx="8393400" cy="8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d961"/>
                </a:solidFill>
                <a:latin typeface="EucrosiaUPC"/>
              </a:rPr>
              <a:t>แบบฝึกหัด</a:t>
            </a:r>
            <a:endParaRPr b="1" lang="en-US" sz="5400" spc="-1" strike="noStrike">
              <a:solidFill>
                <a:srgbClr val="ffd961"/>
              </a:solidFill>
              <a:latin typeface="EucrosiaUPC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380520" y="1066680"/>
            <a:ext cx="41180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451"/>
              </a:spcBef>
              <a:buClr>
                <a:srgbClr val="ffd961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EucrosiaUPC"/>
              </a:rPr>
              <a:t>พิจารณาอาเรย์</a:t>
            </a:r>
            <a:endParaRPr b="0" lang="en-US" sz="3600" spc="-1" strike="noStrike">
              <a:solidFill>
                <a:srgbClr val="ffffff"/>
              </a:solidFill>
              <a:latin typeface="EucrosiaUPC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190760" y="1066680"/>
            <a:ext cx="457812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451"/>
              </a:spcBef>
              <a:buClr>
                <a:srgbClr val="ffd961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EucrosiaUPC"/>
              </a:rPr>
              <a:t>จงหาค่าของนิพจน์ต่อไปนี้</a:t>
            </a:r>
            <a:endParaRPr b="0" lang="en-US" sz="3600" spc="-1" strike="noStrike">
              <a:solidFill>
                <a:srgbClr val="ffffff"/>
              </a:solidFill>
              <a:latin typeface="EucrosiaUPC"/>
            </a:endParaRPr>
          </a:p>
        </p:txBody>
      </p:sp>
      <p:sp>
        <p:nvSpPr>
          <p:cNvPr id="333" name=""/>
          <p:cNvSpPr/>
          <p:nvPr/>
        </p:nvSpPr>
        <p:spPr>
          <a:xfrm>
            <a:off x="1295280" y="1676520"/>
            <a:ext cx="2971800" cy="228600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100000">
                <a:srgbClr val="002f00"/>
              </a:gs>
            </a:gsLst>
            <a:lin ang="5400000"/>
          </a:gradFill>
          <a:ln w="28440">
            <a:solidFill>
              <a:srgbClr val="ffd961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int[,] A = {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{5,34,3,1}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{27,11,90,9}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{24,41,67,6}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{73,1,0,4}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{1,2,3,4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}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34" name=""/>
          <p:cNvGraphicFramePr/>
          <p:nvPr/>
        </p:nvGraphicFramePr>
        <p:xfrm>
          <a:off x="4648320" y="1676520"/>
          <a:ext cx="4295520" cy="3171600"/>
        </p:xfrm>
        <a:graphic>
          <a:graphicData uri="http://schemas.openxmlformats.org/drawingml/2006/table">
            <a:tbl>
              <a:tblPr/>
              <a:tblGrid>
                <a:gridCol w="3606840"/>
                <a:gridCol w="68868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Courier New"/>
                          <a:ea typeface="EucrosiaUPC"/>
                        </a:rPr>
                        <a:t>A[2,2]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478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Courier New"/>
                          <a:ea typeface="EucrosiaUPC"/>
                        </a:rPr>
                        <a:t>A[3,0]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478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Courier New"/>
                          <a:ea typeface="EucrosiaUPC"/>
                        </a:rPr>
                        <a:t>A[1,3]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478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Courier New"/>
                          <a:ea typeface="EucrosiaUPC"/>
                        </a:rPr>
                        <a:t>A.Length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478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Courier New"/>
                          <a:ea typeface="EucrosiaUPC"/>
                        </a:rPr>
                        <a:t>A.GetLength(0)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478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Courier New"/>
                          <a:ea typeface="EucrosiaUPC"/>
                        </a:rPr>
                        <a:t>A.GetLength(1)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478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</a:tbl>
          </a:graphicData>
        </a:graphic>
      </p:graphicFrame>
    </p:spTree>
  </p:cSld>
  <p:transition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07:07:14Z</dcterms:created>
  <dc:creator>Aphirak Jansang</dc:creator>
  <dc:description/>
  <cp:keywords/>
  <dc:language>en-US</dc:language>
  <cp:lastModifiedBy>Chaiporn Jaikaeo</cp:lastModifiedBy>
  <dcterms:modified xsi:type="dcterms:W3CDTF">2009-05-13T13:53:10Z</dcterms:modified>
  <cp:revision>809</cp:revision>
  <dc:subject>204111</dc:subject>
  <dc:title>module07: Array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875731033</vt:lpwstr>
  </property>
</Properties>
</file>