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F00-0BED-4477-BF8A-89A71AD5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245-7CC5-42D2-AAAF-E340FD1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F11-51FC-49CE-AF83-B0B8DB16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E1C-0E9F-4F95-B0C8-49B20D14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E29-D48A-4407-9605-20991F37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904-D361-4A70-BBC3-2BF09A2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D36-6D34-45D6-93C7-E49EB669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2CE-A839-46B7-A5E5-AE8733BA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CDB-5FBA-4C41-8D92-D6531E8F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4BA-A2D2-41B6-BDDB-63D4858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0C1-D353-41ED-8F63-DAD60E6E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9ED-C002-4080-8764-59B1107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54A3-4F06-44BB-8327-AE956A7B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programming.in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thailando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1773360"/>
            <a:ext cx="90378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07:28Z</dcterms:created>
  <dc:creator>Administrator</dc:creator>
  <dc:description/>
  <dc:language>en-US</dc:language>
  <cp:lastModifiedBy>Administrator</cp:lastModifiedBy>
  <dcterms:modified xsi:type="dcterms:W3CDTF">2009-05-15T03:13:09Z</dcterms:modified>
  <cp:revision>1</cp:revision>
  <dc:subject/>
  <dc:title>www.programming.in.th</dc:title>
</cp:coreProperties>
</file>