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1C66-5A1E-4344-BDB9-D690AA193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CD0C-EB83-4802-A3E4-2C58A81B5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DA31-FEE2-4922-BFAD-35805B491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A4C4-1658-43C2-9A9D-F3F3E7C36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4CE2-BA30-4906-80D0-AFA90905D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7019-2FA1-4324-851D-7396E79C3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9BEF-03E8-4A58-8398-AAEACC1F1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F229-29AE-46CE-8CF9-07B337C45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53C3-8C4E-4359-AD84-CA63C68F8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5AED-1D24-4C3C-935E-B26CC58E5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B6F6-6E76-4360-85FD-C7E6E60C5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107C-CB5D-48AF-A6EA-03405874B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05160" y="120600"/>
            <a:ext cx="6738840" cy="105588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000"/>
            <a:ext cx="9144000" cy="405000"/>
          </a:xfrm>
          <a:prstGeom prst="rect">
            <a:avLst/>
          </a:pr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3c230a"/>
          </a:solidFill>
          <a:ln w="93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258920" cy="11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589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187280" y="0"/>
          <a:ext cx="1224000" cy="117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0"/>
                    <a:ext cx="1224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c23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c23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5867280" y="64861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e7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09480" y="6489360"/>
            <a:ext cx="990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D534-0B90-45B4-804D-FCEDFCAD9C8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86080"/>
            <a:ext cx="7380360" cy="430200"/>
          </a:xfrm>
          <a:prstGeom prst="rect">
            <a:avLst/>
          </a:prstGeom>
          <a:solidFill>
            <a:srgbClr val="3c2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1495440"/>
            <a:ext cx="1835280" cy="42084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c57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230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3c23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c230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c23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23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852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# IDE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Sharp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1" name="" descr="Welcome to SharpDevelop, the open source IDE for .NET, supporting C#, VB.NET and Boo on .NET Framework 1.1, 2.0 and Mono"/>
          <p:cNvPicPr/>
          <p:nvPr/>
        </p:nvPicPr>
        <p:blipFill>
          <a:blip r:embed="rId1"/>
          <a:stretch/>
        </p:blipFill>
        <p:spPr>
          <a:xfrm>
            <a:off x="611280" y="990720"/>
            <a:ext cx="7705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C# Studio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24769"/>
          <a:stretch/>
        </p:blipFill>
        <p:spPr>
          <a:xfrm>
            <a:off x="468360" y="119700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Mono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7" name="" descr="ss-main-window.png"/>
          <p:cNvPicPr/>
          <p:nvPr/>
        </p:nvPicPr>
        <p:blipFill>
          <a:blip r:embed="rId1"/>
          <a:stretch/>
        </p:blipFill>
        <p:spPr>
          <a:xfrm>
            <a:off x="539640" y="1127160"/>
            <a:ext cx="77043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XACC.IDE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1787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WEB SITES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friend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ourc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ne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hai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pace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liv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sd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icrosof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e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u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v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defaul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asp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woguru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playground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_tutorial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inde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2:13:45Z</dcterms:created>
  <dc:creator>Com_ipst</dc:creator>
  <dc:description/>
  <dc:language>en-US</dc:language>
  <cp:lastModifiedBy>Com_ipst</cp:lastModifiedBy>
  <dcterms:modified xsi:type="dcterms:W3CDTF">2009-05-15T02:22:29Z</dcterms:modified>
  <cp:revision>3</cp:revision>
  <dc:subject/>
  <dc:title>C# IDE</dc:title>
</cp:coreProperties>
</file>