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328040"/>
            <a:ext cx="77724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d961"/>
                </a:solidFill>
                <a:latin typeface="EucrosiaUPC"/>
              </a:rPr>
              <a:t>การพัฒนาวินโดวส์แอพลิเคชันด้วย</a:t>
            </a: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Visual C#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872600"/>
            <a:ext cx="7861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อมโพเนนท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267440" cy="70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  <a:cs typeface="Angsana New"/>
              </a:rPr>
              <a:t>วัตถุในโปรแกรมที่มีหน้าที่รับผิดชอบงานหนึ่ง ๆ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  <a:cs typeface="Angsana New"/>
              </a:rPr>
              <a:t>เช่นปุ่มกด กล่องรับค่า ฯลฯ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ea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  <a:cs typeface="Angsana New"/>
              </a:rPr>
              <a:t>ออกแบบไว้เพื่อให้ทำงานร่วมกับคอมโพเนนท์อื่น ๆ ได้โดยง่าย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  <a:cs typeface="Angsana New"/>
              </a:rPr>
              <a:t>ประกอบไปด้วยคุณสมบัติ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Angsana New"/>
              </a:rPr>
              <a:t>(property)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  <a:cs typeface="Angsana New"/>
              </a:rPr>
              <a:t>และเหตุการณ์ที่ตอบสนองได้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Angsana New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  <a:ea typeface="Angsana New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Angsana New"/>
              </a:rPr>
              <a:t>events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  <a:ea typeface="Angsana Ne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343400" cy="365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คุณสมบัติ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Property) 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ของคอมโพเนนท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63751" t="49617" r="0" b="0"/>
          <a:stretch/>
        </p:blipFill>
        <p:spPr>
          <a:xfrm>
            <a:off x="1905120" y="1693800"/>
            <a:ext cx="5486400" cy="46116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-297000" y="3218040"/>
            <a:ext cx="4488120" cy="2516760"/>
            <a:chOff x="-297000" y="3218040"/>
            <a:chExt cx="4488120" cy="2516760"/>
          </a:xfrm>
        </p:grpSpPr>
        <p:sp>
          <p:nvSpPr>
            <p:cNvPr id="84" name=""/>
            <p:cNvSpPr/>
            <p:nvPr/>
          </p:nvSpPr>
          <p:spPr>
            <a:xfrm flipV="1">
              <a:off x="1066680" y="3218040"/>
              <a:ext cx="3124440" cy="1295280"/>
            </a:xfrm>
            <a:prstGeom prst="line">
              <a:avLst/>
            </a:prstGeom>
            <a:ln w="38160">
              <a:solidFill>
                <a:srgbClr val="fa7438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297000" y="4543560"/>
              <a:ext cx="254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a7438"/>
                  </a:solidFill>
                  <a:latin typeface="EucrosiaUPC"/>
                  <a:cs typeface="EucrosiaUPC"/>
                </a:rPr>
                <a:t>ดูรายการ </a:t>
              </a:r>
              <a:br>
                <a:rPr sz="2400"/>
              </a:br>
              <a:r>
                <a:rPr b="1" lang="en-US" sz="2400" spc="-1" strike="noStrike">
                  <a:solidFill>
                    <a:srgbClr val="fa7438"/>
                  </a:solidFill>
                  <a:latin typeface="EucrosiaUPC"/>
                  <a:ea typeface="EucrosiaUPC"/>
                </a:rPr>
                <a:t>property</a:t>
              </a:r>
              <a:r>
                <a:rPr b="1" lang="th-TH" sz="2400" spc="-1" strike="noStrike">
                  <a:solidFill>
                    <a:srgbClr val="fa7438"/>
                  </a:solidFill>
                  <a:latin typeface="EucrosiaUPC"/>
                  <a:ea typeface="EucrosiaUPC"/>
                </a:rPr>
                <a:t> </a:t>
              </a:r>
              <a:r>
                <a:rPr b="1" lang="th-TH" sz="2400" spc="-1" strike="noStrike">
                  <a:solidFill>
                    <a:srgbClr val="fa7438"/>
                  </a:solidFill>
                  <a:latin typeface="EucrosiaUPC"/>
                  <a:cs typeface="EucrosiaUPC"/>
                </a:rPr>
                <a:t>ทั้งหมด</a:t>
              </a:r>
              <a:br>
                <a:rPr sz="2400"/>
              </a:br>
              <a:r>
                <a:rPr b="1" lang="th-TH" sz="2400" spc="-1" strike="noStrike">
                  <a:solidFill>
                    <a:srgbClr val="fa7438"/>
                  </a:solidFill>
                  <a:latin typeface="EucrosiaUPC"/>
                  <a:cs typeface="EucrosiaUPC"/>
                </a:rPr>
                <a:t>ของคอมโพเนนท์นี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648320" y="3217680"/>
            <a:ext cx="4533480" cy="1912320"/>
            <a:chOff x="4648320" y="3217680"/>
            <a:chExt cx="4533480" cy="1912320"/>
          </a:xfrm>
        </p:grpSpPr>
        <p:sp>
          <p:nvSpPr>
            <p:cNvPr id="87" name=""/>
            <p:cNvSpPr/>
            <p:nvPr/>
          </p:nvSpPr>
          <p:spPr>
            <a:xfrm flipH="1" flipV="1">
              <a:off x="4648320" y="3217680"/>
              <a:ext cx="3031920" cy="102204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36800" y="4121280"/>
              <a:ext cx="184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6699ff"/>
                  </a:solidFill>
                  <a:latin typeface="Arial"/>
                  <a:cs typeface="Angsana New"/>
                </a:rPr>
                <a:t>ดูรายการอีเวนท์</a:t>
              </a:r>
              <a:br>
                <a:rPr sz="2000"/>
              </a:br>
              <a:r>
                <a:rPr b="1" lang="th-TH" sz="2000" spc="-1" strike="noStrike">
                  <a:solidFill>
                    <a:srgbClr val="6699ff"/>
                  </a:solidFill>
                  <a:latin typeface="Arial"/>
                  <a:cs typeface="Angsana New"/>
                </a:rPr>
                <a:t>ที่คอมโพเนนท์นี้</a:t>
              </a:r>
              <a:br>
                <a:rPr sz="2000"/>
              </a:br>
              <a:r>
                <a:rPr b="1" lang="th-TH" sz="2000" spc="-1" strike="noStrike">
                  <a:solidFill>
                    <a:srgbClr val="6699ff"/>
                  </a:solidFill>
                  <a:latin typeface="Arial"/>
                  <a:cs typeface="Angsana New"/>
                </a:rPr>
                <a:t>รองรั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184560" y="2598840"/>
            <a:ext cx="5798880" cy="1313640"/>
            <a:chOff x="3184560" y="2598840"/>
            <a:chExt cx="5798880" cy="1313640"/>
          </a:xfrm>
        </p:grpSpPr>
        <p:sp>
          <p:nvSpPr>
            <p:cNvPr id="90" name=""/>
            <p:cNvSpPr/>
            <p:nvPr/>
          </p:nvSpPr>
          <p:spPr>
            <a:xfrm>
              <a:off x="3184560" y="2668320"/>
              <a:ext cx="4495680" cy="358200"/>
            </a:xfrm>
            <a:prstGeom prst="ellipse">
              <a:avLst/>
            </a:prstGeom>
            <a:noFill/>
            <a:ln w="57240">
              <a:solidFill>
                <a:srgbClr val="66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9280" y="2598840"/>
              <a:ext cx="1514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66cc66"/>
                  </a:solidFill>
                  <a:latin typeface="Arial"/>
                  <a:cs typeface="EucrosiaUPC"/>
                </a:rPr>
                <a:t>รายการของ</a:t>
              </a:r>
              <a:br>
                <a:rPr sz="2000"/>
              </a:br>
              <a:r>
                <a:rPr b="1" lang="th-TH" sz="2000" spc="-1" strike="noStrike">
                  <a:solidFill>
                    <a:srgbClr val="66cc66"/>
                  </a:solidFill>
                  <a:latin typeface="Arial"/>
                  <a:cs typeface="EucrosiaUPC"/>
                </a:rPr>
                <a:t>คอมโพเนนท์</a:t>
              </a:r>
              <a:br>
                <a:rPr sz="2000"/>
              </a:br>
              <a:r>
                <a:rPr b="1" lang="th-TH" sz="2000" spc="-1" strike="noStrike">
                  <a:solidFill>
                    <a:srgbClr val="66cc66"/>
                  </a:solidFill>
                  <a:latin typeface="Arial"/>
                  <a:cs typeface="EucrosiaUPC"/>
                </a:rPr>
                <a:t>ทั้งหมดใน</a:t>
              </a:r>
              <a:br>
                <a:rPr sz="2000"/>
              </a:br>
              <a:r>
                <a:rPr b="1" lang="th-TH" sz="2000" spc="-1" strike="noStrike">
                  <a:solidFill>
                    <a:srgbClr val="66cc66"/>
                  </a:solidFill>
                  <a:latin typeface="Arial"/>
                  <a:cs typeface="EucrosiaUPC"/>
                </a:rPr>
                <a:t>โปรแกร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85520" y="3446640"/>
            <a:ext cx="2498760" cy="3337200"/>
            <a:chOff x="2585520" y="3446640"/>
            <a:chExt cx="2498760" cy="3337200"/>
          </a:xfrm>
        </p:grpSpPr>
        <p:sp>
          <p:nvSpPr>
            <p:cNvPr id="93" name=""/>
            <p:cNvSpPr/>
            <p:nvPr/>
          </p:nvSpPr>
          <p:spPr>
            <a:xfrm>
              <a:off x="3641760" y="3446640"/>
              <a:ext cx="1294920" cy="1752480"/>
            </a:xfrm>
            <a:custGeom>
              <a:avLst/>
              <a:gdLst>
                <a:gd name="textAreaLeft" fmla="*/ 63000 w 1294920"/>
                <a:gd name="textAreaRight" fmla="*/ 1231920 w 1294920"/>
                <a:gd name="textAreaTop" fmla="*/ 63000 h 1752480"/>
                <a:gd name="textAreaBottom" fmla="*/ 1689480 h 1752480"/>
              </a:gdLst>
              <a:ahLst/>
              <a:rect l="textAreaLeft" t="textAreaTop" r="textAreaRight" b="textAreaBottom"/>
              <a:pathLst>
                <a:path w="21600" h="29230">
                  <a:moveTo>
                    <a:pt x="3600" y="0"/>
                  </a:moveTo>
                  <a:arcTo wR="3600" hR="3600" stAng="16200000" swAng="-5400000"/>
                  <a:lnTo>
                    <a:pt x="0" y="25630"/>
                  </a:lnTo>
                  <a:arcTo wR="3600" hR="3600" stAng="10800000" swAng="-5400000"/>
                  <a:lnTo>
                    <a:pt x="18000" y="292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00">
                <a:alpha val="2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585520" y="5199120"/>
              <a:ext cx="2498760" cy="1584720"/>
              <a:chOff x="2585520" y="5199120"/>
              <a:chExt cx="2498760" cy="1584720"/>
            </a:xfrm>
          </p:grpSpPr>
          <p:sp>
            <p:nvSpPr>
              <p:cNvPr id="95" name=""/>
              <p:cNvSpPr/>
              <p:nvPr/>
            </p:nvSpPr>
            <p:spPr>
              <a:xfrm>
                <a:off x="2585520" y="6324120"/>
                <a:ext cx="249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0066"/>
                    </a:solidFill>
                    <a:latin typeface="EucrosiaUPC"/>
                    <a:cs typeface="EucrosiaUPC"/>
                  </a:rPr>
                  <a:t>ชื่อของ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EucrosiaUPC"/>
                    <a:ea typeface="EucrosiaUPC"/>
                  </a:rPr>
                  <a:t>proper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98960" y="5199120"/>
                <a:ext cx="0" cy="12189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4749840" y="3397320"/>
            <a:ext cx="2463480" cy="3353760"/>
            <a:chOff x="4749840" y="3397320"/>
            <a:chExt cx="2463480" cy="3353760"/>
          </a:xfrm>
        </p:grpSpPr>
        <p:sp>
          <p:nvSpPr>
            <p:cNvPr id="98" name=""/>
            <p:cNvSpPr/>
            <p:nvPr/>
          </p:nvSpPr>
          <p:spPr>
            <a:xfrm>
              <a:off x="5105520" y="3397320"/>
              <a:ext cx="1752480" cy="175284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1752840"/>
                <a:gd name="textAreaBottom" fmla="*/ 1667520 h 1752840"/>
              </a:gdLst>
              <a:ahLst/>
              <a:rect l="textAreaLeft" t="textAreaTop" r="textAreaRight" b="textAreaBottom"/>
              <a:pathLst>
                <a:path w="21600" h="21604">
                  <a:moveTo>
                    <a:pt x="3600" y="0"/>
                  </a:moveTo>
                  <a:arcTo wR="3600" hR="3600" stAng="16200000" swAng="-5400000"/>
                  <a:lnTo>
                    <a:pt x="0" y="18004"/>
                  </a:lnTo>
                  <a:arcTo wR="3600" hR="3600" stAng="10800000" swAng="-5400000"/>
                  <a:lnTo>
                    <a:pt x="18000" y="216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>
                <a:alpha val="2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49840" y="5150160"/>
              <a:ext cx="2463480" cy="1600920"/>
              <a:chOff x="4749840" y="5150160"/>
              <a:chExt cx="2463480" cy="1600920"/>
            </a:xfrm>
          </p:grpSpPr>
          <p:sp>
            <p:nvSpPr>
              <p:cNvPr id="100" name=""/>
              <p:cNvSpPr/>
              <p:nvPr/>
            </p:nvSpPr>
            <p:spPr>
              <a:xfrm>
                <a:off x="4749840" y="6291360"/>
                <a:ext cx="246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cc66"/>
                    </a:solidFill>
                    <a:latin typeface="EucrosiaUPC"/>
                    <a:cs typeface="EucrosiaUPC"/>
                  </a:rPr>
                  <a:t>ค่าของ </a:t>
                </a:r>
                <a:r>
                  <a:rPr b="1" lang="en-US" sz="2400" spc="-1" strike="noStrike">
                    <a:solidFill>
                      <a:srgbClr val="00cc66"/>
                    </a:solidFill>
                    <a:latin typeface="EucrosiaUPC"/>
                    <a:ea typeface="EucrosiaUPC"/>
                  </a:rPr>
                  <a:t>proper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791320" y="5150160"/>
                <a:ext cx="0" cy="1218960"/>
              </a:xfrm>
              <a:prstGeom prst="line">
                <a:avLst/>
              </a:prstGeom>
              <a:ln w="7632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ปิดดูได้จากไดอะล็อกซ์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Properties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ใช้งานค่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property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อ่าน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/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แก้ไขค่า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property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ผ่านไดอะล็อกซ์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Properties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ผ่านคำสั่ง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C#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property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บางตัวยอมให้อ่านค่าได้อย่างเดียว ไม่สามารถแก้ไขค่าได้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ัวอย่างการอ่าน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/</a:t>
            </a: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แก้ไขค่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Property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88360" cy="431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ผ่านทางไดอะล็อกซ์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Property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ใช้คำสั่งในโค้ด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#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676520"/>
            <a:ext cx="3352680" cy="2514600"/>
            <a:chOff x="2819520" y="1676520"/>
            <a:chExt cx="3352680" cy="2514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67500" t="59948" r="5624" b="5942"/>
            <a:stretch/>
          </p:blipFill>
          <p:spPr>
            <a:xfrm>
              <a:off x="2819520" y="1676520"/>
              <a:ext cx="3276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581640" y="3276720"/>
              <a:ext cx="2590560" cy="304920"/>
            </a:xfrm>
            <a:prstGeom prst="ellipse">
              <a:avLst/>
            </a:prstGeom>
            <a:noFill/>
            <a:ln w="38160">
              <a:solidFill>
                <a:srgbClr val="fa7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47920" y="5334120"/>
            <a:ext cx="5867280" cy="685800"/>
          </a:xfrm>
          <a:prstGeom prst="rect">
            <a:avLst/>
          </a:prstGeom>
          <a:gradFill rotWithShape="0">
            <a:gsLst>
              <a:gs pos="0">
                <a:srgbClr val="002041"/>
              </a:gs>
              <a:gs pos="100000">
                <a:srgbClr val="00478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extBox1.Width = 15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ป้อนโค้ดเพื่อจัดการกับอีเวนท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76251" t="57883" r="0" b="0"/>
          <a:stretch/>
        </p:blipFill>
        <p:spPr>
          <a:xfrm>
            <a:off x="5715000" y="914400"/>
            <a:ext cx="2895480" cy="310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34040" y="1714680"/>
            <a:ext cx="2590920" cy="304560"/>
          </a:xfrm>
          <a:prstGeom prst="ellipse">
            <a:avLst/>
          </a:prstGeom>
          <a:noFill/>
          <a:ln w="3816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1875" t="4136" r="62502" b="48323"/>
          <a:stretch/>
        </p:blipFill>
        <p:spPr>
          <a:xfrm>
            <a:off x="609480" y="106668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828800" y="1879200"/>
            <a:ext cx="4280040" cy="1244520"/>
          </a:xfrm>
          <a:prstGeom prst="line">
            <a:avLst/>
          </a:prstGeom>
          <a:ln w="57240">
            <a:solidFill>
              <a:srgbClr val="fa74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3127" t="51423" r="34377" b="24808"/>
          <a:stretch/>
        </p:blipFill>
        <p:spPr>
          <a:xfrm>
            <a:off x="1143000" y="4800600"/>
            <a:ext cx="762012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267080" y="2036880"/>
            <a:ext cx="3068640" cy="2992320"/>
          </a:xfrm>
          <a:prstGeom prst="line">
            <a:avLst/>
          </a:prstGeom>
          <a:ln w="57240">
            <a:solidFill>
              <a:srgbClr val="fa74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ทำงานขอ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GUI Application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190512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3240" y="2590920"/>
            <a:ext cx="2436120" cy="1599480"/>
            <a:chOff x="3423240" y="2590920"/>
            <a:chExt cx="2436120" cy="1599480"/>
          </a:xfrm>
        </p:grpSpPr>
        <p:sp>
          <p:nvSpPr>
            <p:cNvPr id="121" name=""/>
            <p:cNvSpPr/>
            <p:nvPr/>
          </p:nvSpPr>
          <p:spPr>
            <a:xfrm>
              <a:off x="3423240" y="2819520"/>
              <a:ext cx="243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ลูปหลัก</a:t>
              </a:r>
              <a:br>
                <a:rPr sz="2800"/>
              </a:br>
              <a:r>
                <a:rPr b="1" lang="th-TH" sz="2800" spc="-1" strike="noStrike">
                  <a:solidFill>
                    <a:srgbClr val="ffffff"/>
                  </a:solidFill>
                  <a:latin typeface="EucrosiaUPC"/>
                  <a:ea typeface="EucrosiaUPC"/>
                </a:rPr>
                <a:t>(</a:t>
              </a:r>
              <a:r>
                <a:rPr b="1" lang="th-TH" sz="28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ไม่ได้เขียนเอง</a:t>
              </a:r>
              <a:r>
                <a:rPr b="1" lang="th-TH" sz="2800" spc="-1" strike="noStrike">
                  <a:solidFill>
                    <a:srgbClr val="ffffff"/>
                  </a:solidFill>
                  <a:latin typeface="EucrosiaUPC"/>
                  <a:ea typeface="EucrosiaUPC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479760" y="2590920"/>
              <a:ext cx="2361960" cy="1599480"/>
              <a:chOff x="3479760" y="2590920"/>
              <a:chExt cx="2361960" cy="1599480"/>
            </a:xfrm>
          </p:grpSpPr>
          <p:sp>
            <p:nvSpPr>
              <p:cNvPr id="123" name=""/>
              <p:cNvSpPr/>
              <p:nvPr/>
            </p:nvSpPr>
            <p:spPr>
              <a:xfrm>
                <a:off x="3479760" y="2684880"/>
                <a:ext cx="1012320" cy="1505520"/>
              </a:xfrm>
              <a:custGeom>
                <a:avLst/>
                <a:gdLst>
                  <a:gd name="textAreaLeft" fmla="*/ 135360 w 1012320"/>
                  <a:gd name="textAreaRight" fmla="*/ 876960 w 1012320"/>
                  <a:gd name="textAreaTop" fmla="*/ 263520 h 1505520"/>
                  <a:gd name="textAreaBottom" fmla="*/ 1091520 h 150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noFill/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0800000">
                <a:off x="4829400" y="2590920"/>
                <a:ext cx="1012320" cy="1506240"/>
              </a:xfrm>
              <a:custGeom>
                <a:avLst/>
                <a:gdLst>
                  <a:gd name="textAreaLeft" fmla="*/ 135360 w 1012320"/>
                  <a:gd name="textAreaRight" fmla="*/ 876960 w 1012320"/>
                  <a:gd name="textAreaTop" fmla="*/ 263520 h 1506240"/>
                  <a:gd name="textAreaBottom" fmla="*/ 1092240 h 150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noFill/>
              <a:ln w="1260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4002840" y="1150920"/>
            <a:ext cx="138276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66cc66"/>
                </a:solidFill>
                <a:latin typeface="EucrosiaUPC"/>
                <a:cs typeface="EucrosiaUPC"/>
              </a:rPr>
              <a:t>เริ่มต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6080" y="3755880"/>
            <a:ext cx="3405600" cy="2103480"/>
            <a:chOff x="226080" y="3755880"/>
            <a:chExt cx="3405600" cy="2103480"/>
          </a:xfrm>
        </p:grpSpPr>
        <p:sp>
          <p:nvSpPr>
            <p:cNvPr id="127" name=""/>
            <p:cNvSpPr/>
            <p:nvPr/>
          </p:nvSpPr>
          <p:spPr>
            <a:xfrm>
              <a:off x="226080" y="4675320"/>
              <a:ext cx="3200760" cy="1184040"/>
            </a:xfrm>
            <a:prstGeom prst="roundRect">
              <a:avLst>
                <a:gd name="adj" fmla="val 16667"/>
              </a:avLst>
            </a:prstGeom>
            <a:solidFill>
              <a:srgbClr val="ffd961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เมท็อดตอบสนอง</a:t>
              </a:r>
              <a:br>
                <a:rPr sz="3200"/>
              </a:b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อีเวนท์ปุ่มกด </a:t>
              </a:r>
              <a:r>
                <a:rPr b="1" lang="en-US" sz="3200" spc="-1" strike="noStrike">
                  <a:solidFill>
                    <a:srgbClr val="000000"/>
                  </a:solidFill>
                  <a:latin typeface="EucrosiaUPC"/>
                  <a:ea typeface="EucrosiaUPC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184480" y="3755880"/>
              <a:ext cx="1447200" cy="739800"/>
              <a:chOff x="2184480" y="3755880"/>
              <a:chExt cx="1447200" cy="73980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2184480" y="3755880"/>
                <a:ext cx="1295280" cy="73980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565000" y="3903840"/>
                <a:ext cx="1066680" cy="59184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5766120" y="3814920"/>
            <a:ext cx="3431520" cy="2044440"/>
            <a:chOff x="5766120" y="3814920"/>
            <a:chExt cx="3431520" cy="2044440"/>
          </a:xfrm>
        </p:grpSpPr>
        <p:sp>
          <p:nvSpPr>
            <p:cNvPr id="132" name=""/>
            <p:cNvSpPr/>
            <p:nvPr/>
          </p:nvSpPr>
          <p:spPr>
            <a:xfrm>
              <a:off x="5996880" y="4675320"/>
              <a:ext cx="3200760" cy="1184040"/>
            </a:xfrm>
            <a:prstGeom prst="roundRect">
              <a:avLst>
                <a:gd name="adj" fmla="val 16667"/>
              </a:avLst>
            </a:prstGeom>
            <a:solidFill>
              <a:srgbClr val="ffd961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เมท็อดตอบสนอง</a:t>
              </a:r>
              <a:br>
                <a:rPr sz="3200"/>
              </a:b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อีเวนท์ ฯล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766120" y="3814920"/>
              <a:ext cx="1447920" cy="739440"/>
              <a:chOff x="5766120" y="3814920"/>
              <a:chExt cx="1447920" cy="739440"/>
            </a:xfrm>
          </p:grpSpPr>
          <p:sp>
            <p:nvSpPr>
              <p:cNvPr id="134" name=""/>
              <p:cNvSpPr/>
              <p:nvPr/>
            </p:nvSpPr>
            <p:spPr>
              <a:xfrm>
                <a:off x="5918400" y="3814920"/>
                <a:ext cx="1295640" cy="73944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66120" y="3962520"/>
                <a:ext cx="1066680" cy="59184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147120" y="4114800"/>
            <a:ext cx="3200760" cy="2049120"/>
            <a:chOff x="3147120" y="4114800"/>
            <a:chExt cx="3200760" cy="2049120"/>
          </a:xfrm>
        </p:grpSpPr>
        <p:sp>
          <p:nvSpPr>
            <p:cNvPr id="137" name=""/>
            <p:cNvSpPr/>
            <p:nvPr/>
          </p:nvSpPr>
          <p:spPr>
            <a:xfrm>
              <a:off x="3147120" y="4979880"/>
              <a:ext cx="3200760" cy="1184040"/>
            </a:xfrm>
            <a:prstGeom prst="roundRect">
              <a:avLst>
                <a:gd name="adj" fmla="val 16667"/>
              </a:avLst>
            </a:prstGeom>
            <a:solidFill>
              <a:srgbClr val="ffd961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เมท็อดตอบสนอง</a:t>
              </a:r>
              <a:br>
                <a:rPr sz="3200"/>
              </a:br>
              <a:r>
                <a:rPr b="1" lang="th-TH" sz="3200" spc="-1" strike="noStrike">
                  <a:solidFill>
                    <a:srgbClr val="000000"/>
                  </a:solidFill>
                  <a:latin typeface="EucrosiaUPC"/>
                  <a:cs typeface="EucrosiaUPC"/>
                </a:rPr>
                <a:t>อีเวนท์ตัวจับเวล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495680" y="4114800"/>
              <a:ext cx="228600" cy="685440"/>
              <a:chOff x="4495680" y="4114800"/>
              <a:chExt cx="228600" cy="685440"/>
            </a:xfrm>
          </p:grpSpPr>
          <p:sp>
            <p:nvSpPr>
              <p:cNvPr id="139" name=""/>
              <p:cNvSpPr/>
              <p:nvPr/>
            </p:nvSpPr>
            <p:spPr>
              <a:xfrm>
                <a:off x="4495680" y="4114800"/>
                <a:ext cx="0" cy="68544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4280" y="4114800"/>
                <a:ext cx="0" cy="685440"/>
              </a:xfrm>
              <a:prstGeom prst="line">
                <a:avLst/>
              </a:prstGeom>
              <a:ln w="57240">
                <a:solidFill>
                  <a:srgbClr val="ffd96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ใบงานที่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8.2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มีปุ่ม บวก ลบ คุณ หาร และยกกำลั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พิ่มเติมคำอธิบายบนหน้าจอให้เหมาะสม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3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ลุ่มแรก กลุ่มละ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40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ะแน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3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ลุ่มถัดไป กลุ่มละ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30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ะแน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4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กลุ่มที่เหลือ กลุ่มละ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20 </a:t>
            </a: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คะแน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โปรแกรมของทุกคนต้องหน้าตาไม่เหมือนกัน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ตรวจความก้าวหน้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รายงานเค้าโครงของโครงงาน เวลา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13:00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น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3:56:38Z</dcterms:created>
  <dc:creator>Jeffrey P. Lundberg</dc:creator>
  <dc:description/>
  <dc:language>en-US</dc:language>
  <cp:lastModifiedBy>Chaiporn Jaikaeo</cp:lastModifiedBy>
  <dcterms:modified xsi:type="dcterms:W3CDTF">2009-05-14T04:35:24Z</dcterms:modified>
  <cp:revision>100</cp:revision>
  <dc:subject/>
  <dc:title>Introduction to C#</dc:title>
</cp:coreProperties>
</file>