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2" marL="142884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3" marL="182880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4" marL="2227320" indent="-3970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5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6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7402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60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66"/>
                </a:solidFill>
                <a:latin typeface="EucrosiaUPC"/>
              </a:rPr>
              <a:t>Click to edit the outline text format</a:t>
            </a: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  <a:p>
            <a:pPr lvl="1" marL="438840" indent="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2" marL="877680" indent="111240" algn="ctr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3" marL="128160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4" marL="166572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5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6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215172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d961"/>
                </a:solidFill>
                <a:latin typeface="EucrosiaUPC"/>
              </a:rPr>
              <a:t>แนะนำภาษา </a:t>
            </a:r>
            <a:r>
              <a:rPr b="1" lang="en-US" sz="6000" spc="-1" strike="noStrike">
                <a:solidFill>
                  <a:srgbClr val="ffd961"/>
                </a:solidFill>
                <a:latin typeface="EucrosiaUPC"/>
              </a:rPr>
              <a:t>C#</a:t>
            </a:r>
            <a:endParaRPr b="1" lang="en-US" sz="60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47280" y="3989520"/>
            <a:ext cx="786132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ชัยพร ใจแก้ว</a:t>
            </a:r>
            <a:endParaRPr b="0" lang="en-US" sz="2800" spc="-1" strike="noStrike">
              <a:solidFill>
                <a:srgbClr val="66cc66"/>
              </a:solidFill>
              <a:latin typeface="EucrosiaUPC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ภาควิชาวิศวกรรมคอมพิวเตอร์</a:t>
            </a:r>
            <a:endParaRPr b="0" lang="en-US" sz="2800" spc="-1" strike="noStrike">
              <a:solidFill>
                <a:srgbClr val="66cc66"/>
              </a:solidFill>
              <a:latin typeface="EucrosiaUPC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คณะวิศวกรรมศาสตร์ มหาวิทยาลัยเกษตรศาสตร์</a:t>
            </a:r>
            <a:endParaRPr b="0" lang="en-US" sz="2800" spc="-1" strike="noStrike">
              <a:solidFill>
                <a:srgbClr val="66cc66"/>
              </a:solidFill>
              <a:latin typeface="EucrosiaUPC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7438"/>
                </a:solidFill>
                <a:latin typeface="EucrosiaUPC"/>
              </a:rPr>
              <a:t>chaiporn.j@ku.ac.th</a:t>
            </a:r>
            <a:endParaRPr b="0" lang="en-US" sz="28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การขอความช่วยเหลือ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โปรแกรม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MS Visual C# 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มีระบบเชื่อมต่อกับ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Microsoft Developer Network (MSDN)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เปิดได้จากเมนู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Help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5029200" cy="3495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ภาษา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C#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รองรับการโปรแกรมเชิงวัตถุ 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Object-Oriented Programming – OOP)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พัฒนาโดยบริษัทไมโครซอฟต์ เพื่อเป็นส่วนหนึ่งของสถาปัตยกรรม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.NET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มีโครงสร้างคล้ายคลึงกับภาษา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Java 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และ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C++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ทำงานร่วมกับภาษาอื่นในสถาปัตยกรรม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.NET 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ได้ง่าย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สถาปัตยกรรม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.NET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467480" cy="5096160"/>
          </a:xfrm>
          <a:prstGeom prst="rect">
            <a:avLst/>
          </a:prstGeom>
          <a:ln w="28440">
            <a:solidFill>
              <a:srgbClr val="fa7438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3649680" y="1440000"/>
            <a:ext cx="1052640" cy="655560"/>
          </a:xfrm>
          <a:prstGeom prst="rect">
            <a:avLst/>
          </a:prstGeom>
          <a:solidFill>
            <a:srgbClr val="66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การพัฒนาโปรแกรมด้วย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C#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84" name=""/>
          <p:cNvSpPr/>
          <p:nvPr/>
        </p:nvSpPr>
        <p:spPr>
          <a:xfrm>
            <a:off x="2498760" y="1219320"/>
            <a:ext cx="4664160" cy="1068840"/>
          </a:xfrm>
          <a:prstGeom prst="rect">
            <a:avLst/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EucrosiaUPC"/>
                <a:cs typeface="EucrosiaUPC"/>
              </a:rPr>
              <a:t>วิเคราะห์ปัญหาและความต้องกา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498760" y="1811160"/>
            <a:ext cx="4664160" cy="906840"/>
            <a:chOff x="2498760" y="1811160"/>
            <a:chExt cx="4664160" cy="906840"/>
          </a:xfrm>
        </p:grpSpPr>
        <p:sp>
          <p:nvSpPr>
            <p:cNvPr id="86" name=""/>
            <p:cNvSpPr/>
            <p:nvPr/>
          </p:nvSpPr>
          <p:spPr>
            <a:xfrm>
              <a:off x="2498760" y="2136600"/>
              <a:ext cx="4664160" cy="58140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ff"/>
                  </a:solidFill>
                  <a:latin typeface="EucrosiaUPC"/>
                  <a:cs typeface="EucrosiaUPC"/>
                </a:rPr>
                <a:t>แบ่งปัญหาเป็นส่วน ๆ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84" idx="2"/>
              <a:endCxn id="86" idx="0"/>
            </p:cNvCxnSpPr>
            <p:nvPr/>
          </p:nvCxnSpPr>
          <p:spPr>
            <a:xfrm>
              <a:off x="4830480" y="1811160"/>
              <a:ext cx="1080" cy="3261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88" name=""/>
          <p:cNvGrpSpPr/>
          <p:nvPr/>
        </p:nvGrpSpPr>
        <p:grpSpPr>
          <a:xfrm>
            <a:off x="2498760" y="2728800"/>
            <a:ext cx="4664160" cy="1394280"/>
            <a:chOff x="2498760" y="2728800"/>
            <a:chExt cx="4664160" cy="1394280"/>
          </a:xfrm>
        </p:grpSpPr>
        <p:sp>
          <p:nvSpPr>
            <p:cNvPr id="89" name=""/>
            <p:cNvSpPr/>
            <p:nvPr/>
          </p:nvSpPr>
          <p:spPr>
            <a:xfrm>
              <a:off x="2498760" y="3054240"/>
              <a:ext cx="4664160" cy="106884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ff"/>
                  </a:solidFill>
                  <a:latin typeface="EucrosiaUPC"/>
                  <a:cs typeface="EucrosiaUPC"/>
                </a:rPr>
                <a:t>ออกแบบขั้นตอนวิธีของแต่ละส่วน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0" name=""/>
            <p:cNvCxnSpPr>
              <a:stCxn id="86" idx="2"/>
              <a:endCxn id="89" idx="0"/>
            </p:cNvCxnSpPr>
            <p:nvPr/>
          </p:nvCxnSpPr>
          <p:spPr>
            <a:xfrm>
              <a:off x="4830480" y="2728800"/>
              <a:ext cx="1080" cy="3261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91" name=""/>
          <p:cNvGrpSpPr/>
          <p:nvPr/>
        </p:nvGrpSpPr>
        <p:grpSpPr>
          <a:xfrm>
            <a:off x="2498760" y="3646440"/>
            <a:ext cx="4664160" cy="1394280"/>
            <a:chOff x="2498760" y="3646440"/>
            <a:chExt cx="4664160" cy="1394280"/>
          </a:xfrm>
        </p:grpSpPr>
        <p:sp>
          <p:nvSpPr>
            <p:cNvPr id="92" name=""/>
            <p:cNvSpPr/>
            <p:nvPr/>
          </p:nvSpPr>
          <p:spPr>
            <a:xfrm>
              <a:off x="2498760" y="3971880"/>
              <a:ext cx="4664160" cy="106884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ff"/>
                  </a:solidFill>
                  <a:latin typeface="EucrosiaUPC"/>
                  <a:cs typeface="EucrosiaUPC"/>
                </a:rPr>
                <a:t>นำขั้นตอนวิธีมาเขียนเป็นโปรแกรม </a:t>
              </a:r>
              <a:r>
                <a:rPr b="1" lang="en-US" sz="3200" spc="-1" strike="noStrike">
                  <a:solidFill>
                    <a:srgbClr val="ffffff"/>
                  </a:solidFill>
                  <a:latin typeface="EucrosiaUPC"/>
                  <a:ea typeface="EucrosiaUPC"/>
                </a:rPr>
                <a:t>.c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89" idx="2"/>
              <a:endCxn id="92" idx="0"/>
            </p:cNvCxnSpPr>
            <p:nvPr/>
          </p:nvCxnSpPr>
          <p:spPr>
            <a:xfrm>
              <a:off x="4830480" y="3646440"/>
              <a:ext cx="1080" cy="3261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2498760" y="4564080"/>
            <a:ext cx="4664160" cy="1394280"/>
            <a:chOff x="2498760" y="4564080"/>
            <a:chExt cx="4664160" cy="1394280"/>
          </a:xfrm>
        </p:grpSpPr>
        <p:sp>
          <p:nvSpPr>
            <p:cNvPr id="95" name=""/>
            <p:cNvSpPr/>
            <p:nvPr/>
          </p:nvSpPr>
          <p:spPr>
            <a:xfrm>
              <a:off x="2498760" y="4889520"/>
              <a:ext cx="4664160" cy="106884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ff"/>
                  </a:solidFill>
                  <a:latin typeface="EucrosiaUPC"/>
                  <a:cs typeface="EucrosiaUPC"/>
                </a:rPr>
                <a:t>คอมไพล์โปรแกรมจาก </a:t>
              </a:r>
              <a:r>
                <a:rPr b="1" lang="en-US" sz="3200" spc="-1" strike="noStrike">
                  <a:solidFill>
                    <a:srgbClr val="ffffff"/>
                  </a:solidFill>
                  <a:latin typeface="EucrosiaUPC"/>
                  <a:ea typeface="EucrosiaUPC"/>
                </a:rPr>
                <a:t>.cs </a:t>
              </a:r>
              <a:r>
                <a:rPr b="1" lang="th-TH" sz="3200" spc="-1" strike="noStrike">
                  <a:solidFill>
                    <a:srgbClr val="ffffff"/>
                  </a:solidFill>
                  <a:latin typeface="EucrosiaUPC"/>
                  <a:cs typeface="EucrosiaUPC"/>
                </a:rPr>
                <a:t>ให้เป็น </a:t>
              </a:r>
              <a:r>
                <a:rPr b="1" lang="en-US" sz="3200" spc="-1" strike="noStrike">
                  <a:solidFill>
                    <a:srgbClr val="ffffff"/>
                  </a:solidFill>
                  <a:latin typeface="EucrosiaUPC"/>
                  <a:ea typeface="EucrosiaUPC"/>
                </a:rPr>
                <a:t>.ex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6" name=""/>
            <p:cNvCxnSpPr>
              <a:stCxn id="92" idx="2"/>
              <a:endCxn id="95" idx="0"/>
            </p:cNvCxnSpPr>
            <p:nvPr/>
          </p:nvCxnSpPr>
          <p:spPr>
            <a:xfrm>
              <a:off x="4830480" y="4564080"/>
              <a:ext cx="1080" cy="3261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97" name=""/>
          <p:cNvGrpSpPr/>
          <p:nvPr/>
        </p:nvGrpSpPr>
        <p:grpSpPr>
          <a:xfrm>
            <a:off x="2498760" y="5481720"/>
            <a:ext cx="4664160" cy="908280"/>
            <a:chOff x="2498760" y="5481720"/>
            <a:chExt cx="4664160" cy="908280"/>
          </a:xfrm>
        </p:grpSpPr>
        <p:sp>
          <p:nvSpPr>
            <p:cNvPr id="98" name=""/>
            <p:cNvSpPr/>
            <p:nvPr/>
          </p:nvSpPr>
          <p:spPr>
            <a:xfrm>
              <a:off x="2498760" y="5808600"/>
              <a:ext cx="4664160" cy="58140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ff"/>
                  </a:solidFill>
                  <a:latin typeface="EucrosiaUPC"/>
                  <a:cs typeface="EucrosiaUPC"/>
                </a:rPr>
                <a:t>ตรวจสอบการทำงาน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9" name=""/>
            <p:cNvCxnSpPr>
              <a:stCxn id="95" idx="2"/>
              <a:endCxn id="98" idx="0"/>
            </p:cNvCxnSpPr>
            <p:nvPr/>
          </p:nvCxnSpPr>
          <p:spPr>
            <a:xfrm>
              <a:off x="4830480" y="5481720"/>
              <a:ext cx="1080" cy="327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100" name=""/>
          <p:cNvCxnSpPr>
            <a:stCxn id="98" idx="1"/>
            <a:endCxn id="92" idx="1"/>
          </p:cNvCxnSpPr>
          <p:nvPr/>
        </p:nvCxnSpPr>
        <p:spPr>
          <a:xfrm flipH="1" rot="10800000">
            <a:off x="2498400" y="4268160"/>
            <a:ext cx="2160" cy="1837440"/>
          </a:xfrm>
          <a:prstGeom prst="bentConnector3">
            <a:avLst>
              <a:gd name="adj1" fmla="val -14400000"/>
            </a:avLst>
          </a:prstGeom>
          <a:ln w="28440">
            <a:solidFill>
              <a:srgbClr val="ff66cc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8" idx="1"/>
            <a:endCxn id="89" idx="1"/>
          </p:cNvCxnSpPr>
          <p:nvPr/>
        </p:nvCxnSpPr>
        <p:spPr>
          <a:xfrm flipH="1" rot="10800000">
            <a:off x="2498400" y="3350520"/>
            <a:ext cx="2160" cy="2755080"/>
          </a:xfrm>
          <a:prstGeom prst="bentConnector3">
            <a:avLst>
              <a:gd name="adj1" fmla="val -33400000"/>
            </a:avLst>
          </a:prstGeom>
          <a:ln w="28440">
            <a:solidFill>
              <a:srgbClr val="ff66cc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8" idx="1"/>
            <a:endCxn id="86" idx="1"/>
          </p:cNvCxnSpPr>
          <p:nvPr/>
        </p:nvCxnSpPr>
        <p:spPr>
          <a:xfrm flipH="1" rot="10800000">
            <a:off x="2498400" y="2432880"/>
            <a:ext cx="2160" cy="3672720"/>
          </a:xfrm>
          <a:prstGeom prst="bentConnector3">
            <a:avLst>
              <a:gd name="adj1" fmla="val -52300000"/>
            </a:avLst>
          </a:prstGeom>
          <a:ln w="28440">
            <a:solidFill>
              <a:srgbClr val="ff66cc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8" idx="1"/>
            <a:endCxn id="84" idx="1"/>
          </p:cNvCxnSpPr>
          <p:nvPr/>
        </p:nvCxnSpPr>
        <p:spPr>
          <a:xfrm flipH="1" rot="10800000">
            <a:off x="2498400" y="1515240"/>
            <a:ext cx="2160" cy="4590360"/>
          </a:xfrm>
          <a:prstGeom prst="bentConnector3">
            <a:avLst>
              <a:gd name="adj1" fmla="val -75300000"/>
            </a:avLst>
          </a:prstGeom>
          <a:ln w="28440">
            <a:solidFill>
              <a:srgbClr val="ff66cc"/>
            </a:solidFill>
            <a:miter/>
            <a:tailEnd len="med" type="triangle" w="med"/>
          </a:ln>
        </p:spPr>
      </p:cxnSp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การสร้างและคอมไพล์โปรแกรม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มีหลายทางเลือก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เขียนโปรแกรมด้วย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Text Editor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และคอมไพล์ด้วยโปรแกรม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csc.exe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ใน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C:\WINDOWS\Microsoft.NET\Framework\v3.5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-45108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ใช้โปรแกรมประเภท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Integrated Development Environment (IDE)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ที่รวม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Text Editor </a:t>
            </a:r>
            <a:r>
              <a:rPr b="0" lang="th-TH" sz="3200" spc="-1" strike="noStrike">
                <a:solidFill>
                  <a:srgbClr val="ffffff"/>
                </a:solidFill>
                <a:latin typeface="EucrosiaUPC"/>
              </a:rPr>
              <a:t>และจัดการเรื่องการคอมไพล์ให้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2" marL="1414440" indent="-394200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EucrosiaUPC"/>
              </a:rPr>
              <a:t>เช่น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Microsoft Visual C#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72280" cy="5008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19520" y="3124080"/>
            <a:ext cx="5029200" cy="1067040"/>
          </a:xfrm>
          <a:prstGeom prst="ellipse">
            <a:avLst/>
          </a:prstGeom>
          <a:solidFill>
            <a:srgbClr val="ff66cc">
              <a:alpha val="50000"/>
            </a:srgbClr>
          </a:solidFill>
          <a:ln w="381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การติดตั้ง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MS Visual C#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  <p:transition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4819680" cy="4295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การติดตั้ง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MS Visual C#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4819680" cy="4295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571840" y="2133720"/>
            <a:ext cx="4819680" cy="4295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666880" y="3225960"/>
            <a:ext cx="4572000" cy="628560"/>
          </a:xfrm>
          <a:prstGeom prst="roundRect">
            <a:avLst>
              <a:gd name="adj" fmla="val 16667"/>
            </a:avLst>
          </a:prstGeom>
          <a:solidFill>
            <a:srgbClr val="ff66cc">
              <a:alpha val="50000"/>
            </a:srgbClr>
          </a:solidFill>
          <a:ln w="381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4819680" cy="42955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การติดตั้ง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MS Visual C#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4819680" cy="4295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666880" y="1981080"/>
            <a:ext cx="4819680" cy="429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d961"/>
                </a:solidFill>
                <a:latin typeface="EucrosiaUPC"/>
              </a:rPr>
              <a:t>ประเภทของแอพลิเคชัน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52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คอนโซลแอพลิเคชัน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แสดงผลในรูปตัวอักษร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รับข้อมูลผ่านแป้นพิมพ์เพียงอย่างเดียว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วินโดวส์แอพลิเคชัน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ใช้ได้ทั้งแป้นพิมพ์และเมาส์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EucrosiaUPC"/>
              </a:rPr>
              <a:t>แสดงผลในรูปกราฟิคส์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43189" b="57717"/>
          <a:stretch/>
        </p:blipFill>
        <p:spPr>
          <a:xfrm>
            <a:off x="4952880" y="1371600"/>
            <a:ext cx="3810240" cy="1236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4120" y="3657600"/>
            <a:ext cx="3371760" cy="2943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08:22:37Z</dcterms:created>
  <dc:creator>Chaiporn Jaikaeo</dc:creator>
  <dc:description/>
  <dc:language>en-US</dc:language>
  <cp:lastModifiedBy>Chaiporn Jaikaeo</cp:lastModifiedBy>
  <dcterms:modified xsi:type="dcterms:W3CDTF">2009-05-11T02:05:27Z</dcterms:modified>
  <cp:revision>145</cp:revision>
  <dc:subject/>
  <dc:title>Introduction to Digital Logic</dc:title>
</cp:coreProperties>
</file>