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666-B3A5-46EA-9FFE-A3B62C1F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937-B118-4A8E-8706-0CE9F694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660-24DB-423F-8EE1-EEED1005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44D-D0D1-4555-85D3-C7822B14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C10-CA74-47FF-95EF-78E2304D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017-ED05-40F2-9E3F-E4D97A03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268-C995-4DAC-B684-9344EFD0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1D8-AAAF-4F67-A609-C87D2D70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C5F-CEC7-44B6-8E3E-9692D528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47C-B68A-4D15-8EC8-EBA437D1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325-88E8-4B90-9506-7B368438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B2A-7BC5-446A-980B-C318AD6A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107C-5AAC-436B-827A-055F0DAFF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programming.in.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247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thailandoi.o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200" y="1773360"/>
            <a:ext cx="90378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07:28Z</dcterms:created>
  <dc:creator>Administrator</dc:creator>
  <dc:description/>
  <dc:language>en-US</dc:language>
  <cp:lastModifiedBy>Administrator</cp:lastModifiedBy>
  <dcterms:modified xsi:type="dcterms:W3CDTF">2009-05-15T03:13:09Z</dcterms:modified>
  <cp:revision>1</cp:revision>
  <dc:subject/>
  <dc:title>www.programming.in.th</dc:title>
</cp:coreProperties>
</file>