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12C8-B365-4510-865E-2F872274D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1474-92F5-46C2-A671-6AB6BFA63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EBFD-502E-467E-8C86-3CBEBA7FF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2648-F330-4486-912A-17F381D4E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1C09-8642-412A-AF21-B226A343A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9F0D-C811-46E4-8320-6FA872131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7DD1-43EA-445D-B436-D2808036B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28D1-2DDE-4A6A-9098-A33D84864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4C4A-A5DB-46B7-830D-995CE6B13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BE28-2110-4405-BE9A-5176F8545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802F-D32D-42AD-B081-4C4326DE7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4A3F-8BE2-4D65-9CD7-BB096E283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258920" cy="11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58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187280" y="0"/>
          <a:ext cx="1224000" cy="11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0"/>
                    <a:ext cx="1224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3FB7-2C39-4ADC-8216-B8B15BE155E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852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# IDE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Sharp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1" name="" descr="Welcome to SharpDevelop, the open source IDE for .NET, supporting C#, VB.NET and Boo on .NET Framework 1.1, 2.0 and Mono"/>
          <p:cNvPicPr/>
          <p:nvPr/>
        </p:nvPicPr>
        <p:blipFill>
          <a:blip r:embed="rId1"/>
          <a:stretch/>
        </p:blipFill>
        <p:spPr>
          <a:xfrm>
            <a:off x="611280" y="990720"/>
            <a:ext cx="77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C# Studio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24769"/>
          <a:stretch/>
        </p:blipFill>
        <p:spPr>
          <a:xfrm>
            <a:off x="468360" y="119700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Mono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7" name="" descr="ss-main-window.png"/>
          <p:cNvPicPr/>
          <p:nvPr/>
        </p:nvPicPr>
        <p:blipFill>
          <a:blip r:embed="rId1"/>
          <a:stretch/>
        </p:blipFill>
        <p:spPr>
          <a:xfrm>
            <a:off x="539640" y="1127160"/>
            <a:ext cx="7704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XACC.IDE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178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WEB SITES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friend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ourc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ne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hai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pace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liv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sd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icrosof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e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u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v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defaul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asp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woguru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playground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_tutorial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inde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2:13:45Z</dcterms:created>
  <dc:creator>Com_ipst</dc:creator>
  <dc:description/>
  <dc:language>en-US</dc:language>
  <cp:lastModifiedBy>Com_ipst</cp:lastModifiedBy>
  <dcterms:modified xsi:type="dcterms:W3CDTF">2009-05-15T02:22:29Z</dcterms:modified>
  <cp:revision>3</cp:revision>
  <dc:subject/>
  <dc:title>C# IDE</dc:title>
</cp:coreProperties>
</file>