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821960"/>
            <a:ext cx="7772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จัดการชุดข้อมูลโดยใช้อาเรย์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Array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871160"/>
            <a:ext cx="7861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# Programming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-13068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การสร้างอาเรย์ด้วยการกำหนดค่าเริ่มต้น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าเรย์อาจจะถูกสร้างโดยใช้ค่าเริ่มต้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ไวยากรณ์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#1: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ไวยากรณ์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#2: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495680"/>
            <a:ext cx="30762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value1,value2,...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209680"/>
            <a:ext cx="7086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478e"/>
                </a:solidFill>
                <a:latin typeface="Courier New"/>
              </a:rPr>
              <a:t> &lt;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478e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478e"/>
                </a:solidFill>
                <a:latin typeface="Courier New"/>
              </a:rPr>
              <a:t>&lt;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#elements</a:t>
            </a:r>
            <a:r>
              <a:rPr b="0" lang="en-US" sz="2000" spc="-1" strike="noStrike">
                <a:solidFill>
                  <a:srgbClr val="00478e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478e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value1,value2,...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162240"/>
            <a:ext cx="6400800" cy="5335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 = new int[4] {30,20,50,25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5486400"/>
            <a:ext cx="6400800" cy="5335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 = {30,20,50,25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6095880" y="4114800"/>
            <a:ext cx="2666880" cy="1511640"/>
            <a:chOff x="6095880" y="4114800"/>
            <a:chExt cx="2666880" cy="1511640"/>
          </a:xfrm>
        </p:grpSpPr>
        <p:sp>
          <p:nvSpPr>
            <p:cNvPr id="252" name=""/>
            <p:cNvSpPr/>
            <p:nvPr/>
          </p:nvSpPr>
          <p:spPr>
            <a:xfrm>
              <a:off x="6095880" y="411480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9040" y="411480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560" y="411480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96080" y="411480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29240" y="411480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4572000"/>
              <a:ext cx="533160" cy="533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29040" y="4572000"/>
              <a:ext cx="533520" cy="533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62560" y="4572000"/>
              <a:ext cx="533520" cy="533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96080" y="4572000"/>
              <a:ext cx="533160" cy="533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29240" y="4572000"/>
              <a:ext cx="533520" cy="533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30120" y="5045040"/>
              <a:ext cx="14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7438"/>
                  </a:solidFill>
                  <a:latin typeface="Arial"/>
                  <a:ea typeface="Arial"/>
                </a:rPr>
                <a:t>scor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เข้าถึงข้อมูลใน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5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ไวยากรณ์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7438"/>
                </a:solidFill>
                <a:latin typeface="Courier New"/>
              </a:rPr>
              <a:t>&lt;index&gt;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ป็นจำนวนเต็มตั้งแต่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และขนาดของอาเรย์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- 1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572000"/>
            <a:ext cx="533520" cy="53352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61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4572000"/>
            <a:ext cx="533520" cy="53352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61"/>
                </a:solidFill>
                <a:latin typeface="Arial"/>
                <a:ea typeface="Arial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828800"/>
            <a:ext cx="4572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78e"/>
                </a:solidFill>
                <a:latin typeface="Courier New"/>
              </a:rPr>
              <a:t>&lt;name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[</a:t>
            </a:r>
            <a:r>
              <a:rPr b="1" i="1" lang="en-US" sz="2400" spc="-1" strike="noStrike">
                <a:solidFill>
                  <a:srgbClr val="00478e"/>
                </a:solidFill>
                <a:latin typeface="Courier New"/>
              </a:rPr>
              <a:t>&lt;index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038480"/>
            <a:ext cx="4952880" cy="18288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int[] scores = new int[5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cores[0] = 1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cores[3] = 5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scores[3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scores[2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i="1" lang="en-US" sz="5400" spc="-1" strike="noStrike">
                <a:solidFill>
                  <a:srgbClr val="66cc66"/>
                </a:solidFill>
                <a:latin typeface="EucrosiaUPC"/>
              </a:rPr>
              <a:t>Class Scor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219320"/>
            <a:ext cx="7391520" cy="50292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class Scoring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tatic void Main(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int[] s = new int[6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int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double av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for (i = 0; i &lt; 60; i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{0}: ", i+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[i] = int.Parse(Console.ReadLine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5632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urier New"/>
              </a:rPr>
              <a:t>คำสั่ง</a:t>
            </a:r>
            <a:r>
              <a:rPr b="0" lang="en-US" sz="4400" spc="-1" strike="noStrike">
                <a:solidFill>
                  <a:srgbClr val="66cc66"/>
                </a:solidFill>
                <a:latin typeface="Courier New"/>
              </a:rPr>
              <a:t> </a:t>
            </a:r>
            <a:r>
              <a:rPr b="0" lang="en-US" sz="4000" spc="-1" strike="noStrike">
                <a:solidFill>
                  <a:srgbClr val="66cc66"/>
                </a:solidFill>
                <a:latin typeface="Courier New"/>
              </a:rPr>
              <a:t>foreach</a:t>
            </a:r>
            <a:endParaRPr b="1" lang="en-US" sz="4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ใช้สำหรับการวนรอบข้อมูลทุกตัวที่อยู่ใน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ไวยากรณ์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4343400"/>
            <a:ext cx="4562640" cy="17496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int[] a = new int[] {1,2,3,4,5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int sum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foreach (int i in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sum = sum + 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286000"/>
            <a:ext cx="6400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foreach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&lt;type&gt; &lt;var&gt; 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in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 &lt;array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  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ส่งอาเรย์ไปยัง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มท็อดต่อไปนี้ทำการหาผลรวมของทุกค่าข้อมูลที่อยู่ใน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286000"/>
            <a:ext cx="6781680" cy="28195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static double Sum(double[] array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sum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foreach (double x in arr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sum += 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su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76840" y="2438280"/>
            <a:ext cx="1471680" cy="381240"/>
          </a:xfrm>
          <a:prstGeom prst="roundRect">
            <a:avLst>
              <a:gd name="adj" fmla="val 16667"/>
            </a:avLst>
          </a:prstGeom>
          <a:solidFill>
            <a:srgbClr val="fa7438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ตรวจสอบขนาดของ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By property </a:t>
            </a:r>
            <a:r>
              <a:rPr b="0" i="1" lang="en-US" sz="4000" spc="-1" strike="noStrike">
                <a:solidFill>
                  <a:srgbClr val="fa7438"/>
                </a:solidFill>
                <a:latin typeface="EucrosiaUPC"/>
              </a:rPr>
              <a:t>Length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By method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4000" spc="-1" strike="noStrike">
                <a:solidFill>
                  <a:srgbClr val="fa7438"/>
                </a:solidFill>
                <a:latin typeface="EucrosiaUPC"/>
              </a:rPr>
              <a:t>GetLength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905120"/>
            <a:ext cx="7162560" cy="11430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438"/>
                </a:solidFill>
                <a:latin typeface="Courier New"/>
                <a:ea typeface="Arial"/>
              </a:rPr>
              <a:t>in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[] scores =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rial"/>
              </a:rPr>
              <a:t>new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int[5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urier New"/>
                <a:ea typeface="Arial"/>
              </a:rPr>
              <a:t>Console.WriteLin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scores.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  <a:ea typeface="Arial"/>
              </a:rPr>
              <a:t>Leng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4191120"/>
            <a:ext cx="7391160" cy="106668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438"/>
                </a:solidFill>
                <a:latin typeface="Courier New"/>
                <a:ea typeface="Arial"/>
              </a:rPr>
              <a:t>in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[] scores =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rial"/>
              </a:rPr>
              <a:t>new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int[5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urier New"/>
                <a:ea typeface="Arial"/>
              </a:rPr>
              <a:t>Console.WriteLin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scores.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  <a:ea typeface="Arial"/>
              </a:rPr>
              <a:t>GetLeng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0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การหาขนาดของ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อีกวิธีหนึ่งสำหรับการหาผลรวมของค่าข้อมูลใน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2286000"/>
            <a:ext cx="7467840" cy="28195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Summation(double[] array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sum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for (int i = 0; i &lt; array.Length; i+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sum += array[i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su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String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ืออาเรย์ของอักขระ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1905120"/>
            <a:ext cx="7467480" cy="144756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string s = "Hello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"Length = {0}", s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"First char is {0}", s[0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"Last char is {0}", s[s.Length-1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200" y="3809880"/>
            <a:ext cx="3429000" cy="1752480"/>
            <a:chOff x="2743200" y="3809880"/>
            <a:chExt cx="3429000" cy="1752480"/>
          </a:xfrm>
        </p:grpSpPr>
        <p:sp>
          <p:nvSpPr>
            <p:cNvPr id="290" name=""/>
            <p:cNvSpPr/>
            <p:nvPr/>
          </p:nvSpPr>
          <p:spPr>
            <a:xfrm>
              <a:off x="2819520" y="38098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29000" y="38098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38480" y="38098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4280" y="38098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0080" y="38098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419076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'e'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4800" y="419076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'l'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419076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'o'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67080" y="5028840"/>
              <a:ext cx="409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7438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0" y="419076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'H'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0600" y="419076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'l'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การหาค่าสูงสุ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7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ขียนเมท็อด </a:t>
            </a:r>
            <a:r>
              <a:rPr b="0" i="1" lang="en-US" sz="4000" spc="-1" strike="noStrike">
                <a:solidFill>
                  <a:srgbClr val="fa7438"/>
                </a:solidFill>
                <a:latin typeface="EucrosiaUPC"/>
              </a:rPr>
              <a:t>FindMax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พื่อคำนวนหาค่าข้อมูลที่สูงที่สุดในอาเรย์ชนิด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doubles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2286000"/>
            <a:ext cx="7467840" cy="28195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static double FindMax(double[] data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max = data[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foreach (double x in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f (x &gt; max) max = 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ma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อาเรย์คืออะไร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1190520"/>
          </a:xfrm>
          <a:prstGeom prst="rect">
            <a:avLst/>
          </a:prstGeom>
          <a:solidFill>
            <a:srgbClr val="00478e"/>
          </a:solidFill>
          <a:ln w="38160">
            <a:solidFill>
              <a:srgbClr val="66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crosiaUPC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EucrosiaUPC"/>
              </a:rPr>
              <a:t>อาเรย์เป็นชุดของข้อมูลซึ่งมีประเภทข้อมูลเดียวกัน”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90720" y="2286000"/>
            <a:ext cx="3809880" cy="3400920"/>
            <a:chOff x="990720" y="2286000"/>
            <a:chExt cx="3809880" cy="3400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38098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77600" y="5105520"/>
              <a:ext cx="221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k Arra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232960" y="2286000"/>
            <a:ext cx="3342960" cy="3781800"/>
            <a:chOff x="5232960" y="2286000"/>
            <a:chExt cx="3342960" cy="37818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5333760" y="2286000"/>
              <a:ext cx="27338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232960" y="5486400"/>
              <a:ext cx="33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or Arra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ลาส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Scor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พิจารณาโปรแกรมซึ่งรับ และเก็บข้อมูลคะแนนในตัวแปร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แปรต่างกั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209680"/>
            <a:ext cx="7162560" cy="4343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class Scor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static void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int s1, s2, s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double avg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1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s1 = int.Parse(Console.ReadLin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2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s2 = int.Parse(Console.ReadLin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3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s3 = int.Parse(Console.ReadLin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avg = (s1+s2+s3)/3.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Line("Average score is {0:f2}.", avg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หากจำนวนนักเรียนมากขึ้น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?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ทนที่จะมีนักเรียนเพียงสองคน กลับมีนักเรียนจำนวน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60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ค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981080"/>
            <a:ext cx="7467840" cy="4343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using Syst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lass Scoring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tatic void Main(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int s1, s2, s3, s4, s5, s6, s7, s8, s9, s10, s11, ???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double avg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1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1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2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2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3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3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4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4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5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5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Console.Write("Enter score #6: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6 = int.Parse(Console.ReadLine(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5029200"/>
            <a:ext cx="3352680" cy="11430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  <a:cs typeface="Arial"/>
              </a:rPr>
              <a:t>อีกทางเลือกหนึ่ง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  <a:ea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fceb98"/>
                </a:solidFill>
                <a:latin typeface="Arial"/>
                <a:cs typeface="Arial"/>
              </a:rPr>
              <a:t>ใช้อาเร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อาเรย์ใน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219320"/>
            <a:ext cx="7925040" cy="1190520"/>
          </a:xfrm>
          <a:prstGeom prst="rect">
            <a:avLst/>
          </a:prstGeom>
          <a:solidFill>
            <a:srgbClr val="00478e"/>
          </a:solidFill>
          <a:ln w="38160">
            <a:solidFill>
              <a:srgbClr val="66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crosiaUPC"/>
                <a:cs typeface="EucrosiaUPC"/>
              </a:rPr>
              <a:t>อาเรย์เป็นโครงสร้างข้อมูลซึ่งเก็บชุดข้อมูลที่มีประเภทข้อมูลเหมือนกั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388360" cy="42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ทอมใน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อาเรย์สามารถเข้าถึงได้ผ่าน </a:t>
            </a:r>
            <a:r>
              <a:rPr b="0" i="1" lang="en-US" sz="4000" spc="-1" strike="noStrike">
                <a:solidFill>
                  <a:srgbClr val="fa7438"/>
                </a:solidFill>
                <a:latin typeface="EucrosiaUPC"/>
              </a:rPr>
              <a:t>array variables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6880" y="4222800"/>
            <a:ext cx="3048120" cy="380880"/>
            <a:chOff x="2666880" y="4222800"/>
            <a:chExt cx="3048120" cy="380880"/>
          </a:xfrm>
        </p:grpSpPr>
        <p:sp>
          <p:nvSpPr>
            <p:cNvPr id="97" name=""/>
            <p:cNvSpPr/>
            <p:nvPr/>
          </p:nvSpPr>
          <p:spPr>
            <a:xfrm>
              <a:off x="266688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6720" y="422280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128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620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1120" y="422280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060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5520" y="422280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10080" y="4222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66880" y="3841920"/>
            <a:ext cx="3048120" cy="380880"/>
            <a:chOff x="2666880" y="3841920"/>
            <a:chExt cx="3048120" cy="380880"/>
          </a:xfrm>
        </p:grpSpPr>
        <p:sp>
          <p:nvSpPr>
            <p:cNvPr id="108" name=""/>
            <p:cNvSpPr/>
            <p:nvPr/>
          </p:nvSpPr>
          <p:spPr>
            <a:xfrm>
              <a:off x="266688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38419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8419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568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60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5520" y="38419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38419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524240" y="420696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4299120"/>
            <a:ext cx="15228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66880" y="4653000"/>
            <a:ext cx="3048120" cy="337320"/>
            <a:chOff x="2666880" y="4653000"/>
            <a:chExt cx="3048120" cy="337320"/>
          </a:xfrm>
        </p:grpSpPr>
        <p:sp>
          <p:nvSpPr>
            <p:cNvPr id="121" name=""/>
            <p:cNvSpPr/>
            <p:nvPr/>
          </p:nvSpPr>
          <p:spPr>
            <a:xfrm>
              <a:off x="2666880" y="4680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4680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4832280"/>
              <a:ext cx="304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1480" y="465300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cc66"/>
                  </a:solidFill>
                  <a:latin typeface="Arial"/>
                  <a:ea typeface="Arial"/>
                </a:rPr>
                <a:t>Length =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029200" y="4222800"/>
            <a:ext cx="3547800" cy="337320"/>
            <a:chOff x="5029200" y="4222800"/>
            <a:chExt cx="3547800" cy="337320"/>
          </a:xfrm>
        </p:grpSpPr>
        <p:sp>
          <p:nvSpPr>
            <p:cNvPr id="126" name=""/>
            <p:cNvSpPr/>
            <p:nvPr/>
          </p:nvSpPr>
          <p:spPr>
            <a:xfrm>
              <a:off x="6483600" y="4222800"/>
              <a:ext cx="20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7438"/>
                  </a:solidFill>
                  <a:latin typeface="Arial"/>
                  <a:ea typeface="Arial"/>
                </a:rPr>
                <a:t>Element (at index 7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437508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666880" y="3917880"/>
            <a:ext cx="304920" cy="22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99240" y="3308400"/>
            <a:ext cx="1291680" cy="533520"/>
            <a:chOff x="1299240" y="3308400"/>
            <a:chExt cx="1291680" cy="533520"/>
          </a:xfrm>
        </p:grpSpPr>
        <p:sp>
          <p:nvSpPr>
            <p:cNvPr id="130" name=""/>
            <p:cNvSpPr/>
            <p:nvPr/>
          </p:nvSpPr>
          <p:spPr>
            <a:xfrm>
              <a:off x="1299240" y="330840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  <a:ea typeface="Arial"/>
                </a:rPr>
                <a:t>First inde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3689280"/>
              <a:ext cx="15264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90920" y="3841920"/>
            <a:ext cx="320040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67280" y="3276720"/>
            <a:ext cx="964080" cy="488520"/>
            <a:chOff x="5867280" y="3276720"/>
            <a:chExt cx="964080" cy="488520"/>
          </a:xfrm>
        </p:grpSpPr>
        <p:sp>
          <p:nvSpPr>
            <p:cNvPr id="134" name=""/>
            <p:cNvSpPr/>
            <p:nvPr/>
          </p:nvSpPr>
          <p:spPr>
            <a:xfrm flipV="1">
              <a:off x="5867280" y="3612960"/>
              <a:ext cx="1526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2600" y="32767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  <a:ea typeface="Arial"/>
                </a:rPr>
                <a:t>Indic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มิติใน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0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อาเรย์หนึ่ง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อาเรย์หลาย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 อาเรย์สองมิติ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81080" y="1828800"/>
            <a:ext cx="3657600" cy="609480"/>
            <a:chOff x="1981080" y="1828800"/>
            <a:chExt cx="3657600" cy="609480"/>
          </a:xfrm>
        </p:grpSpPr>
        <p:sp>
          <p:nvSpPr>
            <p:cNvPr id="139" name=""/>
            <p:cNvSpPr/>
            <p:nvPr/>
          </p:nvSpPr>
          <p:spPr>
            <a:xfrm>
              <a:off x="198108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1828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1828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1828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9200" y="1828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4120" y="1828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480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2133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2133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4120" y="2133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57400" y="4114800"/>
            <a:ext cx="3048120" cy="1523880"/>
            <a:chOff x="2057400" y="4114800"/>
            <a:chExt cx="3048120" cy="1523880"/>
          </a:xfrm>
        </p:grpSpPr>
        <p:sp>
          <p:nvSpPr>
            <p:cNvPr id="164" name=""/>
            <p:cNvSpPr/>
            <p:nvPr/>
          </p:nvSpPr>
          <p:spPr>
            <a:xfrm>
              <a:off x="2362320" y="4114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180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4114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128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620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41148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9568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41148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2320" y="4419720"/>
              <a:ext cx="30456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88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180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128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1120" y="4419720"/>
              <a:ext cx="30456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568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472428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688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6720" y="472428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1120" y="472428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568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472428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50292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688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50292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8620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5029200"/>
              <a:ext cx="30456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9568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0600" y="5029200"/>
              <a:ext cx="30492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53341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7180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76720" y="53341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20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1120" y="53341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600" y="5334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50292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7242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419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1148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388360" cy="32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แปรอาเรย์ใช้สำหรับอ้างถึง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ไวยากรณ์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ประกาศตัวแปร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15" name=""/>
          <p:cNvSpPr/>
          <p:nvPr/>
        </p:nvSpPr>
        <p:spPr>
          <a:xfrm>
            <a:off x="2002320" y="2209680"/>
            <a:ext cx="4082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78e"/>
                </a:solidFill>
                <a:latin typeface="Courier New"/>
              </a:rPr>
              <a:t>&lt;</a:t>
            </a:r>
            <a:r>
              <a:rPr b="1" i="1" lang="en-US" sz="3200" spc="-1" strike="noStrike">
                <a:solidFill>
                  <a:srgbClr val="00478e"/>
                </a:solidFill>
                <a:latin typeface="Courier New"/>
              </a:rPr>
              <a:t>type</a:t>
            </a:r>
            <a:r>
              <a:rPr b="1" lang="en-US" sz="3200" spc="-1" strike="noStrike">
                <a:solidFill>
                  <a:srgbClr val="00478e"/>
                </a:solidFill>
                <a:latin typeface="Courier New"/>
              </a:rPr>
              <a:t>&gt;[] &lt;</a:t>
            </a:r>
            <a:r>
              <a:rPr b="1" i="1" lang="en-US" sz="3200" spc="-1" strike="noStrike">
                <a:solidFill>
                  <a:srgbClr val="00478e"/>
                </a:solidFill>
                <a:latin typeface="Courier New"/>
              </a:rPr>
              <a:t>name</a:t>
            </a:r>
            <a:r>
              <a:rPr b="1" lang="en-US" sz="3200" spc="-1" strike="noStrike">
                <a:solidFill>
                  <a:srgbClr val="00478e"/>
                </a:solidFill>
                <a:latin typeface="Courier New"/>
              </a:rPr>
              <a:t>&gt;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657600"/>
            <a:ext cx="7391520" cy="289548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// "</a:t>
            </a:r>
            <a:r>
              <a:rPr b="1" i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scores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" refers to an array of inte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// "</a:t>
            </a:r>
            <a:r>
              <a:rPr b="1" i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grades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" refers to an array of charac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char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grad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// "</a:t>
            </a:r>
            <a:r>
              <a:rPr b="1" i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names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  <a:ea typeface="Arial"/>
              </a:rPr>
              <a:t>" refers to an array of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string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nam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สร้าง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8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าเรย์จริงจะถูกสร้างโดยใช้ตัวดำเนินการ </a:t>
            </a:r>
            <a:r>
              <a:rPr b="1" lang="en-US" sz="3200" spc="-1" strike="noStrike">
                <a:solidFill>
                  <a:srgbClr val="fa7438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2" marL="1414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2" marL="1414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ไวยากรณ์ข้างต้นถือเป็นนิพจน์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าเรย์ซึ่งสร้างขึ้นมาใหม่สามารถกำหนดให้กับตัวแปรอาเรย์สำหรับการอ้างอิงต่อไปได้ในอนาคต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หรือ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9" name=""/>
          <p:cNvSpPr/>
          <p:nvPr/>
        </p:nvSpPr>
        <p:spPr>
          <a:xfrm>
            <a:off x="1917360" y="1828800"/>
            <a:ext cx="43869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478e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&lt;</a:t>
            </a:r>
            <a:r>
              <a:rPr b="1" i="1" lang="en-US" sz="2400" spc="-1" strike="noStrike">
                <a:solidFill>
                  <a:srgbClr val="00478e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&gt;[</a:t>
            </a:r>
            <a:r>
              <a:rPr b="1" i="1" lang="en-US" sz="2400" spc="-1" strike="noStrike">
                <a:solidFill>
                  <a:srgbClr val="00478e"/>
                </a:solidFill>
                <a:latin typeface="Courier New"/>
              </a:rPr>
              <a:t>&lt;#elements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495680"/>
            <a:ext cx="3352680" cy="7621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cores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  <a:ea typeface="Arial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[1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5867280"/>
            <a:ext cx="4343400" cy="4572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  <a:ea typeface="Arial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[1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267080" y="1143000"/>
            <a:ext cx="4648320" cy="457200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lin ang="135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72880" y="5791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cs typeface="Arial"/>
              </a:rPr>
              <a:t>หน่วยความจำคอมพิวเตอร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13068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การประกาศและกระบวนการสร้างอาเรย์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257800" y="4419720"/>
            <a:ext cx="3048120" cy="380880"/>
            <a:chOff x="5257800" y="4419720"/>
            <a:chExt cx="3048120" cy="380880"/>
          </a:xfrm>
        </p:grpSpPr>
        <p:sp>
          <p:nvSpPr>
            <p:cNvPr id="226" name=""/>
            <p:cNvSpPr/>
            <p:nvPr/>
          </p:nvSpPr>
          <p:spPr>
            <a:xfrm>
              <a:off x="525780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272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7640" y="441972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712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82040" y="441972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8660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440" y="4419720"/>
              <a:ext cx="30456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1000" y="441972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57200" y="1371600"/>
            <a:ext cx="3657600" cy="137160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[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sco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cores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  <a:ea typeface="Arial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b8d5b"/>
                </a:solidFill>
                <a:latin typeface="Courier New"/>
                <a:ea typeface="Arial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[1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21337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24480" y="2197080"/>
            <a:ext cx="1148040" cy="380880"/>
            <a:chOff x="6324480" y="2197080"/>
            <a:chExt cx="1148040" cy="380880"/>
          </a:xfrm>
        </p:grpSpPr>
        <p:sp>
          <p:nvSpPr>
            <p:cNvPr id="239" name=""/>
            <p:cNvSpPr/>
            <p:nvPr/>
          </p:nvSpPr>
          <p:spPr>
            <a:xfrm>
              <a:off x="6324480" y="2197080"/>
              <a:ext cx="685800" cy="165240"/>
            </a:xfrm>
            <a:custGeom>
              <a:avLst/>
              <a:gdLst/>
              <a:ahLst/>
              <a:rect l="l" t="t" r="r" b="b"/>
              <a:pathLst>
                <a:path w="432" h="104">
                  <a:moveTo>
                    <a:pt x="0" y="56"/>
                  </a:moveTo>
                  <a:cubicBezTo>
                    <a:pt x="48" y="60"/>
                    <a:pt x="96" y="64"/>
                    <a:pt x="144" y="56"/>
                  </a:cubicBezTo>
                  <a:cubicBezTo>
                    <a:pt x="192" y="48"/>
                    <a:pt x="240" y="0"/>
                    <a:pt x="288" y="8"/>
                  </a:cubicBezTo>
                  <a:cubicBezTo>
                    <a:pt x="336" y="16"/>
                    <a:pt x="384" y="60"/>
                    <a:pt x="432" y="10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11360" y="22096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?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9400" y="2286000"/>
            <a:ext cx="2400120" cy="2133720"/>
          </a:xfrm>
          <a:custGeom>
            <a:avLst/>
            <a:gdLst/>
            <a:ahLst/>
            <a:rect l="l" t="t" r="r" b="b"/>
            <a:pathLst>
              <a:path w="1512" h="1344">
                <a:moveTo>
                  <a:pt x="1112" y="0"/>
                </a:moveTo>
                <a:cubicBezTo>
                  <a:pt x="1312" y="92"/>
                  <a:pt x="1512" y="184"/>
                  <a:pt x="1352" y="336"/>
                </a:cubicBezTo>
                <a:cubicBezTo>
                  <a:pt x="1192" y="488"/>
                  <a:pt x="304" y="744"/>
                  <a:pt x="152" y="912"/>
                </a:cubicBezTo>
                <a:cubicBezTo>
                  <a:pt x="0" y="1080"/>
                  <a:pt x="220" y="1212"/>
                  <a:pt x="440" y="1344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220968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a7438">
              <a:alpha val="2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13372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6699ff">
              <a:alpha val="2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5238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6699ff">
              <a:alpha val="2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7:07:14Z</dcterms:created>
  <dc:creator>Aphirak Jansang</dc:creator>
  <dc:description/>
  <cp:keywords/>
  <dc:language>en-US</dc:language>
  <cp:lastModifiedBy>Thitiwan Srinark</cp:lastModifiedBy>
  <dcterms:modified xsi:type="dcterms:W3CDTF">2009-05-09T05:17:09Z</dcterms:modified>
  <cp:revision>786</cp:revision>
  <dc:subject>204111</dc:subject>
  <dc:title>module07: Arra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