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20BA6-FA53-4302-BA79-ED3F38051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5BE62-7B4C-48F1-A8C0-6A9D4AD34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C7B9C-1253-4362-85B9-4B50D5C0F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3BD8-704F-481E-8BBC-A29D0F5E5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666520" y="502920"/>
            <a:ext cx="6324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86D6-C3C6-48B6-8657-23EE794E1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638AE-2047-4F9D-8E81-D2EBBFDC9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300F7-119C-4A1E-83A7-E9B71009E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B3D11-B141-46E3-914F-1BC3110A1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6520" y="502920"/>
            <a:ext cx="6324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C0D16-704F-41A0-888E-4D888898E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C2D90-22B0-4DB2-A127-C260BAB36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D968-15C5-4FAA-BF17-6FB801510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AF17C-B1D0-40B1-AA07-0C479DDA6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05160" y="120600"/>
            <a:ext cx="6738840" cy="1055880"/>
          </a:xfrm>
          <a:prstGeom prst="rect">
            <a:avLst/>
          </a:prstGeom>
          <a:solidFill>
            <a:srgbClr val="e4c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80000"/>
            <a:ext cx="9144000" cy="405000"/>
          </a:xfrm>
          <a:prstGeom prst="rect">
            <a:avLst/>
          </a:prstGeom>
          <a:solidFill>
            <a:srgbClr val="6a9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3c230a"/>
          </a:solidFill>
          <a:ln w="9360">
            <a:solidFill>
              <a:srgbClr val="3c2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1258920" cy="116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5892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187280" y="0"/>
          <a:ext cx="1224000" cy="117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0"/>
                    <a:ext cx="12240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4c5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c23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c23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1"/>
          </p:nvPr>
        </p:nvSpPr>
        <p:spPr>
          <a:xfrm>
            <a:off x="5867280" y="648612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e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e7"/>
                </a:solidFill>
                <a:latin typeface="Times New Roman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09480" y="6489360"/>
            <a:ext cx="990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8567-BB7B-4EF7-BF29-61409395A4E7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e7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86080"/>
            <a:ext cx="7380360" cy="430200"/>
          </a:xfrm>
          <a:prstGeom prst="rect">
            <a:avLst/>
          </a:prstGeom>
          <a:solidFill>
            <a:srgbClr val="3c2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1495440"/>
            <a:ext cx="1835280" cy="420840"/>
          </a:xfrm>
          <a:prstGeom prst="rect">
            <a:avLst/>
          </a:prstGeom>
          <a:solidFill>
            <a:srgbClr val="e4c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c57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230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230a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3c230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c230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c230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c230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c230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852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e7"/>
                </a:solidFill>
                <a:latin typeface="Arial"/>
              </a:rPr>
              <a:t>C# IDE</a:t>
            </a: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68560" y="1447920"/>
            <a:ext cx="521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SharpDevelop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91" name="" descr="Welcome to SharpDevelop, the open source IDE for .NET, supporting C#, VB.NET and Boo on .NET Framework 1.1, 2.0 and Mono"/>
          <p:cNvPicPr/>
          <p:nvPr/>
        </p:nvPicPr>
        <p:blipFill>
          <a:blip r:embed="rId1"/>
          <a:stretch/>
        </p:blipFill>
        <p:spPr>
          <a:xfrm>
            <a:off x="611280" y="990720"/>
            <a:ext cx="7705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C# Studio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0" b="24769"/>
          <a:stretch/>
        </p:blipFill>
        <p:spPr>
          <a:xfrm>
            <a:off x="468360" y="1197000"/>
            <a:ext cx="8280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MonoDevelop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97" name="" descr="ss-main-window.png"/>
          <p:cNvPicPr/>
          <p:nvPr/>
        </p:nvPicPr>
        <p:blipFill>
          <a:blip r:embed="rId1"/>
          <a:stretch/>
        </p:blipFill>
        <p:spPr>
          <a:xfrm>
            <a:off x="539640" y="1127160"/>
            <a:ext cx="77043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XACC.IDE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717876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WEB SITES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www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harpfriend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har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source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net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thai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space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live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msdn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microsoft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en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u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vcshar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default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aspx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www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twoguru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playground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_tutorial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index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2:13:45Z</dcterms:created>
  <dc:creator>Com_ipst</dc:creator>
  <dc:description/>
  <dc:language>en-US</dc:language>
  <cp:lastModifiedBy>Com_ipst</cp:lastModifiedBy>
  <dcterms:modified xsi:type="dcterms:W3CDTF">2009-05-15T02:22:29Z</dcterms:modified>
  <cp:revision>3</cp:revision>
  <dc:subject/>
  <dc:title>C# IDE</dc:title>
</cp:coreProperties>
</file>