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15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เมท็อด</a:t>
            </a: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(Method)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490176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66"/>
                </a:solidFill>
                <a:latin typeface="EucrosiaUPC"/>
              </a:rPr>
              <a:t>C# Programming</a:t>
            </a:r>
            <a:endParaRPr b="0" lang="en-US" sz="40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ประกาศ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7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ไวยากรณ์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&lt;return-type&gt;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สามารถเป็น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8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ประเภทข้อมูล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C# 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, ...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8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ประเภทข้อมูลซึ่งกำหนดโดยผู้ใช้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: struct/class name,  ...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8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ไม่มีการส่งคืนค่า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void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&lt;parameter-list&gt;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8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ประกอบด้วย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&lt;parameter-type&gt;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และ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&lt;parameter-name&gt;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เช่น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int x, string s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8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หรือ อาจจะเว้นว่างไว้ หากไม่มี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600200"/>
            <a:ext cx="6553440" cy="160020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100000">
                <a:srgbClr val="0000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&lt;</a:t>
            </a:r>
            <a:r>
              <a:rPr b="1" i="1" lang="en-US" sz="1600" spc="-1" strike="noStrike">
                <a:solidFill>
                  <a:srgbClr val="66cc66"/>
                </a:solidFill>
                <a:latin typeface="Courier New"/>
              </a:rPr>
              <a:t>return-type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gt; &lt;</a:t>
            </a:r>
            <a:r>
              <a:rPr b="1" i="1" lang="en-US" sz="1600" spc="-1" strike="noStrike">
                <a:solidFill>
                  <a:srgbClr val="66cc66"/>
                </a:solidFill>
                <a:latin typeface="Courier New"/>
              </a:rPr>
              <a:t>method-name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gt;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lt;</a:t>
            </a:r>
            <a:r>
              <a:rPr b="1" i="1" lang="en-US" sz="1600" spc="-1" strike="noStrike">
                <a:solidFill>
                  <a:srgbClr val="66cc66"/>
                </a:solidFill>
                <a:latin typeface="Courier New"/>
              </a:rPr>
              <a:t>parameter list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gt;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lt;</a:t>
            </a:r>
            <a:r>
              <a:rPr b="1" i="1" lang="en-US" sz="1600" spc="-1" strike="noStrike">
                <a:solidFill>
                  <a:srgbClr val="66cc66"/>
                </a:solidFill>
                <a:latin typeface="Courier New"/>
              </a:rPr>
              <a:t>statement-1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gt;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lt;</a:t>
            </a:r>
            <a:r>
              <a:rPr b="1" i="1" lang="en-US" sz="1600" spc="-1" strike="noStrike">
                <a:solidFill>
                  <a:srgbClr val="66cc66"/>
                </a:solidFill>
                <a:latin typeface="Courier New"/>
              </a:rPr>
              <a:t>statement-2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&gt;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010280" y="3886200"/>
            <a:ext cx="2602080" cy="837720"/>
            <a:chOff x="7010280" y="3886200"/>
            <a:chExt cx="2602080" cy="837720"/>
          </a:xfrm>
        </p:grpSpPr>
        <p:sp>
          <p:nvSpPr>
            <p:cNvPr id="131" name=""/>
            <p:cNvSpPr/>
            <p:nvPr/>
          </p:nvSpPr>
          <p:spPr>
            <a:xfrm>
              <a:off x="7010280" y="388620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47080" y="4028040"/>
              <a:ext cx="24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d961"/>
                  </a:solidFill>
                  <a:latin typeface="Arial"/>
                </a:rPr>
                <a:t>ต้องมีคำสั่ง </a:t>
              </a:r>
              <a:r>
                <a:rPr b="1" lang="en-US" sz="1600" spc="-1" strike="noStrike">
                  <a:solidFill>
                    <a:srgbClr val="fa7438"/>
                  </a:solidFill>
                  <a:latin typeface="Courier New"/>
                </a:rPr>
                <a:t>retur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การประกาศ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มท็อด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Show10Stars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แสดงอักขระ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'*' 10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ัว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บนหน้าจอ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มท็อด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Show10Stars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แสดงอักขระ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'*'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ามจำนวนที่ได้กำหนด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มท็อด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ComputeArea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คำนวนขนาดพื้นที่ของรูปสามเหลี่ยม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676520"/>
            <a:ext cx="701064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Show10Star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276720"/>
            <a:ext cx="701064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ShowStar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int n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648320"/>
            <a:ext cx="739152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ComputeAre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double w, double h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ำสั่ง </a:t>
            </a:r>
            <a:r>
              <a:rPr b="1" lang="en-US" sz="5400" spc="-1" strike="noStrike">
                <a:solidFill>
                  <a:srgbClr val="fa7438"/>
                </a:solidFill>
                <a:latin typeface="EucrosiaUPC"/>
              </a:rPr>
              <a:t>return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9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้องใช้สำหรับเมท็อดที่ต้องการส่งค่าคือ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ไวยากรณ์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  <a:ea typeface="Arial"/>
              </a:rPr>
              <a:t>&lt;expression&gt;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้องสอดคล้องกับประเภทข้อมูลที่ส่งคืนซึ่งได้ประกาศไว้ เช่น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209680"/>
            <a:ext cx="3429000" cy="5335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100000">
                <a:srgbClr val="0000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 &lt;expression&gt;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4114800"/>
            <a:ext cx="7010280" cy="12193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double Average(double x, double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return (x+y)/2.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72428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6699ff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4191120"/>
            <a:ext cx="990360" cy="304560"/>
          </a:xfrm>
          <a:prstGeom prst="roundRect">
            <a:avLst>
              <a:gd name="adj" fmla="val 16667"/>
            </a:avLst>
          </a:prstGeom>
          <a:solidFill>
            <a:srgbClr val="fa7438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5562720"/>
            <a:ext cx="1828800" cy="685800"/>
          </a:xfrm>
          <a:prstGeom prst="wedgeRoundRectCallout">
            <a:avLst>
              <a:gd name="adj1" fmla="val -55555"/>
              <a:gd name="adj2" fmla="val -131018"/>
              <a:gd name="adj3" fmla="val 16667"/>
            </a:avLst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EucrosiaUPC"/>
                <a:cs typeface="EucrosiaUPC"/>
              </a:rPr>
              <a:t>ค่าที่ส่ง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562720"/>
            <a:ext cx="2819160" cy="914400"/>
          </a:xfrm>
          <a:prstGeom prst="wedgeRoundRectCallout">
            <a:avLst>
              <a:gd name="adj1" fmla="val -129393"/>
              <a:gd name="adj2" fmla="val -169791"/>
              <a:gd name="adj3" fmla="val 16667"/>
            </a:avLst>
          </a:prstGeom>
          <a:gradFill rotWithShape="0">
            <a:gsLst>
              <a:gs pos="0">
                <a:srgbClr val="733519"/>
              </a:gs>
              <a:gs pos="100000">
                <a:srgbClr val="fa7438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crosiaUPC"/>
                <a:ea typeface="EucrosiaUPC"/>
              </a:rPr>
              <a:t>…</a:t>
            </a:r>
            <a:r>
              <a:rPr b="1" lang="th-TH" sz="2800" spc="-1" strike="noStrike">
                <a:solidFill>
                  <a:srgbClr val="ffffff"/>
                </a:solidFill>
                <a:latin typeface="EucrosiaUPC"/>
                <a:cs typeface="EucrosiaUPC"/>
              </a:rPr>
              <a:t>ต้องสอดคล้องกับ </a:t>
            </a:r>
            <a:r>
              <a:rPr b="1" lang="en-US" sz="2800" spc="-1" strike="noStrike">
                <a:solidFill>
                  <a:srgbClr val="ffffff"/>
                </a:solidFill>
                <a:latin typeface="EucrosiaUPC"/>
                <a:ea typeface="EucrosiaUPC"/>
              </a:rPr>
              <a:t>return type </a:t>
            </a:r>
            <a:r>
              <a:rPr b="1" lang="th-TH" sz="2800" spc="-1" strike="noStrike">
                <a:solidFill>
                  <a:srgbClr val="ffffff"/>
                </a:solidFill>
                <a:latin typeface="EucrosiaUPC"/>
                <a:cs typeface="EucrosiaUPC"/>
              </a:rPr>
              <a:t>ที่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พารามิเตอร์ของ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มท็อดสามารถประกาศให้รับได้ทั้งหนึ่ง หรือหลายพารามิเตอร์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มื่อเรียกเมท็อด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จำนวนนิพจน์ต้องเท่ากับจำนวนพารามิเตอร์ที่กำหนด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ประเภทข้อมูลต้องสอดคล้องกัน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200400"/>
            <a:ext cx="7010280" cy="31240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ss MethodEx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ic void Main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 x = Method1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ethod2(x, "Hello", 3.5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ic int Method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ic void Method2(int a, string x, double b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691080"/>
            <a:ext cx="2133360" cy="210960"/>
          </a:xfrm>
          <a:prstGeom prst="roundRect">
            <a:avLst>
              <a:gd name="adj" fmla="val 16667"/>
            </a:avLst>
          </a:prstGeom>
          <a:solidFill>
            <a:srgbClr val="fa7438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911760"/>
            <a:ext cx="2895480" cy="210960"/>
          </a:xfrm>
          <a:prstGeom prst="roundRect">
            <a:avLst>
              <a:gd name="adj" fmla="val 16667"/>
            </a:avLst>
          </a:prstGeom>
          <a:solidFill>
            <a:srgbClr val="66cc66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8080" y="4551480"/>
            <a:ext cx="2203200" cy="210960"/>
          </a:xfrm>
          <a:prstGeom prst="roundRect">
            <a:avLst>
              <a:gd name="adj" fmla="val 16667"/>
            </a:avLst>
          </a:prstGeom>
          <a:solidFill>
            <a:srgbClr val="fa7438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89240" y="5398920"/>
            <a:ext cx="4935240" cy="211320"/>
          </a:xfrm>
          <a:prstGeom prst="roundRect">
            <a:avLst>
              <a:gd name="adj" fmla="val 16667"/>
            </a:avLst>
          </a:prstGeom>
          <a:solidFill>
            <a:srgbClr val="66cc66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แบบฝึกหั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648320" cy="490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พิจารณาโค้ด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หากทำการเรียกเมท็อดใ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Main()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การเรียกเมท็อดใดถูกต้อ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x = Hello(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Hello("everyone"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Hello(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Hi(s, y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y = Hi(3, t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Hi(x, "there"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Courier New"/>
              </a:rPr>
              <a:t>Hi(x, x)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762120"/>
            <a:ext cx="4343400" cy="55623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ass Quiz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ic void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 x, y;  string s, 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static int Hello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static void Hi(int a, string 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static void Hi(int a, int 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66cc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1219320"/>
            <a:ext cx="1600200" cy="304560"/>
          </a:xfrm>
          <a:prstGeom prst="rightArrow">
            <a:avLst>
              <a:gd name="adj1" fmla="val 50000"/>
              <a:gd name="adj2" fmla="val 131353"/>
            </a:avLst>
          </a:prstGeom>
          <a:solidFill>
            <a:srgbClr val="66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720" y="32767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a7438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4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cc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800" y="2895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cc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3720" y="4038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a7438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3720" y="4343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a7438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4800" y="4724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cc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800" y="5105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cc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เมท็อด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#1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ขียนเมท็อด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</a:rPr>
              <a:t>RectArea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รับพารามิเตอร์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: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</a:rPr>
              <a:t>int w, int h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คำนวนและส่งคืนค่าพื้นที่ของสี่เหลี่ยมผืนผ้าที่มีความกว้างเท่ากับ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</a:rPr>
              <a:t>w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ละความสูงเท่ากับ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505320"/>
            <a:ext cx="7010640" cy="1828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ic int RectArea(int w, int h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are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ea = w * 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are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เมท็อด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#2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ขียนเมท็อด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</a:rPr>
              <a:t>PrintRect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รับพารามิเตอร์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: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</a:rPr>
              <a:t>int w, int h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พิมพ์รูปสี่เหลี่ยมผืนผ้าขนาดความกว้าง </a:t>
            </a:r>
            <a:r>
              <a:rPr b="1" lang="en-US" sz="3200" spc="-1" strike="noStrike">
                <a:solidFill>
                  <a:srgbClr val="fa7438"/>
                </a:solidFill>
                <a:latin typeface="Courier New"/>
              </a:rPr>
              <a:t>w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ละความสูง </a:t>
            </a:r>
            <a:r>
              <a:rPr b="1" lang="en-US" sz="3200" spc="-1" strike="noStrike">
                <a:solidFill>
                  <a:srgbClr val="fa7438"/>
                </a:solidFill>
                <a:latin typeface="Courier New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ด้วยอักขระ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'*'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บนหน้าจอ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505320"/>
            <a:ext cx="7010640" cy="28954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ic void PrintRect(int w, int h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i, 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i = 0; i &lt; h; i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j = 0; j &lt; w; j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ole.Write('*'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ole.Write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ลับสมอง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เขียนเมท็อด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DrawLine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รับพารามิเตอร์หนึ่งตัว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int len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ไม่มีการส่งคืนค่าใด ๆ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วาดเส้นตรงด้วย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len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 '*'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โปรแกรมข้างต้นต้องแสดงผลลัพธ์เป็น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124080"/>
            <a:ext cx="7010640" cy="2286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ss Quiz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ic void Main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rawLine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495680"/>
            <a:ext cx="4952880" cy="457200"/>
          </a:xfrm>
          <a:prstGeom prst="rect">
            <a:avLst/>
          </a:prstGeom>
          <a:gradFill rotWithShape="0">
            <a:gsLst>
              <a:gs pos="0">
                <a:srgbClr val="797979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ใส่เมท็อด </a:t>
            </a: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DrawLine </a:t>
            </a: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ตรงนี้</a:t>
            </a: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6248520"/>
            <a:ext cx="7010640" cy="304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********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เนื้อห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ภาพรวมของเมท็อด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การเรียกเมท็อด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การประกาศเมท็อด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โครงสร้างโปรแกรมภาษา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โปรแกรมภาษ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C#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ประกอบด้วยหลายเนมสเปซ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(namespace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เนมสเปซหนึ่งประกอบด้วยหลายคลาส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คลาสหนึ่งประกอบด้วยหลายเมท็อด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581280"/>
            <a:ext cx="3276720" cy="2438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733920"/>
            <a:ext cx="1600200" cy="9144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100000">
                <a:srgbClr val="2f5e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809880"/>
            <a:ext cx="1371600" cy="30492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191120"/>
            <a:ext cx="1371600" cy="22860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876920"/>
            <a:ext cx="1981440" cy="6858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100000">
                <a:srgbClr val="2f5e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5029200"/>
            <a:ext cx="1371600" cy="22860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876920" y="3581280"/>
            <a:ext cx="2394000" cy="2438280"/>
            <a:chOff x="4876920" y="3581280"/>
            <a:chExt cx="2394000" cy="2438280"/>
          </a:xfrm>
        </p:grpSpPr>
        <p:sp>
          <p:nvSpPr>
            <p:cNvPr id="89" name=""/>
            <p:cNvSpPr/>
            <p:nvPr/>
          </p:nvSpPr>
          <p:spPr>
            <a:xfrm>
              <a:off x="4876920" y="3581280"/>
              <a:ext cx="457200" cy="2438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98560" y="4535280"/>
              <a:ext cx="18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</a:rPr>
                <a:t>Namesp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00400" y="3733920"/>
            <a:ext cx="1376640" cy="914400"/>
            <a:chOff x="3200400" y="3733920"/>
            <a:chExt cx="1376640" cy="914400"/>
          </a:xfrm>
        </p:grpSpPr>
        <p:sp>
          <p:nvSpPr>
            <p:cNvPr id="92" name=""/>
            <p:cNvSpPr/>
            <p:nvPr/>
          </p:nvSpPr>
          <p:spPr>
            <a:xfrm>
              <a:off x="3200400" y="373392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4160" y="3962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66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โครงสร้างโปรแกร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4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ที่ผ่านมาโปรแกรมเราจะมีเพียงเมท็อดเดียวเท่านั้นคือ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Main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600200"/>
            <a:ext cx="7238880" cy="2288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space HelloW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HelloWClas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WriteLine("Hello Worl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905120"/>
            <a:ext cx="6629400" cy="167616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209680"/>
            <a:ext cx="6172200" cy="1143000"/>
          </a:xfrm>
          <a:prstGeom prst="roundRect">
            <a:avLst>
              <a:gd name="adj" fmla="val 16667"/>
            </a:avLst>
          </a:pr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ประโยชน์ของการใช้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8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ช่วยมองงานที่ซับซ้อนเป็นงานย่อย ๆ ที่เล็กล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ช่วยลดการเขียนโค้ดที่ซ้ำซ้อ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ช่วยซ่อนรายละเอียดของโปรแกรมไว้ที่ส่วนอื่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ทำให้โปรแกรมดูมีระเบียบและง่ายต่อการเข้าใจ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พิ่มความสะดวกในการนำโค้ดที่เขียนไว้แล้วไปใช้ในโปรแกรมอื่น ๆ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ภาพรวมของ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โปรแกรมหนึ่งสามารถประกอบด้วยเมท็อดมากกว่าหนึ่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892160"/>
            <a:ext cx="7238880" cy="42213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space HelloW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HelloWClas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ethod1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int Method2(int x, double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514600"/>
            <a:ext cx="5562720" cy="838080"/>
          </a:xfrm>
          <a:prstGeom prst="roundRect">
            <a:avLst>
              <a:gd name="adj" fmla="val 7384"/>
            </a:avLst>
          </a:prstGeom>
          <a:solidFill>
            <a:srgbClr val="fa7438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581280"/>
            <a:ext cx="5562720" cy="914400"/>
          </a:xfrm>
          <a:prstGeom prst="roundRect">
            <a:avLst>
              <a:gd name="adj" fmla="val 9722"/>
            </a:avLst>
          </a:pr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648320"/>
            <a:ext cx="5562720" cy="914400"/>
          </a:xfrm>
          <a:prstGeom prst="roundRect">
            <a:avLst>
              <a:gd name="adj" fmla="val 9722"/>
            </a:avLst>
          </a:pr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ประเภทของ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600200"/>
            <a:ext cx="2971800" cy="685800"/>
          </a:xfrm>
          <a:prstGeom prst="rect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  <a:cs typeface="EucrosiaUPC"/>
              </a:rPr>
              <a:t>ประเภทของเมท็อ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971800"/>
            <a:ext cx="2514600" cy="1143000"/>
          </a:xfrm>
          <a:prstGeom prst="rect">
            <a:avLst/>
          </a:prstGeom>
          <a:solidFill>
            <a:srgbClr val="00478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61"/>
                </a:solidFill>
                <a:latin typeface="Franklin Gothic Medium"/>
                <a:cs typeface="EucrosiaUPC"/>
              </a:rPr>
              <a:t>เมท็อดที่มีอยู่แล้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2971800"/>
            <a:ext cx="2819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61"/>
                </a:solidFill>
                <a:latin typeface="Franklin Gothic Medium"/>
                <a:cs typeface="EucrosiaUPC"/>
              </a:rPr>
              <a:t>เมท็อดที่สร้างขึ้นมาเ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4800600"/>
            <a:ext cx="160020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78e"/>
                </a:solidFill>
                <a:latin typeface="Franklin Gothic Medium"/>
                <a:cs typeface="EucrosiaUPC"/>
              </a:rPr>
              <a:t>ส่งคืนค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4800600"/>
            <a:ext cx="1905120" cy="1143000"/>
          </a:xfrm>
          <a:prstGeom prst="rect">
            <a:avLst/>
          </a:prstGeom>
          <a:solidFill>
            <a:srgbClr val="ffd96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78e"/>
                </a:solidFill>
                <a:latin typeface="Franklin Gothic Medium"/>
                <a:cs typeface="EucrosiaUPC"/>
              </a:rPr>
              <a:t>ไม่คืนค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4800600"/>
            <a:ext cx="160020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78e"/>
                </a:solidFill>
                <a:latin typeface="Franklin Gothic Medium"/>
                <a:cs typeface="EucrosiaUPC"/>
              </a:rPr>
              <a:t>ส่งคืนค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4800600"/>
            <a:ext cx="1904760" cy="1143000"/>
          </a:xfrm>
          <a:prstGeom prst="rect">
            <a:avLst/>
          </a:prstGeom>
          <a:solidFill>
            <a:srgbClr val="ffd96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78e"/>
                </a:solidFill>
                <a:latin typeface="Franklin Gothic Medium"/>
                <a:cs typeface="EucrosiaUPC"/>
              </a:rPr>
              <a:t>ไม่คืนค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8" idx="2"/>
            <a:endCxn id="109" idx="0"/>
          </p:cNvCxnSpPr>
          <p:nvPr/>
        </p:nvCxnSpPr>
        <p:spPr>
          <a:xfrm rot="5400000">
            <a:off x="3085560" y="1447560"/>
            <a:ext cx="686520" cy="236304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6" name=""/>
          <p:cNvCxnSpPr>
            <a:stCxn id="108" idx="2"/>
            <a:endCxn id="110" idx="0"/>
          </p:cNvCxnSpPr>
          <p:nvPr/>
        </p:nvCxnSpPr>
        <p:spPr>
          <a:xfrm flipH="1" rot="16200000">
            <a:off x="5371920" y="1523520"/>
            <a:ext cx="686520" cy="221040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"/>
          <p:cNvCxnSpPr>
            <a:stCxn id="109" idx="2"/>
            <a:endCxn id="111" idx="0"/>
          </p:cNvCxnSpPr>
          <p:nvPr/>
        </p:nvCxnSpPr>
        <p:spPr>
          <a:xfrm rot="5400000">
            <a:off x="1218600" y="3771720"/>
            <a:ext cx="686520" cy="137232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"/>
          <p:cNvCxnSpPr>
            <a:stCxn id="109" idx="2"/>
            <a:endCxn id="112" idx="0"/>
          </p:cNvCxnSpPr>
          <p:nvPr/>
        </p:nvCxnSpPr>
        <p:spPr>
          <a:xfrm flipH="1" rot="16200000">
            <a:off x="2475360" y="3885840"/>
            <a:ext cx="686520" cy="114372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9" name=""/>
          <p:cNvCxnSpPr>
            <a:stCxn id="110" idx="2"/>
            <a:endCxn id="113" idx="0"/>
          </p:cNvCxnSpPr>
          <p:nvPr/>
        </p:nvCxnSpPr>
        <p:spPr>
          <a:xfrm rot="5400000">
            <a:off x="5866920" y="3848040"/>
            <a:ext cx="686520" cy="12196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0" name=""/>
          <p:cNvCxnSpPr>
            <a:stCxn id="110" idx="2"/>
            <a:endCxn id="114" idx="0"/>
          </p:cNvCxnSpPr>
          <p:nvPr/>
        </p:nvCxnSpPr>
        <p:spPr>
          <a:xfrm flipH="1" rot="16200000">
            <a:off x="7123680" y="3809520"/>
            <a:ext cx="686520" cy="129636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ฟังก์ชันและโปรแกรมย่อย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5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7438"/>
                </a:solidFill>
                <a:latin typeface="EucrosiaUPC"/>
              </a:rPr>
              <a:t>ฟังก์ชัน </a:t>
            </a:r>
            <a:r>
              <a:rPr b="0" lang="en-US" sz="4000" spc="-1" strike="noStrike">
                <a:solidFill>
                  <a:srgbClr val="fa7438"/>
                </a:solidFill>
                <a:latin typeface="EucrosiaUPC"/>
              </a:rPr>
              <a:t>(Function)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มท็อดที่มีการส่งคืนค่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7438"/>
                </a:solidFill>
                <a:latin typeface="EucrosiaUPC"/>
              </a:rPr>
              <a:t>โปรแกรมย่อย </a:t>
            </a:r>
            <a:r>
              <a:rPr b="0" lang="en-US" sz="4000" spc="-1" strike="noStrike">
                <a:solidFill>
                  <a:srgbClr val="fa7438"/>
                </a:solidFill>
                <a:latin typeface="EucrosiaUPC"/>
              </a:rPr>
              <a:t>(Subroutine </a:t>
            </a:r>
            <a:r>
              <a:rPr b="0" lang="en-US" sz="4000" spc="-1" strike="noStrike">
                <a:solidFill>
                  <a:srgbClr val="fa7438"/>
                </a:solidFill>
                <a:latin typeface="EucrosiaUPC"/>
              </a:rPr>
              <a:t>หรือ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4000" spc="-1" strike="noStrike">
                <a:solidFill>
                  <a:srgbClr val="fa7438"/>
                </a:solidFill>
                <a:latin typeface="EucrosiaUPC"/>
              </a:rPr>
              <a:t>Procedure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) –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มท็อดที่ไม่มีการส่งคืนค่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เรียก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4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การเรียกเมท็อดซึ่งไม่มีการส่งคืนค่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การเรียกเมท็อดซึ่งมีการส่งคืนค่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828800"/>
            <a:ext cx="6096240" cy="7621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ole.WriteLine("Hello, World!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ole.Write("Enter N: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657600"/>
            <a:ext cx="7010640" cy="1143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ing s = 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d = double.Parse(Console.ReadLine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p = Math.Pow(3, 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Chaiporn Jaikaeo</cp:lastModifiedBy>
  <dcterms:modified xsi:type="dcterms:W3CDTF">2009-05-13T06:35:14Z</dcterms:modified>
  <cp:revision>315</cp:revision>
  <dc:subject/>
  <dc:title>Computer and Programming</dc:title>
</cp:coreProperties>
</file>