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280" y="1906200"/>
            <a:ext cx="81154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d961"/>
                </a:solidFill>
                <a:latin typeface="EucrosiaUPC"/>
                <a:cs typeface="Angsana New"/>
              </a:rPr>
              <a:t>คำสั่งรับค่าและฟังก์ชันทางคณิตศาสตร์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484092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ดำเนินการสำหรับเพิ่ม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/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ลดค่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7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ดำเนินการ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3600" spc="-1" strike="noStrike">
                <a:solidFill>
                  <a:srgbClr val="fa7438"/>
                </a:solidFill>
                <a:latin typeface="Courier New"/>
              </a:rPr>
              <a:t>++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และ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3600" spc="-1" strike="noStrike">
                <a:solidFill>
                  <a:srgbClr val="fa7438"/>
                </a:solidFill>
                <a:latin typeface="Courier New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ใช้สำหรับเพิ่มและลดค่าให้ตัวแปร</a:t>
            </a:r>
            <a:br>
              <a:rPr sz="3600"/>
            </a:b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ทีละ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0" y="2057400"/>
          <a:ext cx="4051080" cy="1423800"/>
        </p:xfrm>
        <a:graphic>
          <a:graphicData uri="http://schemas.openxmlformats.org/drawingml/2006/table">
            <a:tbl>
              <a:tblPr/>
              <a:tblGrid>
                <a:gridCol w="1220760"/>
                <a:gridCol w="283032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ำสั่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ผลลัพธ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d961"/>
                          </a:solidFill>
                          <a:latin typeface="Courier New"/>
                          <a:ea typeface="EucrosiaUPC"/>
                        </a:rPr>
                        <a:t>x+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พิ่มค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d961"/>
                          </a:solidFill>
                          <a:latin typeface="Courier New"/>
                          <a:ea typeface="EucrosiaUPC"/>
                        </a:rPr>
                        <a:t>x</a:t>
                      </a:r>
                      <a:r>
                        <a:rPr b="0" i="1" lang="th-TH" sz="2400" spc="-1" strike="noStrike">
                          <a:solidFill>
                            <a:srgbClr val="ffd961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ขึ้น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d961"/>
                          </a:solidFill>
                          <a:latin typeface="Courier New"/>
                          <a:ea typeface="EucrosiaUPC"/>
                        </a:rPr>
                        <a:t>x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ลดค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d961"/>
                          </a:solidFill>
                          <a:latin typeface="Courier New"/>
                          <a:ea typeface="EucrosiaUPC"/>
                        </a:rPr>
                        <a:t>x</a:t>
                      </a:r>
                      <a:r>
                        <a:rPr b="0" i="1" lang="th-TH" sz="2400" spc="-1" strike="noStrike">
                          <a:solidFill>
                            <a:srgbClr val="ffd961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ลง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371600" y="4495680"/>
            <a:ext cx="6858000" cy="1828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EucrosiaUPC"/>
              </a:rPr>
              <a:t>int n = 0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EucrosiaUPC"/>
              </a:rPr>
              <a:t>n++;   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// </a:t>
            </a:r>
            <a:r>
              <a:rPr b="1" lang="th-TH" sz="2400" spc="-1" strike="noStrike">
                <a:solidFill>
                  <a:srgbClr val="ffd961"/>
                </a:solidFill>
                <a:latin typeface="EucrosiaUPC"/>
                <a:cs typeface="EucrosiaUPC"/>
              </a:rPr>
              <a:t>ให้ผลเหมือนกับ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n = n+1, or n += 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EucrosiaUPC"/>
              </a:rPr>
              <a:t>n++;   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// n </a:t>
            </a:r>
            <a:r>
              <a:rPr b="1" lang="th-TH" sz="2400" spc="-1" strike="noStrike">
                <a:solidFill>
                  <a:srgbClr val="ffd961"/>
                </a:solidFill>
                <a:latin typeface="EucrosiaUPC"/>
                <a:cs typeface="EucrosiaUPC"/>
              </a:rPr>
              <a:t>มีค่าเท่ากับ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EucrosiaUPC"/>
              </a:rPr>
              <a:t>n--;   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// n </a:t>
            </a:r>
            <a:r>
              <a:rPr b="1" lang="th-TH" sz="2400" spc="-1" strike="noStrike">
                <a:solidFill>
                  <a:srgbClr val="ffd961"/>
                </a:solidFill>
                <a:latin typeface="EucrosiaUPC"/>
                <a:cs typeface="EucrosiaUPC"/>
              </a:rPr>
              <a:t>มีค่าเท่ากับ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เรียกใช้งานเมท็อ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74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ลาสหลายคลาสมีเมท็อดชนิดสแตติก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(static)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ที่สามารถเรียกใช้ผ่านคลาสโดยตรงได้ทันที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รียกเมท็อด </a:t>
            </a:r>
            <a:r>
              <a:rPr b="0" i="1" lang="en-US" sz="3200" spc="-1" strike="noStrike">
                <a:solidFill>
                  <a:srgbClr val="66cc66"/>
                </a:solidFill>
                <a:latin typeface="EucrosiaUPC"/>
              </a:rPr>
              <a:t>methodName</a:t>
            </a:r>
            <a:r>
              <a:rPr b="0" i="1" lang="th-TH" sz="3200" spc="-1" strike="noStrike">
                <a:solidFill>
                  <a:srgbClr val="66cc66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ผ่านคลาส </a:t>
            </a:r>
            <a:r>
              <a:rPr b="0" i="1" lang="en-US" sz="3200" spc="-1" strike="noStrike">
                <a:solidFill>
                  <a:srgbClr val="ffd961"/>
                </a:solidFill>
                <a:latin typeface="EucrosiaUPC"/>
              </a:rPr>
              <a:t>className</a:t>
            </a:r>
            <a:r>
              <a:rPr b="0" i="1" lang="th-TH" sz="32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ที่อยู่ในเนมสเปส </a:t>
            </a:r>
            <a:r>
              <a:rPr b="0" i="1" lang="en-US" sz="3200" spc="-1" strike="noStrike">
                <a:solidFill>
                  <a:srgbClr val="fa7438"/>
                </a:solidFill>
                <a:latin typeface="EucrosiaUPC"/>
              </a:rPr>
              <a:t>namespaceName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หากเนมสเปส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200" spc="-1" strike="noStrike">
                <a:solidFill>
                  <a:srgbClr val="fa7438"/>
                </a:solidFill>
                <a:latin typeface="EucrosiaUPC"/>
              </a:rPr>
              <a:t>namespaceName</a:t>
            </a:r>
            <a:r>
              <a:rPr b="0" i="1" lang="th-TH" sz="3200" spc="-1" strike="noStrike">
                <a:solidFill>
                  <a:srgbClr val="fa7438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ถูกระบุผ่านคำสั่ง </a:t>
            </a:r>
            <a:r>
              <a:rPr b="1" lang="en-US" sz="2400" spc="-1" strike="noStrike">
                <a:solidFill>
                  <a:srgbClr val="ffd961"/>
                </a:solidFill>
                <a:latin typeface="Courier New"/>
                <a:ea typeface="Courier New"/>
              </a:rPr>
              <a:t>using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ไว้ก่อนหน้านี้ การเรียกเมท็อดไม่จำเป็นต้องระบุเนมสเปส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มท็อดที่คุ้นเคยกันได้แก่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d961"/>
                </a:solidFill>
                <a:latin typeface="EucrosiaUPC"/>
              </a:rPr>
              <a:t>System.Console.WriteLine()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และ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d961"/>
                </a:solidFill>
                <a:latin typeface="EucrosiaUPC"/>
              </a:rPr>
              <a:t>System.Console.ReadLine()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419720"/>
            <a:ext cx="6705720" cy="1066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961"/>
                </a:solidFill>
                <a:latin typeface="Arial Narrow"/>
                <a:ea typeface="EucrosiaUPC"/>
              </a:rPr>
              <a:t>using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EucrosiaUPC"/>
              </a:rPr>
              <a:t> </a:t>
            </a:r>
            <a:r>
              <a:rPr b="1" i="1" lang="en-US" sz="2000" spc="-1" strike="noStrike">
                <a:solidFill>
                  <a:srgbClr val="fa7438"/>
                </a:solidFill>
                <a:latin typeface="Arial Narrow"/>
                <a:ea typeface="EucrosiaUPC"/>
              </a:rPr>
              <a:t>namespaceName</a:t>
            </a:r>
            <a:r>
              <a:rPr b="1" i="1" lang="en-US" sz="2000" spc="-1" strike="noStrike">
                <a:solidFill>
                  <a:srgbClr val="ffd961"/>
                </a:solidFill>
                <a:latin typeface="Arial Narrow"/>
                <a:ea typeface="EucrosiaUPC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EucrosiaUP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EucrosiaUP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d961"/>
                </a:solidFill>
                <a:latin typeface="Arial Narrow"/>
                <a:ea typeface="EucrosiaUPC"/>
              </a:rPr>
              <a:t>className</a:t>
            </a:r>
            <a:r>
              <a:rPr b="1" lang="en-US" sz="2400" spc="-1" strike="noStrike">
                <a:solidFill>
                  <a:srgbClr val="ffd961"/>
                </a:solidFill>
                <a:latin typeface="Arial Narrow"/>
                <a:ea typeface="EucrosiaUPC"/>
              </a:rPr>
              <a:t>.</a:t>
            </a:r>
            <a:r>
              <a:rPr b="1" i="1" lang="en-US" sz="2000" spc="-1" strike="noStrike">
                <a:solidFill>
                  <a:srgbClr val="66cc66"/>
                </a:solidFill>
                <a:latin typeface="Arial Narrow"/>
                <a:ea typeface="EucrosiaUPC"/>
              </a:rPr>
              <a:t>methodName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EucrosiaUPC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EucrosiaUPC"/>
              </a:rPr>
              <a:t>optional-argument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EucrosiaUP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048120"/>
            <a:ext cx="6629400" cy="4572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7438"/>
                </a:solidFill>
                <a:latin typeface="Arial Narrow"/>
                <a:ea typeface="EucrosiaUPC"/>
              </a:rPr>
              <a:t>namespaceName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EucrosiaUPC"/>
              </a:rPr>
              <a:t>.</a:t>
            </a:r>
            <a:r>
              <a:rPr b="1" i="1" lang="en-US" sz="2000" spc="-1" strike="noStrike">
                <a:solidFill>
                  <a:srgbClr val="ffd961"/>
                </a:solidFill>
                <a:latin typeface="Arial Narrow"/>
                <a:ea typeface="EucrosiaUPC"/>
              </a:rPr>
              <a:t>className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EucrosiaUPC"/>
              </a:rPr>
              <a:t>.</a:t>
            </a:r>
            <a:r>
              <a:rPr b="1" i="1" lang="en-US" sz="2000" spc="-1" strike="noStrike">
                <a:solidFill>
                  <a:srgbClr val="66cc66"/>
                </a:solidFill>
                <a:latin typeface="Arial Narrow"/>
                <a:ea typeface="EucrosiaUPC"/>
              </a:rPr>
              <a:t>methodName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EucrosiaUPC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EucrosiaUPC"/>
              </a:rPr>
              <a:t>optional-argument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EucrosiaUP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  <a:cs typeface="Angsana New"/>
              </a:rPr>
              <a:t>คลาส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  <a:ea typeface="Angsana New"/>
              </a:rPr>
              <a:t> </a:t>
            </a:r>
            <a:r>
              <a:rPr b="1" i="1" lang="en-US" sz="5400" spc="-1" strike="noStrike">
                <a:solidFill>
                  <a:srgbClr val="66cc66"/>
                </a:solidFill>
                <a:latin typeface="EucrosiaUPC"/>
                <a:ea typeface="Angsana New"/>
              </a:rPr>
              <a:t>Math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คลาส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66cc66"/>
                </a:solidFill>
                <a:latin typeface="EucrosiaUPC"/>
              </a:rPr>
              <a:t>Math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ในเนมสเปส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66cc66"/>
                </a:solidFill>
                <a:latin typeface="EucrosiaUPC"/>
              </a:rPr>
              <a:t>System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ได้เตรียมเมท็อดและค่าคงที่ไว้หลายตัวสำหรับการคำนวณทางคณิตศาสตร์ที่ซับซ้อนขึ้น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ตัวอย่าง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บางส่วน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43000" y="2514600"/>
          <a:ext cx="7553160" cy="4191120"/>
        </p:xfrm>
        <a:graphic>
          <a:graphicData uri="http://schemas.openxmlformats.org/drawingml/2006/table">
            <a:tbl>
              <a:tblPr/>
              <a:tblGrid>
                <a:gridCol w="1541520"/>
                <a:gridCol w="2689200"/>
                <a:gridCol w="2262240"/>
                <a:gridCol w="1060200"/>
              </a:tblGrid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มท็อด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/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คงที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ที่คืนกลับม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ตัวอย่างการใช้งา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ผลลัพธ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P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3.14159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Max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,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ที่มากกว่าระหว่าง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และ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Max(1,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Abs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สัมบูรณ์ข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Abs(-1.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1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Sqrt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รากที่สองข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Sqrt(4.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Round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ที่ปัดเป็นจำนวนเต็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Round(0.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Pow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,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</a:t>
                      </a:r>
                      <a:r>
                        <a:rPr b="0" i="1" lang="th-TH" sz="2400" spc="-1" strike="noStrike">
                          <a:solidFill>
                            <a:srgbClr val="ffd961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ยกกำลัง</a:t>
                      </a:r>
                      <a:r>
                        <a:rPr b="0" i="1" lang="th-TH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Pow(3,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9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Log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ล็อกฐานธรรมชาติข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Log(1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2.3025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Ceiling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</a:t>
                      </a:r>
                      <a:r>
                        <a:rPr b="0" i="1" lang="th-TH" sz="24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ที่ปัดเศษขึ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Ceiling(4.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Cos(</a:t>
                      </a:r>
                      <a:r>
                        <a:rPr b="0" i="1" lang="en-US" sz="1600" spc="-1" strike="noStrike">
                          <a:solidFill>
                            <a:srgbClr val="ffd961"/>
                          </a:solidFill>
                          <a:latin typeface="Arial"/>
                          <a:ea typeface="EucrosiaUPC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โคซายน์ข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d961"/>
                          </a:solidFill>
                          <a:latin typeface="Times New Roman"/>
                          <a:ea typeface="EucrosiaUPC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รเดีย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Math.Cos(Math.P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เนื้อห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คำสั่งรับอินพุทจากผู้ใช้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ดำเนินการทางคณิตศาสตร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การเปลี่ยนชนิดข้อมูล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การเรียกใช้งานเมท็อด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มท็อดในคลาส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  <a:ea typeface="Courier New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ำสั่งรับอินพุท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9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ใช้เมท็อด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  <a:ea typeface="Courier New"/>
              </a:rPr>
              <a:t>ReadLine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ซึ่งอยู่ในคลาส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  <a:ea typeface="Courier New"/>
              </a:rPr>
              <a:t>Console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รับข้อมูลจากแป้นพิมพ์จนกว่าผู้ใช้จะกด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Enter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ส่งค่าทั้งหมดให้โปรแกรมในรูปสตริ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2" name=""/>
          <p:cNvSpPr/>
          <p:nvPr/>
        </p:nvSpPr>
        <p:spPr>
          <a:xfrm>
            <a:off x="995760" y="3886200"/>
            <a:ext cx="6947280" cy="825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string yourna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yourname = </a:t>
            </a:r>
            <a:r>
              <a:rPr b="1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System.Console.ReadLine(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อย่างโปรแกรม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a7438"/>
                </a:solidFill>
                <a:latin typeface="EucrosiaUPC"/>
              </a:rPr>
              <a:t>ReadLin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981080"/>
            <a:ext cx="746748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d961"/>
                </a:solidFill>
                <a:latin typeface="Courier New"/>
                <a:ea typeface="EucrosiaUPC"/>
              </a:rPr>
              <a:t>using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System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d961"/>
                </a:solidFill>
                <a:latin typeface="Courier New"/>
                <a:ea typeface="EucrosiaUPC"/>
              </a:rPr>
              <a:t>class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HelloYo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  </a:t>
            </a:r>
            <a:r>
              <a:rPr b="1" lang="en-US" sz="2100" spc="-1" strike="noStrike">
                <a:solidFill>
                  <a:srgbClr val="ffd961"/>
                </a:solidFill>
                <a:latin typeface="Courier New"/>
                <a:ea typeface="EucrosiaUPC"/>
              </a:rPr>
              <a:t>static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</a:t>
            </a:r>
            <a:r>
              <a:rPr b="1" lang="en-US" sz="2100" spc="-1" strike="noStrike">
                <a:solidFill>
                  <a:srgbClr val="ffd961"/>
                </a:solidFill>
                <a:latin typeface="Courier New"/>
                <a:ea typeface="EucrosiaUPC"/>
              </a:rPr>
              <a:t>void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Main(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2100" spc="-1" strike="noStrike">
                <a:solidFill>
                  <a:srgbClr val="ffd961"/>
                </a:solidFill>
                <a:latin typeface="Courier New"/>
                <a:ea typeface="EucrosiaUPC"/>
              </a:rPr>
              <a:t>string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nam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Console.Write("What is your name: "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name = Console.ReadLine(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Console.WriteLine("Hello, {0}", nam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ปรแกรมด้านล่างจะให้ผู้ใช้ป้อนชื่อและกล่าวคำทักทาย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เปลี่ยนสตริงให้เป็นตัวเลข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ป็นที่ทราบว่าเมท็อด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  <a:ea typeface="Courier New"/>
              </a:rPr>
              <a:t>Console.ReadLine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ืนค่าเป็นสตริ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เลขที่อยู่ในรูปสตริงไม่สามารถนำไปใช้ในการคำนวณได้โดยตร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ชนิดข้อมูลตัวเลขทุกชนิดมีเมท็อด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  <a:ea typeface="Courier New"/>
              </a:rPr>
              <a:t>Parse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ซึ่งทำหน้าที่เปลี่ยนข้อมูลสตริงให้เป็นชนิดตัวเลขตามแบบข้อมูลนั้น ๆ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200400"/>
            <a:ext cx="5867280" cy="762120"/>
          </a:xfrm>
          <a:prstGeom prst="rect">
            <a:avLst/>
          </a:prstGeom>
          <a:gradFill rotWithShape="0">
            <a:gsLst>
              <a:gs pos="0">
                <a:srgbClr val="fa7438"/>
              </a:gs>
              <a:gs pos="100000">
                <a:srgbClr val="7335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string s = "12"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int x = s+1;  // Error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86400"/>
            <a:ext cx="5867280" cy="1066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string s = Console.ReadLine(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int x = </a:t>
            </a:r>
            <a:r>
              <a:rPr b="1" lang="en-US" sz="2100" spc="-1" strike="noStrike">
                <a:solidFill>
                  <a:srgbClr val="ffd961"/>
                </a:solidFill>
                <a:latin typeface="Courier New"/>
                <a:ea typeface="EucrosiaUPC"/>
              </a:rPr>
              <a:t>int.Parse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(s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double y = </a:t>
            </a:r>
            <a:r>
              <a:rPr b="1" lang="en-US" sz="2100" spc="-1" strike="noStrike">
                <a:solidFill>
                  <a:srgbClr val="ffd961"/>
                </a:solidFill>
                <a:latin typeface="Courier New"/>
                <a:ea typeface="EucrosiaUPC"/>
              </a:rPr>
              <a:t>double.Parse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  <a:ea typeface="EucrosiaUPC"/>
              </a:rPr>
              <a:t>(s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i="1" lang="th-TH" sz="5400" spc="-1" strike="noStrike">
                <a:solidFill>
                  <a:srgbClr val="ffd961"/>
                </a:solidFill>
                <a:latin typeface="EucrosiaUPC"/>
              </a:rPr>
              <a:t>คำนวนพื้นที่สี่เหลี่ย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43000"/>
            <a:ext cx="8229600" cy="4191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d961"/>
                </a:solidFill>
                <a:latin typeface="Courier New"/>
                <a:ea typeface="EucrosiaUPC"/>
              </a:rPr>
              <a:t>using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System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d961"/>
                </a:solidFill>
                <a:latin typeface="Courier New"/>
                <a:ea typeface="EucrosiaUPC"/>
              </a:rPr>
              <a:t>class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AreaCalcul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</a:t>
            </a:r>
            <a:r>
              <a:rPr b="1" lang="en-US" sz="1500" spc="-1" strike="noStrike">
                <a:solidFill>
                  <a:srgbClr val="ffd961"/>
                </a:solidFill>
                <a:latin typeface="Courier New"/>
                <a:ea typeface="EucrosiaUPC"/>
              </a:rPr>
              <a:t>static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</a:t>
            </a:r>
            <a:r>
              <a:rPr b="1" lang="en-US" sz="1500" spc="-1" strike="noStrike">
                <a:solidFill>
                  <a:srgbClr val="ffd961"/>
                </a:solidFill>
                <a:latin typeface="Courier New"/>
                <a:ea typeface="EucrosiaUPC"/>
              </a:rPr>
              <a:t>void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Main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d961"/>
                </a:solidFill>
                <a:latin typeface="Courier New"/>
                <a:ea typeface="EucrosiaUPC"/>
              </a:rPr>
              <a:t>int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width, height, are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d961"/>
                </a:solidFill>
                <a:latin typeface="Courier New"/>
                <a:ea typeface="EucrosiaUPC"/>
              </a:rPr>
              <a:t>string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inpu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Console.Write("Enter width: "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input = Console.ReadLine(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width = int.Parse(input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Console.Write("Enter height: "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input = Console.ReadLine(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height = int.Parse(input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area = width * heigh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Console.WriteLine("Area = {0}x{1} = {2}", width, height, area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EucrosiaUPC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31840" y="2743200"/>
            <a:ext cx="5870160" cy="718920"/>
            <a:chOff x="1131840" y="2743200"/>
            <a:chExt cx="5870160" cy="718920"/>
          </a:xfrm>
        </p:grpSpPr>
        <p:sp>
          <p:nvSpPr>
            <p:cNvPr id="93" name=""/>
            <p:cNvSpPr/>
            <p:nvPr/>
          </p:nvSpPr>
          <p:spPr>
            <a:xfrm>
              <a:off x="1131840" y="2776320"/>
              <a:ext cx="3962520" cy="685800"/>
            </a:xfrm>
            <a:prstGeom prst="roundRect">
              <a:avLst>
                <a:gd name="adj" fmla="val 16667"/>
              </a:avLst>
            </a:prstGeom>
            <a:solidFill>
              <a:srgbClr val="66cc66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2280" y="2743200"/>
              <a:ext cx="189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cc66"/>
                  </a:solidFill>
                  <a:latin typeface="Arial"/>
                  <a:ea typeface="Angsana New"/>
                </a:rPr>
                <a:t>Obtaining "width"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30400" y="3452760"/>
            <a:ext cx="5948640" cy="685800"/>
            <a:chOff x="1130400" y="3452760"/>
            <a:chExt cx="5948640" cy="685800"/>
          </a:xfrm>
        </p:grpSpPr>
        <p:sp>
          <p:nvSpPr>
            <p:cNvPr id="96" name=""/>
            <p:cNvSpPr/>
            <p:nvPr/>
          </p:nvSpPr>
          <p:spPr>
            <a:xfrm>
              <a:off x="1130400" y="3452760"/>
              <a:ext cx="3962520" cy="685800"/>
            </a:xfrm>
            <a:prstGeom prst="roundRect">
              <a:avLst>
                <a:gd name="adj" fmla="val 16667"/>
              </a:avLst>
            </a:prstGeom>
            <a:solidFill>
              <a:srgbClr val="66cc66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0120" y="34542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cc66"/>
                  </a:solidFill>
                  <a:latin typeface="Arial"/>
                  <a:ea typeface="Angsana New"/>
                </a:rPr>
                <a:t>Obtaining "height"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324480" y="5410080"/>
            <a:ext cx="2571840" cy="1143000"/>
            <a:chOff x="6324480" y="5410080"/>
            <a:chExt cx="2571840" cy="1143000"/>
          </a:xfrm>
        </p:grpSpPr>
        <p:sp>
          <p:nvSpPr>
            <p:cNvPr id="99" name=""/>
            <p:cNvSpPr/>
            <p:nvPr/>
          </p:nvSpPr>
          <p:spPr>
            <a:xfrm>
              <a:off x="6991200" y="5714640"/>
              <a:ext cx="1905120" cy="838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d961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a = width x he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24480" y="597024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e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91200" y="541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id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90840" y="556236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210160" y="556236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705720" y="5714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705720" y="63241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227480" y="4343400"/>
            <a:ext cx="2376000" cy="479520"/>
            <a:chOff x="4227480" y="4343400"/>
            <a:chExt cx="2376000" cy="479520"/>
          </a:xfrm>
        </p:grpSpPr>
        <p:sp>
          <p:nvSpPr>
            <p:cNvPr id="107" name=""/>
            <p:cNvSpPr/>
            <p:nvPr/>
          </p:nvSpPr>
          <p:spPr>
            <a:xfrm>
              <a:off x="5991840" y="4343400"/>
              <a:ext cx="6116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7480" y="4343400"/>
              <a:ext cx="303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07" idx="2"/>
              <a:endCxn id="108" idx="2"/>
            </p:cNvCxnSpPr>
            <p:nvPr/>
          </p:nvCxnSpPr>
          <p:spPr>
            <a:xfrm rot="5400000">
              <a:off x="5337360" y="3690360"/>
              <a:ext cx="2160" cy="1918080"/>
            </a:xfrm>
            <a:prstGeom prst="bentConnector3">
              <a:avLst>
                <a:gd name="adj1" fmla="val 970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4648320" y="4343400"/>
            <a:ext cx="2895120" cy="564120"/>
            <a:chOff x="4648320" y="4343400"/>
            <a:chExt cx="2895120" cy="564120"/>
          </a:xfrm>
        </p:grpSpPr>
        <p:sp>
          <p:nvSpPr>
            <p:cNvPr id="111" name=""/>
            <p:cNvSpPr/>
            <p:nvPr/>
          </p:nvSpPr>
          <p:spPr>
            <a:xfrm>
              <a:off x="6792120" y="4343400"/>
              <a:ext cx="751320" cy="304920"/>
            </a:xfrm>
            <a:prstGeom prst="rect">
              <a:avLst/>
            </a:prstGeom>
            <a:solidFill>
              <a:srgbClr val="ffd961">
                <a:alpha val="50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8320" y="4343400"/>
              <a:ext cx="314280" cy="304920"/>
            </a:xfrm>
            <a:prstGeom prst="rect">
              <a:avLst/>
            </a:prstGeom>
            <a:solidFill>
              <a:srgbClr val="ffd961">
                <a:alpha val="50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1" idx="2"/>
              <a:endCxn id="112" idx="2"/>
            </p:cNvCxnSpPr>
            <p:nvPr/>
          </p:nvCxnSpPr>
          <p:spPr>
            <a:xfrm rot="5400000">
              <a:off x="5986080" y="3467880"/>
              <a:ext cx="2160" cy="236304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d961"/>
              </a:solidFill>
              <a:miter/>
              <a:tailEnd len="med" type="triangle" w="med"/>
            </a:ln>
          </p:spPr>
        </p:cxnSp>
      </p:grpSp>
      <p:grpSp>
        <p:nvGrpSpPr>
          <p:cNvPr id="114" name=""/>
          <p:cNvGrpSpPr/>
          <p:nvPr/>
        </p:nvGrpSpPr>
        <p:grpSpPr>
          <a:xfrm>
            <a:off x="5334120" y="4343400"/>
            <a:ext cx="2895120" cy="641520"/>
            <a:chOff x="5334120" y="4343400"/>
            <a:chExt cx="2895120" cy="641520"/>
          </a:xfrm>
        </p:grpSpPr>
        <p:sp>
          <p:nvSpPr>
            <p:cNvPr id="115" name=""/>
            <p:cNvSpPr/>
            <p:nvPr/>
          </p:nvSpPr>
          <p:spPr>
            <a:xfrm>
              <a:off x="7726320" y="4343400"/>
              <a:ext cx="502920" cy="304920"/>
            </a:xfrm>
            <a:prstGeom prst="rect">
              <a:avLst/>
            </a:prstGeom>
            <a:solidFill>
              <a:srgbClr val="fa7438">
                <a:alpha val="50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4120" y="4343400"/>
              <a:ext cx="311760" cy="304920"/>
            </a:xfrm>
            <a:prstGeom prst="rect">
              <a:avLst/>
            </a:prstGeom>
            <a:solidFill>
              <a:srgbClr val="fa7438">
                <a:alpha val="50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7" name=""/>
            <p:cNvCxnSpPr>
              <a:stCxn id="115" idx="2"/>
              <a:endCxn id="116" idx="2"/>
            </p:cNvCxnSpPr>
            <p:nvPr/>
          </p:nvCxnSpPr>
          <p:spPr>
            <a:xfrm rot="5400000">
              <a:off x="6733080" y="3404880"/>
              <a:ext cx="2160" cy="2488680"/>
            </a:xfrm>
            <a:prstGeom prst="bentConnector3">
              <a:avLst>
                <a:gd name="adj1" fmla="val 18700000"/>
              </a:avLst>
            </a:prstGeom>
            <a:ln w="28440">
              <a:solidFill>
                <a:srgbClr val="fa7438"/>
              </a:solidFill>
              <a:miter/>
              <a:tailEnd len="med" type="triangle" w="med"/>
            </a:ln>
          </p:spPr>
        </p:cxnSp>
      </p:grpSp>
      <p:sp>
        <p:nvSpPr>
          <p:cNvPr id="118" name=""/>
          <p:cNvSpPr/>
          <p:nvPr/>
        </p:nvSpPr>
        <p:spPr>
          <a:xfrm flipH="1">
            <a:off x="6552720" y="571500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552720" y="65530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5409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915400" y="5409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980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d961"/>
                </a:solidFill>
                <a:latin typeface="EucrosiaUPC"/>
              </a:rPr>
              <a:t>แบบฝึกหัด</a:t>
            </a: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i="1" lang="th-TH" sz="4800" spc="-1" strike="noStrike">
                <a:solidFill>
                  <a:srgbClr val="ffd961"/>
                </a:solidFill>
                <a:latin typeface="EucrosiaUPC"/>
              </a:rPr>
              <a:t>แก้สมการ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ขียนโปรแกรมเพื่ออ่านค่า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200" spc="-1" strike="noStrike">
                <a:solidFill>
                  <a:srgbClr val="fa7438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a7438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a7438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และ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200" spc="-1" strike="noStrike">
                <a:solidFill>
                  <a:srgbClr val="fa7438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a7438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a7438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จากนั้นให้ตอบว่าค่าของ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200" spc="-1" strike="noStrike">
                <a:solidFill>
                  <a:srgbClr val="fa7438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และ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200" spc="-1" strike="noStrike">
                <a:solidFill>
                  <a:srgbClr val="fa7438"/>
                </a:solidFill>
                <a:latin typeface="Times New Roman"/>
              </a:rPr>
              <a:t>y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คือเท่าใด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ริ่มต้นจากการคิดขั้นตอนวิธี และเขียน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600" spc="-1" strike="noStrike">
                <a:solidFill>
                  <a:srgbClr val="6699ff"/>
                </a:solidFill>
                <a:latin typeface="EucrosiaUPC"/>
              </a:rPr>
              <a:t>pseudo-code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นำ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pseudo-code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มาเขียนเป็นโปรแกรม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เปลี่ยนชนิดข้อมูลตัวเลข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38836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การกำหนดค่าให้ตัวแปรที่เก็บข้อมูลได้ละเอียดมากกว่า</a:t>
            </a:r>
            <a:br>
              <a:rPr sz="3200"/>
            </a:b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ทำได้ทันที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เนื่องจากข้อมูลไม่มีการสูญหาย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C#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บังคับให้ระบุชนิดข้อมูลให้ชัดเจนสำหรับการกำหนดค่าให้ตัวแปรที่ละเอียดน้อยกว่า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38080" y="1039680"/>
            <a:ext cx="7391520" cy="2300400"/>
            <a:chOff x="838080" y="1039680"/>
            <a:chExt cx="7391520" cy="2300400"/>
          </a:xfrm>
        </p:grpSpPr>
        <p:sp>
          <p:nvSpPr>
            <p:cNvPr id="127" name=""/>
            <p:cNvSpPr/>
            <p:nvPr/>
          </p:nvSpPr>
          <p:spPr>
            <a:xfrm>
              <a:off x="838080" y="17575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oub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752120" y="190980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17575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loa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48120" y="19098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17575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lo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343400" y="19098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4280" y="17575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638320" y="190980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17575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ho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934320" y="19098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17575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by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23623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lo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343400" y="2514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23623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i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638320" y="251460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9920" y="23623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sho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5200" y="236232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y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5200" y="297180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478e"/>
                </a:gs>
                <a:gs pos="100000">
                  <a:srgbClr val="002041"/>
                </a:gs>
              </a:gsLst>
              <a:lin ang="5400000"/>
            </a:gradFill>
            <a:ln w="9360">
              <a:solidFill>
                <a:srgbClr val="ffd9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h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934320" y="2743200"/>
              <a:ext cx="3808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2743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934320" y="2138040"/>
              <a:ext cx="38088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5638320" y="2138040"/>
              <a:ext cx="38124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343400" y="2138040"/>
              <a:ext cx="38088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3048120" y="2138040"/>
              <a:ext cx="38088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09680" y="1300320"/>
              <a:ext cx="5029200" cy="228600"/>
            </a:xfrm>
            <a:prstGeom prst="leftRightArrow">
              <a:avLst>
                <a:gd name="adj1" fmla="val 50000"/>
                <a:gd name="adj2" fmla="val 437963"/>
              </a:avLst>
            </a:prstGeom>
            <a:gradFill rotWithShape="0">
              <a:gsLst>
                <a:gs pos="0">
                  <a:srgbClr val="fa7438"/>
                </a:gs>
                <a:gs pos="100000">
                  <a:srgbClr val="66cc66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7120" y="103968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66cc66"/>
                  </a:solidFill>
                  <a:latin typeface="Arial"/>
                  <a:cs typeface="Angsana New"/>
                </a:rPr>
                <a:t>ละเอียดมา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20680" y="103968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a7438"/>
                  </a:solidFill>
                  <a:latin typeface="Arial"/>
                  <a:cs typeface="Angsana New"/>
                </a:rPr>
                <a:t>ละเอียดน้อ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48320" y="3657600"/>
            <a:ext cx="3200400" cy="533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08680" indent="-508680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EucrosiaUPC"/>
              </a:rPr>
              <a:t>int i = 50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08680" indent="-508680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EucrosiaUPC"/>
              </a:rPr>
              <a:t>double d = i;  // O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5410080"/>
            <a:ext cx="4267440" cy="8384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EucrosiaUPC"/>
              </a:rPr>
              <a:t>double d = 5000.78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a7438"/>
                </a:solidFill>
                <a:latin typeface="Courier New"/>
                <a:ea typeface="EucrosiaUPC"/>
              </a:rPr>
              <a:t>long x = d;        // ERROR!!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EucrosiaUPC"/>
              </a:rPr>
              <a:t>long x = (long) d; // O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94360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66cc66">
              <a:alpha val="4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4876920"/>
            <a:ext cx="3124440" cy="761760"/>
          </a:xfrm>
          <a:prstGeom prst="wedgeRoundRectCallout">
            <a:avLst>
              <a:gd name="adj1" fmla="val -115041"/>
              <a:gd name="adj2" fmla="val 92291"/>
              <a:gd name="adj3" fmla="val 16667"/>
            </a:avLst>
          </a:prstGeom>
          <a:solidFill>
            <a:srgbClr val="66cc66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EucrosiaUPC"/>
                <a:cs typeface="EucrosiaUPC"/>
              </a:rPr>
              <a:t>ระบุชัดเจนว่าต้องการเปลี่ยนค่า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  <a:ea typeface="Courier New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  <a:ea typeface="EucrosiaUPC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EucrosiaUPC"/>
                <a:cs typeface="EucrosiaUPC"/>
              </a:rPr>
              <a:t>เป็น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  <a:ea typeface="Courier New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ดำเนินการแบบ 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"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modify-and-assign"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3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ราสามารถผสมตัวดำเนินการทางคณิตศาสตร์บางตัวเข้ากับ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d961"/>
                </a:solidFill>
                <a:latin typeface="EucrosiaUPC"/>
              </a:rPr>
              <a:t>"="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พื่อใช้เป็นตัวดำเนินการแบบ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modify-and-assign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62120" y="2209680"/>
          <a:ext cx="7924680" cy="2095560"/>
        </p:xfrm>
        <a:graphic>
          <a:graphicData uri="http://schemas.openxmlformats.org/drawingml/2006/table">
            <a:tbl>
              <a:tblPr/>
              <a:tblGrid>
                <a:gridCol w="2520720"/>
                <a:gridCol w="5403960"/>
              </a:tblGrid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รูปแบบคำสั่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วาม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 +=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พิ่มค่า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ป็นจำนวนเท่าก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 -=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ลดค่า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ป็นจำนวนเท่าก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 *=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คูณค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ด้ว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ก็บผลลัพธ์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 /=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หารค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ด้ว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66cc66"/>
                          </a:solidFill>
                          <a:latin typeface="Courier New"/>
                          <a:ea typeface="Courier New"/>
                        </a:rPr>
                        <a:t>expressio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EucrosiaUPC"/>
                          <a:cs typeface="EucrosiaUPC"/>
                        </a:rPr>
                        <a:t>เก็บผลลัพธ์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EucrosiaUPC"/>
                          <a:ea typeface="EucrosiaUPC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d961"/>
                          </a:solidFill>
                          <a:latin typeface="Courier New"/>
                          <a:ea typeface="Courier New"/>
                        </a:rPr>
                        <a:t>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990720" y="4952880"/>
            <a:ext cx="7696080" cy="1219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EucrosiaUPC"/>
              </a:rPr>
              <a:t>sum += x;   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// </a:t>
            </a:r>
            <a:r>
              <a:rPr b="1" lang="th-TH" sz="2400" spc="-1" strike="noStrike">
                <a:solidFill>
                  <a:srgbClr val="ffd961"/>
                </a:solidFill>
                <a:latin typeface="EucrosiaUPC"/>
                <a:cs typeface="EucrosiaUPC"/>
              </a:rPr>
              <a:t>ให้ผลเหมือนกับ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sum = sum + x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EucrosiaUPC"/>
              </a:rPr>
              <a:t>prod *= 2.5;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// </a:t>
            </a:r>
            <a:r>
              <a:rPr b="1" lang="th-TH" sz="2400" spc="-1" strike="noStrike">
                <a:solidFill>
                  <a:srgbClr val="ffd961"/>
                </a:solidFill>
                <a:latin typeface="EucrosiaUPC"/>
                <a:cs typeface="EucrosiaUPC"/>
              </a:rPr>
              <a:t>ให้ผลเหมือนกับ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prod = prod * 2.5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EucrosiaUPC"/>
              </a:rPr>
              <a:t>y -= 3+a;   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// </a:t>
            </a:r>
            <a:r>
              <a:rPr b="1" lang="th-TH" sz="2400" spc="-1" strike="noStrike">
                <a:solidFill>
                  <a:srgbClr val="ffd961"/>
                </a:solidFill>
                <a:latin typeface="EucrosiaUPC"/>
                <a:cs typeface="EucrosiaUPC"/>
              </a:rPr>
              <a:t>ให้ผลเหมือนกับ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fd961"/>
                </a:solidFill>
                <a:latin typeface="Courier New"/>
                <a:ea typeface="EucrosiaUPC"/>
              </a:rPr>
              <a:t>y = y – (3+a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8:22:37Z</dcterms:created>
  <dc:creator>Chaiporn Jaikaeo</dc:creator>
  <dc:description/>
  <dc:language>en-US</dc:language>
  <cp:lastModifiedBy>Chaiporn Jaikaeo</cp:lastModifiedBy>
  <dcterms:modified xsi:type="dcterms:W3CDTF">2009-05-09T14:26:06Z</dcterms:modified>
  <cp:revision>149</cp:revision>
  <dc:subject/>
  <dc:title>Introduction to Digital Logic</dc:title>
</cp:coreProperties>
</file>