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BCB-3F03-4E2C-B084-BB4B883C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9CB-A4B5-473F-B93D-06766EEB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B31-2D85-48D7-8447-3499D31E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C38-6560-4509-ACF1-2F8D8EA3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78B-C4CE-4B32-A802-7BCCF4FC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361-3DDC-4D04-B0A1-C62E16E2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5AB-FE8A-4C5D-944C-ADB05E86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3A8-4C11-4ADB-BAA7-E2B08ECB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6E6-AC84-4549-95C4-E6BB1DFD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557-EAB5-4A61-A314-0AB09413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CFD-F955-4E22-B142-B681A0F4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139-C102-452F-A8ED-75998682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B26E-A1A7-44BE-971B-180412A09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programming.in.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24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thailandoi.o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200" y="1773360"/>
            <a:ext cx="90378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07:28Z</dcterms:created>
  <dc:creator>Administrator</dc:creator>
  <dc:description/>
  <dc:language>en-US</dc:language>
  <cp:lastModifiedBy>Administrator</cp:lastModifiedBy>
  <dcterms:modified xsi:type="dcterms:W3CDTF">2009-05-15T03:13:09Z</dcterms:modified>
  <cp:revision>1</cp:revision>
  <dc:subject/>
  <dc:title>www.programming.in.th</dc:title>
</cp:coreProperties>
</file>