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90620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d961"/>
                </a:solidFill>
                <a:latin typeface="EucrosiaUPC"/>
              </a:rPr>
              <a:t>พื้นฐานการเขียนโปรแกรมด้วย </a:t>
            </a: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C#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4874400"/>
            <a:ext cx="83822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ตั้งชื่อ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55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ทั้งเมท็อด คลาส เนมสเปส ต้องมีการตั้งชื่อกำกับ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ในภาษา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C#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มีกฎการตั้งชื่อดังนี้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ขึ้นต้นด้วยอักขระภาษาอังกฤษ 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A-Z, a-z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หรือตัวขีดเส้นใต้ 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(_)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ส่วนที่เหลือประกอบด้วยอักขระภาษาอังกฤษ ตัวเลข หรือตัวขีดเส้นใต้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ความยาวสูงสุด 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63 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ตัวอักษร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ต้องไม่ซ้ำกับคำสงวน 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(reserved words) 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เช่น 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class, namespace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ตัวอย่างชื่อที่ถูกกฎ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hEllO</a:t>
            </a:r>
            <a:r>
              <a:rPr b="0" lang="en-US" sz="20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E3_32ab</a:t>
            </a:r>
            <a:r>
              <a:rPr b="0" lang="en-US" sz="20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X_x_X022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ตัวอย่างชื่อที่ผิดกฎ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32ABC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A.2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C#Program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while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คำสงวน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คำเหล่านี้ห้ามนำไปใช้เป็นชื่อในภาษา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#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2822400"/>
          </a:xfrm>
          <a:prstGeom prst="rect">
            <a:avLst/>
          </a:prstGeom>
          <a:ln w="38160">
            <a:solidFill>
              <a:srgbClr val="66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trips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ตัวแปร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(Variable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แปรใช้สำหรับเก็บค่าของข้อมูล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การประกาศตัวแปร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การกำหนดค่าให้ตัวแปร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362320"/>
            <a:ext cx="5790960" cy="398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&lt;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809880"/>
            <a:ext cx="5790960" cy="398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name&gt; = &lt;expression&gt;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4952880"/>
            <a:ext cx="4267080" cy="11912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1"/>
                </a:solidFill>
                <a:latin typeface="Courier New"/>
                <a:ea typeface="Angsana New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ngsana New"/>
              </a:rPr>
              <a:t> width, heigh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1"/>
                </a:solidFill>
                <a:latin typeface="Courier New"/>
                <a:ea typeface="Angsana New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ngsana New"/>
              </a:rPr>
              <a:t> are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ngsana New"/>
              </a:rPr>
              <a:t>width = 10; height = 2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ngsana New"/>
              </a:rPr>
              <a:t>area = width * heigh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ชนิดข้อมูล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(Data Type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295280"/>
          <a:ext cx="8487000" cy="5153040"/>
        </p:xfrm>
        <a:graphic>
          <a:graphicData uri="http://schemas.openxmlformats.org/drawingml/2006/table">
            <a:tbl>
              <a:tblPr/>
              <a:tblGrid>
                <a:gridCol w="968400"/>
                <a:gridCol w="1073160"/>
                <a:gridCol w="3629160"/>
                <a:gridCol w="28162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ชนิ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ขนา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ความ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ช่ว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bo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ค่าความจริง </a:t>
                      </a: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(</a:t>
                      </a: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ริง</a:t>
                      </a: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เท็จ</a:t>
                      </a: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true </a:t>
                      </a: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/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fal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ch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2 by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อักขระโด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character code 0...655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sby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เต็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-128...1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by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เต็มไม่ติดล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0...2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เต็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-32,768...32,7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u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เต็มไม่ติดล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0...655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เต็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-2.1</a:t>
                      </a: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x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...2.1 x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9</a:t>
                      </a: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u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เต็มไม่ติดล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0...4.3 x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เต็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-9.2 x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...9.2 x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u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เต็มไม่ติดล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0...1.8 x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จริ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.5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-4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..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3.4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จริงความละเอียดสองเท่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5.0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-32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..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.7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3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6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จำนวนจริงความละเอียดสู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1.0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--2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..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7.9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EucrosiaUPC"/>
                        </a:rPr>
                        <a:t>สายอักขร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กำหนดค่าให้ตัวแปร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ราสามารถกำหนดค่าเริ่มต้นให้กับตัวแปรได้พร้อมกับการประกาศตัวแปรนั้น ๆ ได้ทันที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3276720"/>
            <a:ext cx="4267080" cy="11912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1"/>
                </a:solidFill>
                <a:latin typeface="Courier New"/>
                <a:ea typeface="Angsana New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ngsana New"/>
              </a:rPr>
              <a:t> width = 10, height = 2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1"/>
                </a:solidFill>
                <a:latin typeface="Courier New"/>
                <a:ea typeface="Angsana New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ngsana New"/>
              </a:rPr>
              <a:t> are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ngsana New"/>
              </a:rPr>
              <a:t>area = width * heigh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นิพจน์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(Expressions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a7438"/>
                </a:solidFill>
                <a:latin typeface="EucrosiaUPC"/>
              </a:rPr>
              <a:t>นิพจน์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ป็นส่วนหนึ่งของคำสั่งที่ถูกประเมินเป็นค่าได้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อาจเป็นค่าโดดหรือประกอบขึ้นมาจากนิพจน์ที่เล็กกว่า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อย่างของนิพจน์ที่เป็นค่าโดด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เลข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3212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3.1415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อักขระ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'C'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ค่าความจริง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or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ข้อความ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"Hello, World"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แปรหรือค่าคงที่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myName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นิพจน์ทางคณิตศาสตร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8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a7438"/>
                </a:solidFill>
                <a:latin typeface="EucrosiaUPC"/>
              </a:rPr>
              <a:t>นิพจน์ทางคณิตศาสตร์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(arithmetic expression)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คือนิพจน์ที่ถูกตีความเป็นค่าจำนวน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8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นิพจน์ทางคณิตศาสตร์สามารถนำมาประกอบเป็นนิพจน์ที่ซับซ้อนขึ้นได้โดยอาศัย</a:t>
            </a:r>
            <a:r>
              <a:rPr b="0" lang="th-TH" sz="3200" spc="-1" strike="noStrike">
                <a:solidFill>
                  <a:srgbClr val="66cc66"/>
                </a:solidFill>
                <a:latin typeface="EucrosiaUPC"/>
              </a:rPr>
              <a:t>ตัวดำเนินการทางคณิตศาสตร์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(arithmetic operators)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80000"/>
              </a:lnSpc>
              <a:spcBef>
                <a:spcPts val="2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8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ให้ค่าเศษจากการหาร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8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80000"/>
              </a:lnSpc>
              <a:spcBef>
                <a:spcPts val="2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11+5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80000"/>
              </a:lnSpc>
              <a:spcBef>
                <a:spcPts val="2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11/2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80000"/>
              </a:lnSpc>
              <a:spcBef>
                <a:spcPts val="2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11.0/2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5.5</a:t>
            </a:r>
            <a:endParaRPr b="0" lang="en-US" sz="20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80000"/>
              </a:lnSpc>
              <a:spcBef>
                <a:spcPts val="2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11%2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80000"/>
              </a:lnSpc>
              <a:spcBef>
                <a:spcPts val="224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66"/>
                </a:solidFill>
                <a:latin typeface="Courier New"/>
              </a:rPr>
              <a:t>5.0%2.2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0.6</a:t>
            </a:r>
            <a:r>
              <a:rPr b="0" lang="en-US" sz="1800" spc="-1" strike="noStrike">
                <a:solidFill>
                  <a:srgbClr val="ffffff"/>
                </a:solidFill>
                <a:latin typeface="EucrosiaUP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ลำดับการคำนวณ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(Precedence Rules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4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( )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*,  /  ,  % 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+,  –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ซ้ายไปขว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4191120"/>
            <a:ext cx="7010640" cy="11912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int Width,Heigh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Width = 10*5+(16 * 12)/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Height = (16+5)+20%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หารแบบจำนวนเต็ม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การหารนิพจน์ที่เป็นจำนวนเต็มสองจำนวนให้ผลลัพธ์เป็นจำนวนเต็มเสมอ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ศษจะถูกปัดทิ้ง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หากตัวตั้งและ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/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หรือตัวหารเป็นจำนวนทศนิยม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(float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หรือ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double)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การหารจะคำนวณทศนิยมให้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3689280"/>
            <a:ext cx="6248520" cy="1554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    i1 = 10, i2 = 8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uble f1 = 10, f2 = 8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uble r1 = i1/i2;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1 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uble r2 = f1/f2;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2 = 1.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uble r3 = f1/i2;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3 = 1.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uble r4 = i1/f2;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4 = 1.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486400"/>
            <a:ext cx="6248520" cy="1067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uble r1 = 10/8;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1 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uble r2 = 10.0/8.0;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2 = 1.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uble r3 = 10.0/8;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3 = 1.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uble r4 = 10/8.0;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4 = 1.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คำสั่ง </a:t>
            </a:r>
            <a:r>
              <a:rPr b="1" lang="en-US" sz="5400" spc="-1" strike="noStrike">
                <a:solidFill>
                  <a:srgbClr val="fa7438"/>
                </a:solidFill>
                <a:latin typeface="EucrosiaUPC"/>
              </a:rPr>
              <a:t>using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26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การใช้คำสั่ง </a:t>
            </a:r>
            <a:r>
              <a:rPr b="1" lang="en-US" sz="2800" spc="-1" strike="noStrike">
                <a:solidFill>
                  <a:srgbClr val="fa7438"/>
                </a:solidFill>
                <a:latin typeface="Courier New"/>
                <a:ea typeface="Courier New"/>
              </a:rPr>
              <a:t>using</a:t>
            </a:r>
            <a:r>
              <a:rPr b="0" lang="en-US" sz="3600" spc="-1" strike="noStrike">
                <a:solidFill>
                  <a:srgbClr val="fa7438"/>
                </a:solidFill>
                <a:latin typeface="EucrosiaUPC"/>
              </a:rPr>
              <a:t> &lt;</a:t>
            </a:r>
            <a:r>
              <a:rPr b="0" i="1" lang="th-TH" sz="3600" spc="-1" strike="noStrike">
                <a:solidFill>
                  <a:srgbClr val="fa7438"/>
                </a:solidFill>
                <a:latin typeface="EucrosiaUPC"/>
              </a:rPr>
              <a:t>ชื่อเนมสเปส</a:t>
            </a:r>
            <a:r>
              <a:rPr b="0" lang="en-US" sz="3600" spc="-1" strike="noStrike">
                <a:solidFill>
                  <a:srgbClr val="fa7438"/>
                </a:solidFill>
                <a:latin typeface="EucrosiaUPC"/>
              </a:rPr>
              <a:t>&gt;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ที่ต้นโปรแกรมเป็นการระบุว่าเราต้องการเรียกใช้งานคลาสในเนมสเปสนั้น ๆ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: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คลาส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Console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อยู่ในเนมสเปส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ystem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572000"/>
            <a:ext cx="4572000" cy="1798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eb98"/>
                </a:solidFill>
                <a:latin typeface="Courier New"/>
              </a:rPr>
              <a:t>using Sy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ss Hello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atic void Main 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onsole.WriteLine("Hello World!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onsole.ReadLin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895480"/>
            <a:ext cx="5790960" cy="1372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ss Hello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atic void Main 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ystem.Console.WriteLine("Hello World!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ystem.Console.ReadLin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เนื้อหา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0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โครงสร้างโปรแกรม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ชนิดข้อมูล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แปร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นิพจน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คำสั่งแสดงผล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คำสั่งสำหรับแสดงผลทางหน้าจอ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39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ใช้คำสั่ง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Write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หรือ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WriteLine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ซึ่งอยู่ในคลาส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Console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(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ซึ่งอยู่ในเนมสเปส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อีกทีหนึ่ง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การใช้งานพื้นฐาน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การใช้งานชั้นสูง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4038480"/>
            <a:ext cx="7086600" cy="368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”Size {0}x{1}”, width, heigh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191200"/>
            <a:ext cx="708660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uble salary=120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"My salary is {0:f2}.", salar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29312" b="16457"/>
          <a:stretch/>
        </p:blipFill>
        <p:spPr>
          <a:xfrm>
            <a:off x="5029200" y="5791320"/>
            <a:ext cx="312408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19320" y="2590920"/>
            <a:ext cx="53337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"Hello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are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0" y="3962520"/>
            <a:ext cx="2057400" cy="761400"/>
            <a:chOff x="4572000" y="3962520"/>
            <a:chExt cx="2057400" cy="761400"/>
          </a:xfrm>
        </p:grpSpPr>
        <p:sp>
          <p:nvSpPr>
            <p:cNvPr id="170" name=""/>
            <p:cNvSpPr/>
            <p:nvPr/>
          </p:nvSpPr>
          <p:spPr>
            <a:xfrm>
              <a:off x="4572000" y="3962520"/>
              <a:ext cx="457200" cy="533160"/>
            </a:xfrm>
            <a:prstGeom prst="rect">
              <a:avLst/>
            </a:prstGeom>
            <a:solidFill>
              <a:srgbClr val="fa7438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43600" y="4343400"/>
              <a:ext cx="685800" cy="0"/>
            </a:xfrm>
            <a:prstGeom prst="line">
              <a:avLst/>
            </a:prstGeom>
            <a:ln w="38160">
              <a:solidFill>
                <a:srgbClr val="fa7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4343400"/>
              <a:ext cx="1523880" cy="38052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960" y="0"/>
                  </a:moveTo>
                  <a:lnTo>
                    <a:pt x="960" y="240"/>
                  </a:lnTo>
                  <a:lnTo>
                    <a:pt x="0" y="240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fa743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22800" y="3962520"/>
            <a:ext cx="2573280" cy="990000"/>
            <a:chOff x="5122800" y="3962520"/>
            <a:chExt cx="2573280" cy="990000"/>
          </a:xfrm>
        </p:grpSpPr>
        <p:sp>
          <p:nvSpPr>
            <p:cNvPr id="174" name=""/>
            <p:cNvSpPr/>
            <p:nvPr/>
          </p:nvSpPr>
          <p:spPr>
            <a:xfrm>
              <a:off x="5122800" y="3962520"/>
              <a:ext cx="457200" cy="533160"/>
            </a:xfrm>
            <a:prstGeom prst="rect">
              <a:avLst/>
            </a:prstGeom>
            <a:solidFill>
              <a:srgbClr val="66cc66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34320" y="4343400"/>
              <a:ext cx="761760" cy="0"/>
            </a:xfrm>
            <a:prstGeom prst="line">
              <a:avLst/>
            </a:prstGeom>
            <a:ln w="38160">
              <a:solidFill>
                <a:srgbClr val="66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4120" y="4343400"/>
              <a:ext cx="1981080" cy="609120"/>
            </a:xfrm>
            <a:custGeom>
              <a:avLst/>
              <a:gdLst/>
              <a:ahLst/>
              <a:rect l="l" t="t" r="r" b="b"/>
              <a:pathLst>
                <a:path w="1200" h="384">
                  <a:moveTo>
                    <a:pt x="1200" y="0"/>
                  </a:moveTo>
                  <a:lnTo>
                    <a:pt x="1200" y="384"/>
                  </a:lnTo>
                  <a:lnTo>
                    <a:pt x="0" y="384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66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โปรแกรมภาษา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พิจารณาโปรแกรมต่อไปนี้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905120"/>
            <a:ext cx="7238880" cy="2288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space HelloW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HelloWClass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void Main 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.Console.WriteLine("Hello World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.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โปรแกรมภาษา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528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อักษรเล็ก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/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ใหญ่มีความสำคัญ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คำสั่งทุกคำสั่งต้องปิดท้ายด้วยเซมิโคลอน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(;)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จำนวนช่องว่าง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(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ทั้งแนวตั้งแนวนอน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)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ไม่มีผลต่อการทำงา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ใช้เครื่องหมายปีกกา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{}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จับกลุ่มคำสั่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ข้อความที่อยู่ระหว่าง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/* */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หรือหลัง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//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ถือเป็นคอมเม้นต์ ซึ่งไม่มีผลต่อการทำงานของโปรแกรม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โครงสร้างของโปรแกรม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4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จุดเริ่มต้นของโปรแกรมจะอยู่ที่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รียกว่าเมท็อด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Main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มท็อดต้องอยู่ภายใต้คลาส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(class)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คลาสอาจอยู่ภายใต้เนมสเปส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(namespace)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หรือไม่ก็ได้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828800"/>
            <a:ext cx="7239240" cy="11912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void Main 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a7438"/>
                </a:solidFill>
                <a:latin typeface="Courier New"/>
              </a:rPr>
              <a:t>... starting point ..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โครงสร้างของโปรแกรม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คลาสเปรียบเสมือนกล่องบรรจุเมท็อดหลาย ๆ เมท็อด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นมสเปสเปรียบเสมือนกล่องบรรจุคลาสหลาย ๆ คลาส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นมสเปสอาจอยู่ภายใต้เนมสเปสอื่นได้อีก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โปรแกรมหนึ่ง ๆ อาจประกอบด้วยหลายเนมสเปส หรืออาจไม่อยู่ในเนมสเปสใด ๆ เลยก็ได้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114800"/>
            <a:ext cx="3276720" cy="2438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267080"/>
            <a:ext cx="1600200" cy="914400"/>
          </a:xfrm>
          <a:prstGeom prst="rect">
            <a:avLst/>
          </a:prstGeom>
          <a:gradFill rotWithShape="0">
            <a:gsLst>
              <a:gs pos="0">
                <a:srgbClr val="66cc66"/>
              </a:gs>
              <a:gs pos="100000">
                <a:srgbClr val="2f5e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343400"/>
            <a:ext cx="1371600" cy="304920"/>
          </a:xfrm>
          <a:prstGeom prst="rect">
            <a:avLst/>
          </a:prstGeom>
          <a:gradFill rotWithShape="0">
            <a:gsLst>
              <a:gs pos="0">
                <a:srgbClr val="ffd961"/>
              </a:gs>
              <a:gs pos="100000">
                <a:srgbClr val="75642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724280"/>
            <a:ext cx="1371600" cy="228600"/>
          </a:xfrm>
          <a:prstGeom prst="rect">
            <a:avLst/>
          </a:prstGeom>
          <a:gradFill rotWithShape="0">
            <a:gsLst>
              <a:gs pos="0">
                <a:srgbClr val="ffd961"/>
              </a:gs>
              <a:gs pos="100000">
                <a:srgbClr val="75642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410080"/>
            <a:ext cx="1981440" cy="685800"/>
          </a:xfrm>
          <a:prstGeom prst="rect">
            <a:avLst/>
          </a:prstGeom>
          <a:gradFill rotWithShape="0">
            <a:gsLst>
              <a:gs pos="0">
                <a:srgbClr val="66cc66"/>
              </a:gs>
              <a:gs pos="100000">
                <a:srgbClr val="2f5e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5562720"/>
            <a:ext cx="1371600" cy="228600"/>
          </a:xfrm>
          <a:prstGeom prst="rect">
            <a:avLst/>
          </a:prstGeom>
          <a:gradFill rotWithShape="0">
            <a:gsLst>
              <a:gs pos="0">
                <a:srgbClr val="ffd961"/>
              </a:gs>
              <a:gs pos="100000">
                <a:srgbClr val="75642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191120" y="4114800"/>
            <a:ext cx="2394000" cy="2438280"/>
            <a:chOff x="4191120" y="4114800"/>
            <a:chExt cx="2394000" cy="2438280"/>
          </a:xfrm>
        </p:grpSpPr>
        <p:sp>
          <p:nvSpPr>
            <p:cNvPr id="97" name=""/>
            <p:cNvSpPr/>
            <p:nvPr/>
          </p:nvSpPr>
          <p:spPr>
            <a:xfrm>
              <a:off x="4191120" y="4114800"/>
              <a:ext cx="457200" cy="2438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2760" y="5068800"/>
              <a:ext cx="18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</a:rPr>
                <a:t>Namesp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514600" y="4267080"/>
            <a:ext cx="1376640" cy="914400"/>
            <a:chOff x="2514600" y="4267080"/>
            <a:chExt cx="1376640" cy="914400"/>
          </a:xfrm>
        </p:grpSpPr>
        <p:sp>
          <p:nvSpPr>
            <p:cNvPr id="100" name=""/>
            <p:cNvSpPr/>
            <p:nvPr/>
          </p:nvSpPr>
          <p:spPr>
            <a:xfrm>
              <a:off x="2514600" y="426708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8360" y="449568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66"/>
                  </a:solidFill>
                  <a:latin typeface="Arial"/>
                </a:rPr>
                <a:t>Cla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โครงสร้างของโปรแกรม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58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สำหรับโปรแกรมอย่างง่าย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โปรแกรมประกอบด้วยคลาสเพียงคลาสเดียว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โปรแกรมอาจประกอบด้วยเมท็อด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Main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พียงเมท็อดเดียว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219320"/>
            <a:ext cx="7238880" cy="2288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space HelloW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HelloWClass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void Main 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.Console.WriteLine("Hello World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.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523880"/>
            <a:ext cx="6629400" cy="1676520"/>
          </a:xfrm>
          <a:prstGeom prst="roundRect">
            <a:avLst>
              <a:gd name="adj" fmla="val 16667"/>
            </a:avLst>
          </a:prstGeom>
          <a:solidFill>
            <a:srgbClr val="66cc66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1828800"/>
            <a:ext cx="6172200" cy="1143000"/>
          </a:xfrm>
          <a:prstGeom prst="roundRect">
            <a:avLst>
              <a:gd name="adj" fmla="val 16667"/>
            </a:avLst>
          </a:prstGeom>
          <a:solidFill>
            <a:srgbClr val="ffd961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คำสั่ง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(Statement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คำสั่งใช้อธิบายการทำงานของโปรแกรมในแต่ละขั้นตอ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มท็อดถูกสร้างขึ้นจากคำสั่งตั้งแต่หนึ่งถึงหลายคำสั่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590920"/>
            <a:ext cx="6248160" cy="1554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lass Hell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ic void Main 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ystem.Console.WriteLine("Hello World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ystem.Console.ReadLin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3124080"/>
            <a:ext cx="6476760" cy="228600"/>
          </a:xfrm>
          <a:prstGeom prst="rect">
            <a:avLst/>
          </a:prstGeom>
          <a:solidFill>
            <a:srgbClr val="00ff00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387600"/>
            <a:ext cx="4647960" cy="247680"/>
          </a:xfrm>
          <a:prstGeom prst="rect">
            <a:avLst/>
          </a:prstGeom>
          <a:solidFill>
            <a:srgbClr val="00ff00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3760" y="2438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ment#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3760" y="39006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ment#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676520" y="365724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743200"/>
            <a:ext cx="1522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คำสั่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(Statement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3809880"/>
            <a:ext cx="4572000" cy="26672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886200"/>
            <a:ext cx="2895480" cy="2514600"/>
          </a:xfrm>
          <a:prstGeom prst="rect">
            <a:avLst/>
          </a:prstGeom>
          <a:gradFill rotWithShape="0">
            <a:gsLst>
              <a:gs pos="0">
                <a:srgbClr val="66cc66"/>
              </a:gs>
              <a:gs pos="100000">
                <a:srgbClr val="2f5e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667240" cy="826920"/>
          </a:xfrm>
          <a:prstGeom prst="rect">
            <a:avLst/>
          </a:prstGeom>
          <a:gradFill rotWithShape="0">
            <a:gsLst>
              <a:gs pos="0">
                <a:srgbClr val="ffd961"/>
              </a:gs>
              <a:gs pos="100000">
                <a:srgbClr val="75642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876920"/>
            <a:ext cx="2667240" cy="1447560"/>
          </a:xfrm>
          <a:prstGeom prst="rect">
            <a:avLst/>
          </a:prstGeom>
          <a:gradFill rotWithShape="0">
            <a:gsLst>
              <a:gs pos="0">
                <a:srgbClr val="ffd961"/>
              </a:gs>
              <a:gs pos="100000">
                <a:srgbClr val="75642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715000" y="3809880"/>
            <a:ext cx="2394360" cy="2667240"/>
            <a:chOff x="5715000" y="3809880"/>
            <a:chExt cx="2394360" cy="2667240"/>
          </a:xfrm>
        </p:grpSpPr>
        <p:sp>
          <p:nvSpPr>
            <p:cNvPr id="122" name=""/>
            <p:cNvSpPr/>
            <p:nvPr/>
          </p:nvSpPr>
          <p:spPr>
            <a:xfrm>
              <a:off x="5715000" y="3809880"/>
              <a:ext cx="457200" cy="266724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69480 h 2667240"/>
                <a:gd name="textAreaBottom" fmla="*/ 259776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37000" y="4943520"/>
              <a:ext cx="18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</a:rPr>
                <a:t>Namesp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106880" y="3886200"/>
            <a:ext cx="1308240" cy="2514600"/>
            <a:chOff x="4106880" y="3886200"/>
            <a:chExt cx="1308240" cy="2514600"/>
          </a:xfrm>
        </p:grpSpPr>
        <p:sp>
          <p:nvSpPr>
            <p:cNvPr id="125" name=""/>
            <p:cNvSpPr/>
            <p:nvPr/>
          </p:nvSpPr>
          <p:spPr>
            <a:xfrm>
              <a:off x="4106880" y="3886200"/>
              <a:ext cx="304920" cy="25146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22240" y="495288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66"/>
                  </a:solidFill>
                  <a:latin typeface="Arial"/>
                </a:rPr>
                <a:t>Cla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19320" y="5257800"/>
            <a:ext cx="2361960" cy="914400"/>
          </a:xfrm>
          <a:prstGeom prst="rect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ement#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ement#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130400"/>
            <a:ext cx="7239240" cy="2288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478e"/>
              </a:gs>
            </a:gsLst>
            <a:lin ang="5400000"/>
          </a:gradFill>
          <a:ln w="9360">
            <a:solidFill>
              <a:srgbClr val="66cc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space HelloW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HelloWClass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void Main 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.Console.WriteLine("Hello World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.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434960"/>
            <a:ext cx="6629400" cy="1676520"/>
          </a:xfrm>
          <a:prstGeom prst="roundRect">
            <a:avLst>
              <a:gd name="adj" fmla="val 16667"/>
            </a:avLst>
          </a:prstGeom>
          <a:solidFill>
            <a:srgbClr val="66cc66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1739880"/>
            <a:ext cx="6172200" cy="1143000"/>
          </a:xfrm>
          <a:prstGeom prst="roundRect">
            <a:avLst>
              <a:gd name="adj" fmla="val 16667"/>
            </a:avLst>
          </a:prstGeom>
          <a:solidFill>
            <a:srgbClr val="ffd961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016000"/>
            <a:ext cx="5676840" cy="270000"/>
          </a:xfrm>
          <a:prstGeom prst="rect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292480"/>
            <a:ext cx="5676840" cy="269640"/>
          </a:xfrm>
          <a:prstGeom prst="rect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08:22:37Z</dcterms:created>
  <dc:creator>Chaiporn Jaikaeo</dc:creator>
  <dc:description/>
  <dc:language>en-US</dc:language>
  <cp:lastModifiedBy>Chaiporn Jaikaeo</cp:lastModifiedBy>
  <dcterms:modified xsi:type="dcterms:W3CDTF">2009-05-10T09:00:35Z</dcterms:modified>
  <cp:revision>113</cp:revision>
  <dc:subject/>
  <dc:title>Introduction to Digital Logic</dc:title>
</cp:coreProperties>
</file>